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99C-85EE-4112-ADDE-F064A25F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1BA-D508-432A-B0A8-AC7EE979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006-F201-4BFE-B766-094D0563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EE0-D224-46CE-A6EA-B579698A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190-7694-465D-B8B1-A914B04C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574-8836-4A15-8DB8-C8CDBC58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D06-B1CE-4A55-BD28-3EE5E950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9D5-5D08-4296-A4CD-BB9F3A27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979-DAC4-4E61-AE9E-48562B3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1C4-AC00-4164-B32A-AF10F95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747-B28A-454D-9EF8-F60A20F8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5B6-DAF1-4B06-9B19-B2065CC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607B-6EFB-4625-88A0-E6FBAC1BBD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nday, September 21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tice 4.1 and 4.2 Quiz  over what we have covered so f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Ink 4"/>
          <p:cNvSpPr/>
          <p:nvPr/>
        </p:nvSpPr>
        <p:spPr>
          <a:xfrm>
            <a:off x="438120" y="2847960"/>
            <a:ext cx="4902120" cy="965160"/>
          </a:xfrm>
          <a:custGeom>
            <a:avLst/>
            <a:gdLst/>
            <a:ahLst/>
            <a:rect l="l" t="t" r="r" b="b"/>
            <a:pathLst>
              <a:path w="13619" h="2680">
                <a:moveTo>
                  <a:pt x="2307" y="8012"/>
                </a:moveTo>
                <a:cubicBezTo>
                  <a:pt x="2307" y="7995"/>
                  <a:pt x="2307" y="7979"/>
                  <a:pt x="2307" y="7962"/>
                </a:cubicBezTo>
                <a:cubicBezTo>
                  <a:pt x="2384" y="7954"/>
                  <a:pt x="2452" y="7938"/>
                  <a:pt x="2530" y="7938"/>
                </a:cubicBezTo>
                <a:cubicBezTo>
                  <a:pt x="2622" y="7938"/>
                  <a:pt x="2707" y="7962"/>
                  <a:pt x="2803" y="7962"/>
                </a:cubicBezTo>
                <a:cubicBezTo>
                  <a:pt x="2932" y="7962"/>
                  <a:pt x="3050" y="7955"/>
                  <a:pt x="3175" y="7938"/>
                </a:cubicBezTo>
                <a:cubicBezTo>
                  <a:pt x="3240" y="7929"/>
                  <a:pt x="3269" y="7971"/>
                  <a:pt x="3249" y="7913"/>
                </a:cubicBezTo>
              </a:path>
              <a:path w="13619" h="2680">
                <a:moveTo>
                  <a:pt x="2679" y="7962"/>
                </a:moveTo>
                <a:cubicBezTo>
                  <a:pt x="2679" y="7999"/>
                  <a:pt x="2654" y="8581"/>
                  <a:pt x="2704" y="8582"/>
                </a:cubicBezTo>
                <a:cubicBezTo>
                  <a:pt x="2704" y="8574"/>
                  <a:pt x="2704" y="8566"/>
                  <a:pt x="2704" y="8558"/>
                </a:cubicBezTo>
              </a:path>
              <a:path w="13619" h="2680">
                <a:moveTo>
                  <a:pt x="2902" y="7987"/>
                </a:moveTo>
                <a:cubicBezTo>
                  <a:pt x="2902" y="8114"/>
                  <a:pt x="2882" y="8215"/>
                  <a:pt x="2877" y="8334"/>
                </a:cubicBezTo>
                <a:cubicBezTo>
                  <a:pt x="2874" y="8421"/>
                  <a:pt x="2869" y="8503"/>
                  <a:pt x="2902" y="8582"/>
                </a:cubicBezTo>
                <a:cubicBezTo>
                  <a:pt x="2922" y="8629"/>
                  <a:pt x="2945" y="8667"/>
                  <a:pt x="2977" y="8706"/>
                </a:cubicBezTo>
              </a:path>
              <a:path w="13619" h="2680">
                <a:moveTo>
                  <a:pt x="2282" y="8806"/>
                </a:moveTo>
                <a:cubicBezTo>
                  <a:pt x="2412" y="8857"/>
                  <a:pt x="2511" y="8876"/>
                  <a:pt x="2654" y="8880"/>
                </a:cubicBezTo>
                <a:cubicBezTo>
                  <a:pt x="2791" y="8884"/>
                  <a:pt x="2917" y="8860"/>
                  <a:pt x="3051" y="8855"/>
                </a:cubicBezTo>
                <a:cubicBezTo>
                  <a:pt x="3101" y="8853"/>
                  <a:pt x="3329" y="8856"/>
                  <a:pt x="3150" y="8830"/>
                </a:cubicBezTo>
              </a:path>
              <a:path w="13619" h="2680">
                <a:moveTo>
                  <a:pt x="2530" y="9103"/>
                </a:moveTo>
                <a:cubicBezTo>
                  <a:pt x="2624" y="9123"/>
                  <a:pt x="2738" y="9126"/>
                  <a:pt x="2828" y="9153"/>
                </a:cubicBezTo>
                <a:cubicBezTo>
                  <a:pt x="2901" y="9175"/>
                  <a:pt x="2921" y="9259"/>
                  <a:pt x="2902" y="9327"/>
                </a:cubicBezTo>
                <a:cubicBezTo>
                  <a:pt x="2871" y="9437"/>
                  <a:pt x="2794" y="9460"/>
                  <a:pt x="2729" y="9525"/>
                </a:cubicBezTo>
                <a:cubicBezTo>
                  <a:pt x="2658" y="9596"/>
                  <a:pt x="2636" y="9661"/>
                  <a:pt x="2555" y="9723"/>
                </a:cubicBezTo>
                <a:cubicBezTo>
                  <a:pt x="2465" y="9792"/>
                  <a:pt x="2555" y="9852"/>
                  <a:pt x="2604" y="9872"/>
                </a:cubicBezTo>
                <a:cubicBezTo>
                  <a:pt x="2708" y="9915"/>
                  <a:pt x="2778" y="9882"/>
                  <a:pt x="2877" y="9872"/>
                </a:cubicBezTo>
                <a:cubicBezTo>
                  <a:pt x="2973" y="9862"/>
                  <a:pt x="3032" y="9853"/>
                  <a:pt x="3125" y="9823"/>
                </a:cubicBezTo>
              </a:path>
              <a:path w="13619" h="2680">
                <a:moveTo>
                  <a:pt x="3746" y="8954"/>
                </a:moveTo>
                <a:cubicBezTo>
                  <a:pt x="3899" y="8954"/>
                  <a:pt x="4044" y="8959"/>
                  <a:pt x="4192" y="8979"/>
                </a:cubicBezTo>
                <a:cubicBezTo>
                  <a:pt x="4280" y="8991"/>
                  <a:pt x="4366" y="8959"/>
                  <a:pt x="4440" y="9004"/>
                </a:cubicBezTo>
              </a:path>
              <a:path w="13619" h="2680">
                <a:moveTo>
                  <a:pt x="4887" y="8086"/>
                </a:moveTo>
                <a:cubicBezTo>
                  <a:pt x="5028" y="8060"/>
                  <a:pt x="5141" y="8037"/>
                  <a:pt x="5283" y="8037"/>
                </a:cubicBezTo>
                <a:cubicBezTo>
                  <a:pt x="5457" y="8037"/>
                  <a:pt x="5630" y="8037"/>
                  <a:pt x="5804" y="8037"/>
                </a:cubicBezTo>
              </a:path>
              <a:path w="13619" h="2680">
                <a:moveTo>
                  <a:pt x="5259" y="8062"/>
                </a:moveTo>
                <a:cubicBezTo>
                  <a:pt x="5259" y="8175"/>
                  <a:pt x="5253" y="8273"/>
                  <a:pt x="5234" y="8384"/>
                </a:cubicBezTo>
                <a:cubicBezTo>
                  <a:pt x="5210" y="8521"/>
                  <a:pt x="5190" y="8667"/>
                  <a:pt x="5184" y="8806"/>
                </a:cubicBezTo>
                <a:cubicBezTo>
                  <a:pt x="5183" y="8838"/>
                  <a:pt x="5174" y="8979"/>
                  <a:pt x="5234" y="8979"/>
                </a:cubicBezTo>
                <a:cubicBezTo>
                  <a:pt x="5242" y="8971"/>
                  <a:pt x="5251" y="8962"/>
                  <a:pt x="5259" y="8954"/>
                </a:cubicBezTo>
              </a:path>
              <a:path w="13619" h="2680">
                <a:moveTo>
                  <a:pt x="5581" y="8161"/>
                </a:moveTo>
                <a:cubicBezTo>
                  <a:pt x="5551" y="8264"/>
                  <a:pt x="5519" y="8377"/>
                  <a:pt x="5507" y="8483"/>
                </a:cubicBezTo>
                <a:cubicBezTo>
                  <a:pt x="5501" y="8541"/>
                  <a:pt x="5517" y="8673"/>
                  <a:pt x="5531" y="8731"/>
                </a:cubicBezTo>
                <a:cubicBezTo>
                  <a:pt x="5545" y="8787"/>
                  <a:pt x="5659" y="8908"/>
                  <a:pt x="5655" y="8954"/>
                </a:cubicBezTo>
                <a:cubicBezTo>
                  <a:pt x="5647" y="8962"/>
                  <a:pt x="5639" y="8971"/>
                  <a:pt x="5631" y="8979"/>
                </a:cubicBezTo>
              </a:path>
              <a:path w="13619" h="2680">
                <a:moveTo>
                  <a:pt x="4961" y="9153"/>
                </a:moveTo>
                <a:cubicBezTo>
                  <a:pt x="5203" y="9153"/>
                  <a:pt x="5441" y="9159"/>
                  <a:pt x="5680" y="9178"/>
                </a:cubicBezTo>
                <a:cubicBezTo>
                  <a:pt x="5802" y="9187"/>
                  <a:pt x="5929" y="9178"/>
                  <a:pt x="6052" y="9178"/>
                </a:cubicBezTo>
              </a:path>
              <a:path w="13619" h="2680">
                <a:moveTo>
                  <a:pt x="5507" y="9525"/>
                </a:moveTo>
                <a:cubicBezTo>
                  <a:pt x="5485" y="9605"/>
                  <a:pt x="5380" y="9849"/>
                  <a:pt x="5407" y="9971"/>
                </a:cubicBezTo>
                <a:cubicBezTo>
                  <a:pt x="5424" y="10048"/>
                  <a:pt x="5455" y="10092"/>
                  <a:pt x="5507" y="10145"/>
                </a:cubicBezTo>
                <a:cubicBezTo>
                  <a:pt x="5574" y="10213"/>
                  <a:pt x="5680" y="10258"/>
                  <a:pt x="5779" y="10244"/>
                </a:cubicBezTo>
                <a:cubicBezTo>
                  <a:pt x="5922" y="10224"/>
                  <a:pt x="5980" y="10174"/>
                  <a:pt x="6102" y="10096"/>
                </a:cubicBezTo>
                <a:cubicBezTo>
                  <a:pt x="6168" y="10054"/>
                  <a:pt x="6218" y="9958"/>
                  <a:pt x="6201" y="9872"/>
                </a:cubicBezTo>
                <a:cubicBezTo>
                  <a:pt x="6187" y="9801"/>
                  <a:pt x="6113" y="9753"/>
                  <a:pt x="6052" y="9748"/>
                </a:cubicBezTo>
                <a:cubicBezTo>
                  <a:pt x="5927" y="9737"/>
                  <a:pt x="5917" y="9837"/>
                  <a:pt x="5854" y="9922"/>
                </a:cubicBezTo>
                <a:cubicBezTo>
                  <a:pt x="5809" y="9982"/>
                  <a:pt x="5785" y="10066"/>
                  <a:pt x="5804" y="10145"/>
                </a:cubicBezTo>
                <a:cubicBezTo>
                  <a:pt x="5812" y="10180"/>
                  <a:pt x="5868" y="10253"/>
                  <a:pt x="5904" y="10269"/>
                </a:cubicBezTo>
                <a:cubicBezTo>
                  <a:pt x="5912" y="10269"/>
                  <a:pt x="5920" y="10269"/>
                  <a:pt x="5928" y="10269"/>
                </a:cubicBezTo>
              </a:path>
              <a:path w="13619" h="2680">
                <a:moveTo>
                  <a:pt x="6796" y="9103"/>
                </a:moveTo>
                <a:cubicBezTo>
                  <a:pt x="6980" y="9067"/>
                  <a:pt x="7004" y="9081"/>
                  <a:pt x="7094" y="9029"/>
                </a:cubicBezTo>
              </a:path>
              <a:path w="13619" h="2680">
                <a:moveTo>
                  <a:pt x="6896" y="9252"/>
                </a:moveTo>
                <a:cubicBezTo>
                  <a:pt x="7027" y="9285"/>
                  <a:pt x="7137" y="9317"/>
                  <a:pt x="7268" y="9327"/>
                </a:cubicBezTo>
              </a:path>
              <a:path w="13619" h="2680">
                <a:moveTo>
                  <a:pt x="2307" y="9475"/>
                </a:moveTo>
                <a:cubicBezTo>
                  <a:pt x="2307" y="9459"/>
                  <a:pt x="2307" y="9442"/>
                  <a:pt x="2307" y="9426"/>
                </a:cubicBezTo>
              </a:path>
              <a:path w="13619" h="2680">
                <a:moveTo>
                  <a:pt x="1662" y="9103"/>
                </a:moveTo>
                <a:cubicBezTo>
                  <a:pt x="1737" y="9103"/>
                  <a:pt x="1791" y="9116"/>
                  <a:pt x="1860" y="9128"/>
                </a:cubicBezTo>
                <a:cubicBezTo>
                  <a:pt x="1927" y="9139"/>
                  <a:pt x="1985" y="9158"/>
                  <a:pt x="1960" y="9252"/>
                </a:cubicBezTo>
                <a:cubicBezTo>
                  <a:pt x="1947" y="9300"/>
                  <a:pt x="1853" y="9354"/>
                  <a:pt x="1811" y="9376"/>
                </a:cubicBezTo>
                <a:cubicBezTo>
                  <a:pt x="1765" y="9400"/>
                  <a:pt x="1727" y="9419"/>
                  <a:pt x="1687" y="9451"/>
                </a:cubicBezTo>
                <a:cubicBezTo>
                  <a:pt x="1755" y="9484"/>
                  <a:pt x="1834" y="9474"/>
                  <a:pt x="1910" y="9500"/>
                </a:cubicBezTo>
                <a:cubicBezTo>
                  <a:pt x="1992" y="9528"/>
                  <a:pt x="2055" y="9533"/>
                  <a:pt x="2059" y="9624"/>
                </a:cubicBezTo>
                <a:cubicBezTo>
                  <a:pt x="2064" y="9735"/>
                  <a:pt x="2034" y="9708"/>
                  <a:pt x="1960" y="9748"/>
                </a:cubicBezTo>
                <a:cubicBezTo>
                  <a:pt x="1855" y="9805"/>
                  <a:pt x="1790" y="9771"/>
                  <a:pt x="1712" y="9699"/>
                </a:cubicBezTo>
                <a:cubicBezTo>
                  <a:pt x="1677" y="9664"/>
                  <a:pt x="1664" y="9642"/>
                  <a:pt x="1662" y="9599"/>
                </a:cubicBezTo>
              </a:path>
              <a:path w="13619" h="2680">
                <a:moveTo>
                  <a:pt x="1935" y="8409"/>
                </a:moveTo>
                <a:cubicBezTo>
                  <a:pt x="1912" y="8386"/>
                  <a:pt x="1904" y="8382"/>
                  <a:pt x="1910" y="8359"/>
                </a:cubicBezTo>
              </a:path>
              <a:path w="13619" h="2680">
                <a:moveTo>
                  <a:pt x="1290" y="7987"/>
                </a:moveTo>
                <a:cubicBezTo>
                  <a:pt x="1400" y="7950"/>
                  <a:pt x="1394" y="7990"/>
                  <a:pt x="1488" y="8012"/>
                </a:cubicBezTo>
                <a:cubicBezTo>
                  <a:pt x="1561" y="8029"/>
                  <a:pt x="1572" y="8174"/>
                  <a:pt x="1488" y="8210"/>
                </a:cubicBezTo>
                <a:cubicBezTo>
                  <a:pt x="1446" y="8228"/>
                  <a:pt x="1361" y="8274"/>
                  <a:pt x="1315" y="8285"/>
                </a:cubicBezTo>
                <a:cubicBezTo>
                  <a:pt x="1270" y="8285"/>
                  <a:pt x="1257" y="8282"/>
                  <a:pt x="1240" y="8310"/>
                </a:cubicBezTo>
                <a:cubicBezTo>
                  <a:pt x="1346" y="8294"/>
                  <a:pt x="1440" y="8296"/>
                  <a:pt x="1538" y="8359"/>
                </a:cubicBezTo>
                <a:cubicBezTo>
                  <a:pt x="1606" y="8403"/>
                  <a:pt x="1579" y="8450"/>
                  <a:pt x="1538" y="8508"/>
                </a:cubicBezTo>
                <a:cubicBezTo>
                  <a:pt x="1512" y="8546"/>
                  <a:pt x="1425" y="8577"/>
                  <a:pt x="1389" y="8582"/>
                </a:cubicBezTo>
                <a:cubicBezTo>
                  <a:pt x="1331" y="8591"/>
                  <a:pt x="1238" y="8592"/>
                  <a:pt x="1215" y="8558"/>
                </a:cubicBezTo>
              </a:path>
              <a:path w="13619" h="2680">
                <a:moveTo>
                  <a:pt x="7392" y="8235"/>
                </a:moveTo>
                <a:cubicBezTo>
                  <a:pt x="7444" y="8204"/>
                  <a:pt x="7527" y="8196"/>
                  <a:pt x="7590" y="8186"/>
                </a:cubicBezTo>
                <a:cubicBezTo>
                  <a:pt x="7659" y="8175"/>
                  <a:pt x="7744" y="8225"/>
                  <a:pt x="7813" y="8235"/>
                </a:cubicBezTo>
              </a:path>
              <a:path w="13619" h="2680">
                <a:moveTo>
                  <a:pt x="7813" y="8310"/>
                </a:moveTo>
                <a:cubicBezTo>
                  <a:pt x="7726" y="8402"/>
                  <a:pt x="7669" y="8429"/>
                  <a:pt x="7590" y="8508"/>
                </a:cubicBezTo>
                <a:cubicBezTo>
                  <a:pt x="7565" y="8533"/>
                  <a:pt x="7557" y="8541"/>
                  <a:pt x="7541" y="8558"/>
                </a:cubicBezTo>
                <a:cubicBezTo>
                  <a:pt x="7647" y="8593"/>
                  <a:pt x="7708" y="8605"/>
                  <a:pt x="7764" y="8706"/>
                </a:cubicBezTo>
                <a:cubicBezTo>
                  <a:pt x="7795" y="8761"/>
                  <a:pt x="7812" y="8876"/>
                  <a:pt x="7764" y="8930"/>
                </a:cubicBezTo>
                <a:cubicBezTo>
                  <a:pt x="7709" y="8992"/>
                  <a:pt x="7580" y="9071"/>
                  <a:pt x="7491" y="9054"/>
                </a:cubicBezTo>
                <a:cubicBezTo>
                  <a:pt x="7421" y="9041"/>
                  <a:pt x="7424" y="9008"/>
                  <a:pt x="7417" y="8954"/>
                </a:cubicBezTo>
              </a:path>
              <a:path w="13619" h="2680">
                <a:moveTo>
                  <a:pt x="8136" y="8260"/>
                </a:moveTo>
                <a:cubicBezTo>
                  <a:pt x="8267" y="8260"/>
                  <a:pt x="8380" y="8239"/>
                  <a:pt x="8508" y="8235"/>
                </a:cubicBezTo>
                <a:cubicBezTo>
                  <a:pt x="8600" y="8232"/>
                  <a:pt x="8672" y="8242"/>
                  <a:pt x="8756" y="8210"/>
                </a:cubicBezTo>
              </a:path>
              <a:path w="13619" h="2680">
                <a:moveTo>
                  <a:pt x="8409" y="8186"/>
                </a:moveTo>
                <a:cubicBezTo>
                  <a:pt x="8374" y="8328"/>
                  <a:pt x="8327" y="8486"/>
                  <a:pt x="8310" y="8632"/>
                </a:cubicBezTo>
                <a:cubicBezTo>
                  <a:pt x="8300" y="8718"/>
                  <a:pt x="8290" y="8802"/>
                  <a:pt x="8285" y="8880"/>
                </a:cubicBezTo>
                <a:cubicBezTo>
                  <a:pt x="8285" y="8921"/>
                  <a:pt x="8285" y="8929"/>
                  <a:pt x="8285" y="8954"/>
                </a:cubicBezTo>
              </a:path>
              <a:path w="13619" h="2680">
                <a:moveTo>
                  <a:pt x="8582" y="8285"/>
                </a:moveTo>
                <a:cubicBezTo>
                  <a:pt x="8582" y="8401"/>
                  <a:pt x="8585" y="8520"/>
                  <a:pt x="8558" y="8632"/>
                </a:cubicBezTo>
                <a:cubicBezTo>
                  <a:pt x="8534" y="8732"/>
                  <a:pt x="8525" y="8785"/>
                  <a:pt x="8558" y="8880"/>
                </a:cubicBezTo>
                <a:cubicBezTo>
                  <a:pt x="8587" y="8964"/>
                  <a:pt x="8620" y="8991"/>
                  <a:pt x="8682" y="9054"/>
                </a:cubicBezTo>
                <a:cubicBezTo>
                  <a:pt x="8690" y="9062"/>
                  <a:pt x="8698" y="9071"/>
                  <a:pt x="8706" y="9079"/>
                </a:cubicBezTo>
              </a:path>
              <a:path w="13619" h="2680">
                <a:moveTo>
                  <a:pt x="7466" y="9153"/>
                </a:moveTo>
                <a:cubicBezTo>
                  <a:pt x="7798" y="9153"/>
                  <a:pt x="8130" y="9159"/>
                  <a:pt x="8458" y="9128"/>
                </a:cubicBezTo>
                <a:cubicBezTo>
                  <a:pt x="8524" y="9128"/>
                  <a:pt x="8541" y="9128"/>
                  <a:pt x="8582" y="9128"/>
                </a:cubicBezTo>
              </a:path>
              <a:path w="13619" h="2680">
                <a:moveTo>
                  <a:pt x="8210" y="9426"/>
                </a:moveTo>
                <a:cubicBezTo>
                  <a:pt x="8153" y="9581"/>
                  <a:pt x="8117" y="9741"/>
                  <a:pt x="8062" y="9897"/>
                </a:cubicBezTo>
                <a:cubicBezTo>
                  <a:pt x="8027" y="9996"/>
                  <a:pt x="8041" y="10049"/>
                  <a:pt x="8086" y="10145"/>
                </a:cubicBezTo>
                <a:cubicBezTo>
                  <a:pt x="8117" y="10211"/>
                  <a:pt x="8153" y="10301"/>
                  <a:pt x="8235" y="10319"/>
                </a:cubicBezTo>
                <a:cubicBezTo>
                  <a:pt x="8317" y="10337"/>
                  <a:pt x="8435" y="10323"/>
                  <a:pt x="8508" y="10294"/>
                </a:cubicBezTo>
                <a:cubicBezTo>
                  <a:pt x="8571" y="10269"/>
                  <a:pt x="8667" y="10190"/>
                  <a:pt x="8682" y="10120"/>
                </a:cubicBezTo>
                <a:cubicBezTo>
                  <a:pt x="8706" y="10010"/>
                  <a:pt x="8628" y="9951"/>
                  <a:pt x="8533" y="9947"/>
                </a:cubicBezTo>
                <a:cubicBezTo>
                  <a:pt x="8415" y="9942"/>
                  <a:pt x="8398" y="9986"/>
                  <a:pt x="8334" y="10071"/>
                </a:cubicBezTo>
                <a:cubicBezTo>
                  <a:pt x="8299" y="10117"/>
                  <a:pt x="8295" y="10210"/>
                  <a:pt x="8310" y="10269"/>
                </a:cubicBezTo>
                <a:cubicBezTo>
                  <a:pt x="8344" y="10340"/>
                  <a:pt x="8375" y="10352"/>
                  <a:pt x="8458" y="10294"/>
                </a:cubicBezTo>
              </a:path>
              <a:path w="13619" h="2680">
                <a:moveTo>
                  <a:pt x="9004" y="9302"/>
                </a:moveTo>
                <a:cubicBezTo>
                  <a:pt x="9114" y="9302"/>
                  <a:pt x="9223" y="9315"/>
                  <a:pt x="9327" y="9277"/>
                </a:cubicBezTo>
                <a:cubicBezTo>
                  <a:pt x="9343" y="9269"/>
                  <a:pt x="9360" y="9260"/>
                  <a:pt x="9376" y="9252"/>
                </a:cubicBezTo>
              </a:path>
              <a:path w="13619" h="2680">
                <a:moveTo>
                  <a:pt x="9550" y="8632"/>
                </a:moveTo>
                <a:cubicBezTo>
                  <a:pt x="9695" y="8578"/>
                  <a:pt x="9841" y="8552"/>
                  <a:pt x="9996" y="8533"/>
                </a:cubicBezTo>
                <a:cubicBezTo>
                  <a:pt x="10062" y="8525"/>
                  <a:pt x="10109" y="8510"/>
                  <a:pt x="10170" y="8483"/>
                </a:cubicBezTo>
              </a:path>
              <a:path w="13619" h="2680">
                <a:moveTo>
                  <a:pt x="9847" y="8558"/>
                </a:moveTo>
                <a:cubicBezTo>
                  <a:pt x="9807" y="8663"/>
                  <a:pt x="9740" y="8792"/>
                  <a:pt x="9723" y="8905"/>
                </a:cubicBezTo>
                <a:cubicBezTo>
                  <a:pt x="9712" y="8978"/>
                  <a:pt x="9711" y="9098"/>
                  <a:pt x="9748" y="9153"/>
                </a:cubicBezTo>
                <a:cubicBezTo>
                  <a:pt x="9771" y="9176"/>
                  <a:pt x="9775" y="9184"/>
                  <a:pt x="9798" y="9178"/>
                </a:cubicBezTo>
              </a:path>
              <a:path w="13619" h="2680">
                <a:moveTo>
                  <a:pt x="10046" y="8582"/>
                </a:moveTo>
                <a:cubicBezTo>
                  <a:pt x="10046" y="8745"/>
                  <a:pt x="10012" y="8948"/>
                  <a:pt x="10071" y="9103"/>
                </a:cubicBezTo>
                <a:cubicBezTo>
                  <a:pt x="10089" y="9150"/>
                  <a:pt x="10114" y="9189"/>
                  <a:pt x="10145" y="9227"/>
                </a:cubicBezTo>
              </a:path>
              <a:path w="13619" h="2680">
                <a:moveTo>
                  <a:pt x="9674" y="9277"/>
                </a:moveTo>
                <a:cubicBezTo>
                  <a:pt x="9835" y="9296"/>
                  <a:pt x="9983" y="9302"/>
                  <a:pt x="10145" y="9302"/>
                </a:cubicBezTo>
                <a:cubicBezTo>
                  <a:pt x="10236" y="9302"/>
                  <a:pt x="10261" y="9302"/>
                  <a:pt x="10319" y="9302"/>
                </a:cubicBezTo>
              </a:path>
              <a:path w="13619" h="2680">
                <a:moveTo>
                  <a:pt x="10021" y="9649"/>
                </a:moveTo>
                <a:cubicBezTo>
                  <a:pt x="9943" y="9772"/>
                  <a:pt x="9807" y="9906"/>
                  <a:pt x="9847" y="10071"/>
                </a:cubicBezTo>
                <a:cubicBezTo>
                  <a:pt x="9875" y="10186"/>
                  <a:pt x="9889" y="10248"/>
                  <a:pt x="9996" y="10319"/>
                </a:cubicBezTo>
                <a:cubicBezTo>
                  <a:pt x="10075" y="10372"/>
                  <a:pt x="10169" y="10431"/>
                  <a:pt x="10269" y="10418"/>
                </a:cubicBezTo>
                <a:cubicBezTo>
                  <a:pt x="10372" y="10404"/>
                  <a:pt x="10522" y="10337"/>
                  <a:pt x="10542" y="10220"/>
                </a:cubicBezTo>
                <a:cubicBezTo>
                  <a:pt x="10555" y="10145"/>
                  <a:pt x="10550" y="9971"/>
                  <a:pt x="10443" y="9947"/>
                </a:cubicBezTo>
                <a:cubicBezTo>
                  <a:pt x="10356" y="9928"/>
                  <a:pt x="10283" y="9978"/>
                  <a:pt x="10244" y="10046"/>
                </a:cubicBezTo>
                <a:cubicBezTo>
                  <a:pt x="10209" y="10107"/>
                  <a:pt x="10199" y="10228"/>
                  <a:pt x="10220" y="10294"/>
                </a:cubicBezTo>
                <a:cubicBezTo>
                  <a:pt x="10239" y="10354"/>
                  <a:pt x="10321" y="10362"/>
                  <a:pt x="10368" y="10368"/>
                </a:cubicBezTo>
              </a:path>
              <a:path w="13619" h="2680">
                <a:moveTo>
                  <a:pt x="10889" y="9327"/>
                </a:moveTo>
                <a:cubicBezTo>
                  <a:pt x="10988" y="9327"/>
                  <a:pt x="11088" y="9327"/>
                  <a:pt x="11187" y="9327"/>
                </a:cubicBezTo>
              </a:path>
              <a:path w="13619" h="2680">
                <a:moveTo>
                  <a:pt x="10914" y="9599"/>
                </a:moveTo>
                <a:cubicBezTo>
                  <a:pt x="11044" y="9599"/>
                  <a:pt x="11138" y="9591"/>
                  <a:pt x="11261" y="9550"/>
                </a:cubicBezTo>
              </a:path>
              <a:path w="13619" h="2680">
                <a:moveTo>
                  <a:pt x="11534" y="8607"/>
                </a:moveTo>
                <a:cubicBezTo>
                  <a:pt x="11617" y="8502"/>
                  <a:pt x="11615" y="8484"/>
                  <a:pt x="11757" y="8458"/>
                </a:cubicBezTo>
                <a:cubicBezTo>
                  <a:pt x="11794" y="8532"/>
                  <a:pt x="11813" y="8571"/>
                  <a:pt x="11807" y="8632"/>
                </a:cubicBezTo>
                <a:cubicBezTo>
                  <a:pt x="11798" y="8724"/>
                  <a:pt x="11779" y="8799"/>
                  <a:pt x="11733" y="8880"/>
                </a:cubicBezTo>
                <a:cubicBezTo>
                  <a:pt x="11661" y="9008"/>
                  <a:pt x="11588" y="9023"/>
                  <a:pt x="11559" y="9178"/>
                </a:cubicBezTo>
                <a:cubicBezTo>
                  <a:pt x="11550" y="9226"/>
                  <a:pt x="11587" y="9327"/>
                  <a:pt x="11633" y="9351"/>
                </a:cubicBezTo>
                <a:cubicBezTo>
                  <a:pt x="11700" y="9386"/>
                  <a:pt x="11814" y="9392"/>
                  <a:pt x="11881" y="9351"/>
                </a:cubicBezTo>
                <a:cubicBezTo>
                  <a:pt x="11931" y="9302"/>
                  <a:pt x="11948" y="9285"/>
                  <a:pt x="11981" y="9252"/>
                </a:cubicBezTo>
              </a:path>
              <a:path w="13619" h="2680">
                <a:moveTo>
                  <a:pt x="12179" y="8632"/>
                </a:moveTo>
                <a:cubicBezTo>
                  <a:pt x="12350" y="8610"/>
                  <a:pt x="12526" y="8613"/>
                  <a:pt x="12675" y="8533"/>
                </a:cubicBezTo>
              </a:path>
              <a:path w="13619" h="2680">
                <a:moveTo>
                  <a:pt x="12254" y="8682"/>
                </a:moveTo>
                <a:cubicBezTo>
                  <a:pt x="12230" y="8746"/>
                  <a:pt x="12116" y="8955"/>
                  <a:pt x="12154" y="9054"/>
                </a:cubicBezTo>
                <a:cubicBezTo>
                  <a:pt x="12184" y="9084"/>
                  <a:pt x="12198" y="9089"/>
                  <a:pt x="12229" y="9054"/>
                </a:cubicBezTo>
              </a:path>
              <a:path w="13619" h="2680">
                <a:moveTo>
                  <a:pt x="12477" y="8558"/>
                </a:moveTo>
                <a:cubicBezTo>
                  <a:pt x="12477" y="8662"/>
                  <a:pt x="12498" y="8753"/>
                  <a:pt x="12502" y="8855"/>
                </a:cubicBezTo>
                <a:cubicBezTo>
                  <a:pt x="12506" y="8958"/>
                  <a:pt x="12512" y="9055"/>
                  <a:pt x="12526" y="9153"/>
                </a:cubicBezTo>
                <a:cubicBezTo>
                  <a:pt x="12526" y="9203"/>
                  <a:pt x="12526" y="9219"/>
                  <a:pt x="12526" y="9252"/>
                </a:cubicBezTo>
              </a:path>
              <a:path w="13619" h="2680">
                <a:moveTo>
                  <a:pt x="11559" y="9376"/>
                </a:moveTo>
                <a:cubicBezTo>
                  <a:pt x="11661" y="9387"/>
                  <a:pt x="11751" y="9401"/>
                  <a:pt x="11857" y="9401"/>
                </a:cubicBezTo>
                <a:cubicBezTo>
                  <a:pt x="12075" y="9401"/>
                  <a:pt x="12287" y="9408"/>
                  <a:pt x="12502" y="9376"/>
                </a:cubicBezTo>
              </a:path>
              <a:path w="13619" h="2680">
                <a:moveTo>
                  <a:pt x="12080" y="9897"/>
                </a:moveTo>
                <a:cubicBezTo>
                  <a:pt x="12043" y="10020"/>
                  <a:pt x="11997" y="10088"/>
                  <a:pt x="12080" y="10195"/>
                </a:cubicBezTo>
                <a:cubicBezTo>
                  <a:pt x="12153" y="10289"/>
                  <a:pt x="12256" y="10325"/>
                  <a:pt x="12378" y="10319"/>
                </a:cubicBezTo>
                <a:cubicBezTo>
                  <a:pt x="12454" y="10315"/>
                  <a:pt x="12596" y="10252"/>
                  <a:pt x="12650" y="10195"/>
                </a:cubicBezTo>
                <a:cubicBezTo>
                  <a:pt x="12700" y="10142"/>
                  <a:pt x="12718" y="10079"/>
                  <a:pt x="12675" y="10021"/>
                </a:cubicBezTo>
                <a:cubicBezTo>
                  <a:pt x="12587" y="9901"/>
                  <a:pt x="12401" y="10019"/>
                  <a:pt x="12328" y="10071"/>
                </a:cubicBezTo>
                <a:cubicBezTo>
                  <a:pt x="12283" y="10103"/>
                  <a:pt x="12244" y="10244"/>
                  <a:pt x="12254" y="10294"/>
                </a:cubicBezTo>
                <a:cubicBezTo>
                  <a:pt x="12265" y="10350"/>
                  <a:pt x="12316" y="10432"/>
                  <a:pt x="12378" y="10443"/>
                </a:cubicBezTo>
                <a:cubicBezTo>
                  <a:pt x="12403" y="10443"/>
                  <a:pt x="12427" y="10443"/>
                  <a:pt x="12452" y="10443"/>
                </a:cubicBezTo>
              </a:path>
              <a:path w="13619" h="2680">
                <a:moveTo>
                  <a:pt x="13196" y="9376"/>
                </a:moveTo>
                <a:cubicBezTo>
                  <a:pt x="13269" y="9358"/>
                  <a:pt x="13320" y="9367"/>
                  <a:pt x="13395" y="9401"/>
                </a:cubicBezTo>
                <a:cubicBezTo>
                  <a:pt x="13476" y="9438"/>
                  <a:pt x="13548" y="9475"/>
                  <a:pt x="13643" y="9451"/>
                </a:cubicBezTo>
                <a:cubicBezTo>
                  <a:pt x="13659" y="9443"/>
                  <a:pt x="13676" y="9434"/>
                  <a:pt x="13692" y="9426"/>
                </a:cubicBezTo>
              </a:path>
              <a:path w="13619" h="2680">
                <a:moveTo>
                  <a:pt x="13171" y="9575"/>
                </a:moveTo>
                <a:cubicBezTo>
                  <a:pt x="13283" y="9596"/>
                  <a:pt x="13380" y="9599"/>
                  <a:pt x="13494" y="9599"/>
                </a:cubicBezTo>
                <a:cubicBezTo>
                  <a:pt x="13570" y="9599"/>
                  <a:pt x="13596" y="9599"/>
                  <a:pt x="13643" y="9575"/>
                </a:cubicBezTo>
              </a:path>
              <a:path w="13619" h="2680">
                <a:moveTo>
                  <a:pt x="13915" y="8830"/>
                </a:moveTo>
                <a:cubicBezTo>
                  <a:pt x="14036" y="8813"/>
                  <a:pt x="14142" y="8806"/>
                  <a:pt x="14263" y="8806"/>
                </a:cubicBezTo>
                <a:cubicBezTo>
                  <a:pt x="14387" y="8806"/>
                  <a:pt x="14468" y="8795"/>
                  <a:pt x="14585" y="8756"/>
                </a:cubicBezTo>
              </a:path>
              <a:path w="13619" h="2680">
                <a:moveTo>
                  <a:pt x="14213" y="8905"/>
                </a:moveTo>
                <a:cubicBezTo>
                  <a:pt x="14174" y="9028"/>
                  <a:pt x="14139" y="9125"/>
                  <a:pt x="14139" y="9252"/>
                </a:cubicBezTo>
                <a:cubicBezTo>
                  <a:pt x="14139" y="9309"/>
                  <a:pt x="14136" y="9330"/>
                  <a:pt x="14163" y="9376"/>
                </a:cubicBezTo>
              </a:path>
              <a:path w="13619" h="2680">
                <a:moveTo>
                  <a:pt x="14436" y="8781"/>
                </a:moveTo>
                <a:cubicBezTo>
                  <a:pt x="14436" y="9004"/>
                  <a:pt x="14436" y="9228"/>
                  <a:pt x="14436" y="9451"/>
                </a:cubicBezTo>
              </a:path>
              <a:path w="13619" h="2680">
                <a:moveTo>
                  <a:pt x="14064" y="9575"/>
                </a:moveTo>
                <a:cubicBezTo>
                  <a:pt x="14215" y="9575"/>
                  <a:pt x="14365" y="9587"/>
                  <a:pt x="14511" y="9550"/>
                </a:cubicBezTo>
                <a:cubicBezTo>
                  <a:pt x="14602" y="9527"/>
                  <a:pt x="14628" y="9521"/>
                  <a:pt x="14684" y="9500"/>
                </a:cubicBezTo>
              </a:path>
              <a:path w="13619" h="2680">
                <a:moveTo>
                  <a:pt x="14362" y="9872"/>
                </a:moveTo>
                <a:cubicBezTo>
                  <a:pt x="14424" y="9823"/>
                  <a:pt x="14506" y="9787"/>
                  <a:pt x="14585" y="9773"/>
                </a:cubicBezTo>
                <a:cubicBezTo>
                  <a:pt x="14644" y="9762"/>
                  <a:pt x="14741" y="9776"/>
                  <a:pt x="14784" y="9823"/>
                </a:cubicBezTo>
                <a:cubicBezTo>
                  <a:pt x="14856" y="9901"/>
                  <a:pt x="14769" y="9976"/>
                  <a:pt x="14709" y="10021"/>
                </a:cubicBezTo>
                <a:cubicBezTo>
                  <a:pt x="14613" y="10093"/>
                  <a:pt x="14510" y="10121"/>
                  <a:pt x="14511" y="10071"/>
                </a:cubicBezTo>
                <a:cubicBezTo>
                  <a:pt x="14606" y="10071"/>
                  <a:pt x="14649" y="10078"/>
                  <a:pt x="14734" y="10120"/>
                </a:cubicBezTo>
                <a:cubicBezTo>
                  <a:pt x="14810" y="10158"/>
                  <a:pt x="14839" y="10267"/>
                  <a:pt x="14833" y="10344"/>
                </a:cubicBezTo>
                <a:cubicBezTo>
                  <a:pt x="14824" y="10453"/>
                  <a:pt x="14766" y="10542"/>
                  <a:pt x="14660" y="10567"/>
                </a:cubicBezTo>
                <a:cubicBezTo>
                  <a:pt x="14556" y="10592"/>
                  <a:pt x="14459" y="10601"/>
                  <a:pt x="14362" y="10567"/>
                </a:cubicBezTo>
                <a:cubicBezTo>
                  <a:pt x="14306" y="10547"/>
                  <a:pt x="14218" y="10555"/>
                  <a:pt x="14188" y="10492"/>
                </a:cubicBezTo>
                <a:cubicBezTo>
                  <a:pt x="14169" y="10435"/>
                  <a:pt x="14160" y="10428"/>
                  <a:pt x="14163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Ink 5"/>
          <p:cNvSpPr/>
          <p:nvPr/>
        </p:nvSpPr>
        <p:spPr>
          <a:xfrm>
            <a:off x="366840" y="3660840"/>
            <a:ext cx="857160" cy="679320"/>
          </a:xfrm>
          <a:custGeom>
            <a:avLst/>
            <a:gdLst/>
            <a:ahLst/>
            <a:rect l="l" t="t" r="r" b="b"/>
            <a:pathLst>
              <a:path w="2382" h="1886">
                <a:moveTo>
                  <a:pt x="1786" y="10567"/>
                </a:moveTo>
                <a:cubicBezTo>
                  <a:pt x="1827" y="10526"/>
                  <a:pt x="1875" y="10481"/>
                  <a:pt x="1935" y="10468"/>
                </a:cubicBezTo>
                <a:cubicBezTo>
                  <a:pt x="2034" y="10446"/>
                  <a:pt x="2137" y="10481"/>
                  <a:pt x="2232" y="10492"/>
                </a:cubicBezTo>
                <a:cubicBezTo>
                  <a:pt x="2318" y="10502"/>
                  <a:pt x="2391" y="10517"/>
                  <a:pt x="2480" y="10517"/>
                </a:cubicBezTo>
                <a:cubicBezTo>
                  <a:pt x="2522" y="10517"/>
                  <a:pt x="2530" y="10517"/>
                  <a:pt x="2555" y="10517"/>
                </a:cubicBezTo>
              </a:path>
              <a:path w="2382" h="1886">
                <a:moveTo>
                  <a:pt x="2084" y="10517"/>
                </a:moveTo>
                <a:cubicBezTo>
                  <a:pt x="2069" y="10661"/>
                  <a:pt x="2041" y="10800"/>
                  <a:pt x="2034" y="10939"/>
                </a:cubicBezTo>
                <a:cubicBezTo>
                  <a:pt x="2031" y="10992"/>
                  <a:pt x="2052" y="11011"/>
                  <a:pt x="2059" y="11063"/>
                </a:cubicBezTo>
              </a:path>
              <a:path w="2382" h="1886">
                <a:moveTo>
                  <a:pt x="2307" y="10517"/>
                </a:moveTo>
                <a:cubicBezTo>
                  <a:pt x="2368" y="10624"/>
                  <a:pt x="2337" y="10695"/>
                  <a:pt x="2332" y="10815"/>
                </a:cubicBezTo>
                <a:cubicBezTo>
                  <a:pt x="2328" y="10929"/>
                  <a:pt x="2318" y="11056"/>
                  <a:pt x="2356" y="11162"/>
                </a:cubicBezTo>
              </a:path>
              <a:path w="2382" h="1886">
                <a:moveTo>
                  <a:pt x="1860" y="11088"/>
                </a:moveTo>
                <a:cubicBezTo>
                  <a:pt x="1947" y="11098"/>
                  <a:pt x="2017" y="11134"/>
                  <a:pt x="2108" y="11137"/>
                </a:cubicBezTo>
                <a:cubicBezTo>
                  <a:pt x="2226" y="11141"/>
                  <a:pt x="2336" y="11162"/>
                  <a:pt x="2456" y="11162"/>
                </a:cubicBezTo>
                <a:cubicBezTo>
                  <a:pt x="2538" y="11162"/>
                  <a:pt x="2555" y="11162"/>
                  <a:pt x="2604" y="11162"/>
                </a:cubicBezTo>
              </a:path>
              <a:path w="2382" h="1886">
                <a:moveTo>
                  <a:pt x="2084" y="11410"/>
                </a:moveTo>
                <a:cubicBezTo>
                  <a:pt x="2130" y="11466"/>
                  <a:pt x="2173" y="11475"/>
                  <a:pt x="2257" y="11460"/>
                </a:cubicBezTo>
                <a:cubicBezTo>
                  <a:pt x="2353" y="11443"/>
                  <a:pt x="2422" y="11416"/>
                  <a:pt x="2505" y="11460"/>
                </a:cubicBezTo>
                <a:cubicBezTo>
                  <a:pt x="2565" y="11492"/>
                  <a:pt x="2640" y="11547"/>
                  <a:pt x="2604" y="11633"/>
                </a:cubicBezTo>
                <a:cubicBezTo>
                  <a:pt x="2585" y="11677"/>
                  <a:pt x="2474" y="11777"/>
                  <a:pt x="2431" y="11807"/>
                </a:cubicBezTo>
                <a:cubicBezTo>
                  <a:pt x="2376" y="11846"/>
                  <a:pt x="2330" y="11883"/>
                  <a:pt x="2282" y="11931"/>
                </a:cubicBezTo>
                <a:cubicBezTo>
                  <a:pt x="2254" y="11959"/>
                  <a:pt x="2245" y="11972"/>
                  <a:pt x="2257" y="12005"/>
                </a:cubicBezTo>
                <a:cubicBezTo>
                  <a:pt x="2318" y="12025"/>
                  <a:pt x="2415" y="12066"/>
                  <a:pt x="2480" y="12055"/>
                </a:cubicBezTo>
                <a:cubicBezTo>
                  <a:pt x="2552" y="12042"/>
                  <a:pt x="2600" y="12001"/>
                  <a:pt x="2654" y="11956"/>
                </a:cubicBezTo>
              </a:path>
              <a:path w="2382" h="1886">
                <a:moveTo>
                  <a:pt x="2902" y="11410"/>
                </a:moveTo>
                <a:cubicBezTo>
                  <a:pt x="2959" y="11431"/>
                  <a:pt x="3027" y="11436"/>
                  <a:pt x="3076" y="11460"/>
                </a:cubicBezTo>
                <a:cubicBezTo>
                  <a:pt x="3135" y="11489"/>
                  <a:pt x="3215" y="11526"/>
                  <a:pt x="3274" y="11534"/>
                </a:cubicBezTo>
                <a:cubicBezTo>
                  <a:pt x="3340" y="11534"/>
                  <a:pt x="3357" y="11534"/>
                  <a:pt x="3398" y="11534"/>
                </a:cubicBezTo>
              </a:path>
              <a:path w="2382" h="1886">
                <a:moveTo>
                  <a:pt x="1811" y="11584"/>
                </a:moveTo>
                <a:cubicBezTo>
                  <a:pt x="1794" y="11584"/>
                  <a:pt x="1778" y="11584"/>
                  <a:pt x="1761" y="11584"/>
                </a:cubicBezTo>
              </a:path>
              <a:path w="2382" h="1886">
                <a:moveTo>
                  <a:pt x="1414" y="11237"/>
                </a:moveTo>
                <a:cubicBezTo>
                  <a:pt x="1372" y="11362"/>
                  <a:pt x="1246" y="11597"/>
                  <a:pt x="1265" y="11733"/>
                </a:cubicBezTo>
                <a:cubicBezTo>
                  <a:pt x="1275" y="11808"/>
                  <a:pt x="1302" y="11910"/>
                  <a:pt x="1389" y="11931"/>
                </a:cubicBezTo>
                <a:cubicBezTo>
                  <a:pt x="1453" y="11946"/>
                  <a:pt x="1531" y="11932"/>
                  <a:pt x="1588" y="11906"/>
                </a:cubicBezTo>
                <a:cubicBezTo>
                  <a:pt x="1632" y="11886"/>
                  <a:pt x="1702" y="11805"/>
                  <a:pt x="1712" y="11757"/>
                </a:cubicBezTo>
                <a:cubicBezTo>
                  <a:pt x="1736" y="11640"/>
                  <a:pt x="1654" y="11622"/>
                  <a:pt x="1563" y="11658"/>
                </a:cubicBezTo>
                <a:cubicBezTo>
                  <a:pt x="1518" y="11676"/>
                  <a:pt x="1493" y="11749"/>
                  <a:pt x="1463" y="11782"/>
                </a:cubicBezTo>
                <a:cubicBezTo>
                  <a:pt x="1423" y="11828"/>
                  <a:pt x="1436" y="11854"/>
                  <a:pt x="1463" y="11881"/>
                </a:cubicBezTo>
              </a:path>
              <a:path w="2382" h="1886">
                <a:moveTo>
                  <a:pt x="1538" y="10666"/>
                </a:moveTo>
                <a:cubicBezTo>
                  <a:pt x="1530" y="10658"/>
                  <a:pt x="1521" y="10649"/>
                  <a:pt x="1513" y="10641"/>
                </a:cubicBezTo>
              </a:path>
              <a:path w="2382" h="1886">
                <a:moveTo>
                  <a:pt x="1191" y="10170"/>
                </a:moveTo>
                <a:cubicBezTo>
                  <a:pt x="1159" y="10290"/>
                  <a:pt x="1116" y="10382"/>
                  <a:pt x="1067" y="10492"/>
                </a:cubicBezTo>
                <a:cubicBezTo>
                  <a:pt x="1035" y="10563"/>
                  <a:pt x="999" y="10669"/>
                  <a:pt x="1042" y="10740"/>
                </a:cubicBezTo>
                <a:cubicBezTo>
                  <a:pt x="1089" y="10818"/>
                  <a:pt x="1135" y="10815"/>
                  <a:pt x="1215" y="10815"/>
                </a:cubicBezTo>
                <a:cubicBezTo>
                  <a:pt x="1300" y="10815"/>
                  <a:pt x="1391" y="10753"/>
                  <a:pt x="1414" y="10666"/>
                </a:cubicBezTo>
                <a:cubicBezTo>
                  <a:pt x="1432" y="10598"/>
                  <a:pt x="1408" y="10561"/>
                  <a:pt x="1364" y="10517"/>
                </a:cubicBezTo>
                <a:cubicBezTo>
                  <a:pt x="1322" y="10544"/>
                  <a:pt x="1182" y="10620"/>
                  <a:pt x="1166" y="10666"/>
                </a:cubicBezTo>
                <a:cubicBezTo>
                  <a:pt x="1140" y="10740"/>
                  <a:pt x="1112" y="10919"/>
                  <a:pt x="1166" y="10988"/>
                </a:cubicBezTo>
                <a:cubicBezTo>
                  <a:pt x="1191" y="11005"/>
                  <a:pt x="1215" y="11021"/>
                  <a:pt x="1240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Ink 6"/>
          <p:cNvSpPr/>
          <p:nvPr/>
        </p:nvSpPr>
        <p:spPr>
          <a:xfrm>
            <a:off x="1490760" y="3919680"/>
            <a:ext cx="2840040" cy="804600"/>
          </a:xfrm>
          <a:custGeom>
            <a:avLst/>
            <a:gdLst/>
            <a:ahLst/>
            <a:rect l="l" t="t" r="r" b="b"/>
            <a:pathLst>
              <a:path w="7889" h="2234">
                <a:moveTo>
                  <a:pt x="4142" y="11038"/>
                </a:moveTo>
                <a:cubicBezTo>
                  <a:pt x="4269" y="11006"/>
                  <a:pt x="4408" y="10993"/>
                  <a:pt x="4539" y="10988"/>
                </a:cubicBezTo>
                <a:cubicBezTo>
                  <a:pt x="4634" y="10984"/>
                  <a:pt x="4704" y="10956"/>
                  <a:pt x="4787" y="10914"/>
                </a:cubicBezTo>
              </a:path>
              <a:path w="7889" h="2234">
                <a:moveTo>
                  <a:pt x="4390" y="11063"/>
                </a:moveTo>
                <a:cubicBezTo>
                  <a:pt x="4379" y="11137"/>
                  <a:pt x="4341" y="11301"/>
                  <a:pt x="4366" y="11385"/>
                </a:cubicBezTo>
                <a:cubicBezTo>
                  <a:pt x="4374" y="11393"/>
                  <a:pt x="4382" y="11402"/>
                  <a:pt x="4390" y="11410"/>
                </a:cubicBezTo>
              </a:path>
              <a:path w="7889" h="2234">
                <a:moveTo>
                  <a:pt x="4589" y="11013"/>
                </a:moveTo>
                <a:cubicBezTo>
                  <a:pt x="4613" y="11108"/>
                  <a:pt x="4614" y="11187"/>
                  <a:pt x="4614" y="11286"/>
                </a:cubicBezTo>
                <a:cubicBezTo>
                  <a:pt x="4614" y="11413"/>
                  <a:pt x="4635" y="11491"/>
                  <a:pt x="4688" y="11609"/>
                </a:cubicBezTo>
              </a:path>
              <a:path w="7889" h="2234">
                <a:moveTo>
                  <a:pt x="4167" y="11559"/>
                </a:moveTo>
                <a:cubicBezTo>
                  <a:pt x="4280" y="11559"/>
                  <a:pt x="4380" y="11575"/>
                  <a:pt x="4490" y="11584"/>
                </a:cubicBezTo>
                <a:cubicBezTo>
                  <a:pt x="4598" y="11593"/>
                  <a:pt x="4712" y="11592"/>
                  <a:pt x="4812" y="11559"/>
                </a:cubicBezTo>
              </a:path>
              <a:path w="7889" h="2234">
                <a:moveTo>
                  <a:pt x="4514" y="11981"/>
                </a:moveTo>
                <a:cubicBezTo>
                  <a:pt x="4514" y="12171"/>
                  <a:pt x="4500" y="12370"/>
                  <a:pt x="4539" y="12551"/>
                </a:cubicBezTo>
                <a:cubicBezTo>
                  <a:pt x="4539" y="12559"/>
                  <a:pt x="4539" y="12568"/>
                  <a:pt x="4539" y="12576"/>
                </a:cubicBezTo>
              </a:path>
              <a:path w="7889" h="2234">
                <a:moveTo>
                  <a:pt x="4688" y="12005"/>
                </a:moveTo>
                <a:cubicBezTo>
                  <a:pt x="4820" y="11935"/>
                  <a:pt x="4855" y="11929"/>
                  <a:pt x="4986" y="11956"/>
                </a:cubicBezTo>
                <a:cubicBezTo>
                  <a:pt x="5060" y="11971"/>
                  <a:pt x="5108" y="12026"/>
                  <a:pt x="5035" y="12105"/>
                </a:cubicBezTo>
                <a:cubicBezTo>
                  <a:pt x="4993" y="12150"/>
                  <a:pt x="4926" y="12171"/>
                  <a:pt x="4887" y="12229"/>
                </a:cubicBezTo>
                <a:cubicBezTo>
                  <a:pt x="4840" y="12300"/>
                  <a:pt x="4826" y="12321"/>
                  <a:pt x="4862" y="12402"/>
                </a:cubicBezTo>
                <a:cubicBezTo>
                  <a:pt x="4900" y="12487"/>
                  <a:pt x="4981" y="12492"/>
                  <a:pt x="5060" y="12526"/>
                </a:cubicBezTo>
                <a:cubicBezTo>
                  <a:pt x="5143" y="12561"/>
                  <a:pt x="5269" y="12572"/>
                  <a:pt x="5358" y="12551"/>
                </a:cubicBezTo>
                <a:cubicBezTo>
                  <a:pt x="5374" y="12543"/>
                  <a:pt x="5391" y="12534"/>
                  <a:pt x="5407" y="12526"/>
                </a:cubicBezTo>
              </a:path>
              <a:path w="7889" h="2234">
                <a:moveTo>
                  <a:pt x="5308" y="11609"/>
                </a:moveTo>
                <a:cubicBezTo>
                  <a:pt x="5400" y="11609"/>
                  <a:pt x="5427" y="11607"/>
                  <a:pt x="5482" y="11633"/>
                </a:cubicBezTo>
              </a:path>
              <a:path w="7889" h="2234">
                <a:moveTo>
                  <a:pt x="5308" y="11782"/>
                </a:moveTo>
                <a:cubicBezTo>
                  <a:pt x="5425" y="11782"/>
                  <a:pt x="5520" y="11787"/>
                  <a:pt x="5631" y="11757"/>
                </a:cubicBezTo>
              </a:path>
              <a:path w="7889" h="2234">
                <a:moveTo>
                  <a:pt x="6077" y="10889"/>
                </a:moveTo>
                <a:cubicBezTo>
                  <a:pt x="6023" y="10998"/>
                  <a:pt x="5978" y="11053"/>
                  <a:pt x="5928" y="11162"/>
                </a:cubicBezTo>
                <a:cubicBezTo>
                  <a:pt x="5895" y="11233"/>
                  <a:pt x="5888" y="11314"/>
                  <a:pt x="5928" y="11385"/>
                </a:cubicBezTo>
                <a:cubicBezTo>
                  <a:pt x="5950" y="11424"/>
                  <a:pt x="6093" y="11546"/>
                  <a:pt x="6127" y="11559"/>
                </a:cubicBezTo>
                <a:cubicBezTo>
                  <a:pt x="6207" y="11590"/>
                  <a:pt x="6314" y="11550"/>
                  <a:pt x="6375" y="11509"/>
                </a:cubicBezTo>
                <a:cubicBezTo>
                  <a:pt x="6432" y="11470"/>
                  <a:pt x="6436" y="11418"/>
                  <a:pt x="6449" y="11361"/>
                </a:cubicBezTo>
                <a:cubicBezTo>
                  <a:pt x="6371" y="11283"/>
                  <a:pt x="6344" y="11304"/>
                  <a:pt x="6276" y="11385"/>
                </a:cubicBezTo>
                <a:cubicBezTo>
                  <a:pt x="6238" y="11430"/>
                  <a:pt x="6193" y="11493"/>
                  <a:pt x="6201" y="11559"/>
                </a:cubicBezTo>
                <a:cubicBezTo>
                  <a:pt x="6205" y="11591"/>
                  <a:pt x="6277" y="11627"/>
                  <a:pt x="6300" y="11633"/>
                </a:cubicBezTo>
              </a:path>
              <a:path w="7889" h="2234">
                <a:moveTo>
                  <a:pt x="6648" y="11013"/>
                </a:moveTo>
                <a:cubicBezTo>
                  <a:pt x="6788" y="11013"/>
                  <a:pt x="6929" y="11013"/>
                  <a:pt x="7069" y="11013"/>
                </a:cubicBezTo>
              </a:path>
              <a:path w="7889" h="2234">
                <a:moveTo>
                  <a:pt x="6772" y="11063"/>
                </a:moveTo>
                <a:cubicBezTo>
                  <a:pt x="6691" y="11200"/>
                  <a:pt x="6672" y="11233"/>
                  <a:pt x="6672" y="11385"/>
                </a:cubicBezTo>
                <a:cubicBezTo>
                  <a:pt x="6672" y="11463"/>
                  <a:pt x="6676" y="11477"/>
                  <a:pt x="6722" y="11534"/>
                </a:cubicBezTo>
              </a:path>
              <a:path w="7889" h="2234">
                <a:moveTo>
                  <a:pt x="6995" y="10914"/>
                </a:moveTo>
                <a:cubicBezTo>
                  <a:pt x="6986" y="11009"/>
                  <a:pt x="6970" y="11088"/>
                  <a:pt x="6970" y="11187"/>
                </a:cubicBezTo>
                <a:cubicBezTo>
                  <a:pt x="6970" y="11286"/>
                  <a:pt x="6992" y="11391"/>
                  <a:pt x="7020" y="11485"/>
                </a:cubicBezTo>
                <a:cubicBezTo>
                  <a:pt x="7039" y="11548"/>
                  <a:pt x="7047" y="11598"/>
                  <a:pt x="7069" y="11658"/>
                </a:cubicBezTo>
              </a:path>
              <a:path w="7889" h="2234">
                <a:moveTo>
                  <a:pt x="6251" y="11708"/>
                </a:moveTo>
                <a:cubicBezTo>
                  <a:pt x="6378" y="11729"/>
                  <a:pt x="6498" y="11716"/>
                  <a:pt x="6623" y="11733"/>
                </a:cubicBezTo>
                <a:cubicBezTo>
                  <a:pt x="6743" y="11750"/>
                  <a:pt x="6876" y="11769"/>
                  <a:pt x="6995" y="11733"/>
                </a:cubicBezTo>
                <a:cubicBezTo>
                  <a:pt x="7023" y="11705"/>
                  <a:pt x="7036" y="11696"/>
                  <a:pt x="7069" y="11708"/>
                </a:cubicBezTo>
              </a:path>
              <a:path w="7889" h="2234">
                <a:moveTo>
                  <a:pt x="6747" y="11931"/>
                </a:moveTo>
                <a:cubicBezTo>
                  <a:pt x="6679" y="12101"/>
                  <a:pt x="6640" y="12209"/>
                  <a:pt x="6623" y="12378"/>
                </a:cubicBezTo>
                <a:cubicBezTo>
                  <a:pt x="6614" y="12466"/>
                  <a:pt x="6623" y="12561"/>
                  <a:pt x="6623" y="12650"/>
                </a:cubicBezTo>
              </a:path>
              <a:path w="7889" h="2234">
                <a:moveTo>
                  <a:pt x="6846" y="12179"/>
                </a:moveTo>
                <a:cubicBezTo>
                  <a:pt x="6930" y="12135"/>
                  <a:pt x="7007" y="12072"/>
                  <a:pt x="7094" y="12129"/>
                </a:cubicBezTo>
                <a:cubicBezTo>
                  <a:pt x="7156" y="12169"/>
                  <a:pt x="7210" y="12252"/>
                  <a:pt x="7193" y="12328"/>
                </a:cubicBezTo>
                <a:cubicBezTo>
                  <a:pt x="7165" y="12451"/>
                  <a:pt x="7099" y="12552"/>
                  <a:pt x="6995" y="12626"/>
                </a:cubicBezTo>
                <a:cubicBezTo>
                  <a:pt x="6953" y="12656"/>
                  <a:pt x="6893" y="12677"/>
                  <a:pt x="6846" y="12700"/>
                </a:cubicBezTo>
                <a:cubicBezTo>
                  <a:pt x="6819" y="12619"/>
                  <a:pt x="6853" y="12546"/>
                  <a:pt x="6970" y="12551"/>
                </a:cubicBezTo>
                <a:cubicBezTo>
                  <a:pt x="7049" y="12554"/>
                  <a:pt x="7142" y="12621"/>
                  <a:pt x="7218" y="12650"/>
                </a:cubicBezTo>
                <a:cubicBezTo>
                  <a:pt x="7293" y="12675"/>
                  <a:pt x="7317" y="12683"/>
                  <a:pt x="7367" y="12650"/>
                </a:cubicBezTo>
              </a:path>
              <a:path w="7889" h="2234">
                <a:moveTo>
                  <a:pt x="7640" y="11857"/>
                </a:moveTo>
                <a:cubicBezTo>
                  <a:pt x="7763" y="11814"/>
                  <a:pt x="7888" y="11792"/>
                  <a:pt x="7987" y="11733"/>
                </a:cubicBezTo>
              </a:path>
              <a:path w="7889" h="2234">
                <a:moveTo>
                  <a:pt x="8210" y="11336"/>
                </a:moveTo>
                <a:cubicBezTo>
                  <a:pt x="8378" y="11274"/>
                  <a:pt x="8479" y="11261"/>
                  <a:pt x="8657" y="11261"/>
                </a:cubicBezTo>
                <a:cubicBezTo>
                  <a:pt x="8701" y="11261"/>
                  <a:pt x="8714" y="11264"/>
                  <a:pt x="8731" y="11237"/>
                </a:cubicBezTo>
              </a:path>
              <a:path w="7889" h="2234">
                <a:moveTo>
                  <a:pt x="8359" y="11361"/>
                </a:moveTo>
                <a:cubicBezTo>
                  <a:pt x="8329" y="11448"/>
                  <a:pt x="8230" y="11642"/>
                  <a:pt x="8260" y="11757"/>
                </a:cubicBezTo>
                <a:cubicBezTo>
                  <a:pt x="8282" y="11801"/>
                  <a:pt x="8285" y="11813"/>
                  <a:pt x="8310" y="11832"/>
                </a:cubicBezTo>
              </a:path>
              <a:path w="7889" h="2234">
                <a:moveTo>
                  <a:pt x="8582" y="11212"/>
                </a:moveTo>
                <a:cubicBezTo>
                  <a:pt x="8582" y="11404"/>
                  <a:pt x="8579" y="11598"/>
                  <a:pt x="8607" y="11782"/>
                </a:cubicBezTo>
                <a:cubicBezTo>
                  <a:pt x="8607" y="11799"/>
                  <a:pt x="8607" y="11815"/>
                  <a:pt x="8607" y="11832"/>
                </a:cubicBezTo>
              </a:path>
              <a:path w="7889" h="2234">
                <a:moveTo>
                  <a:pt x="8235" y="11956"/>
                </a:moveTo>
                <a:cubicBezTo>
                  <a:pt x="8419" y="11956"/>
                  <a:pt x="8630" y="11986"/>
                  <a:pt x="8806" y="11931"/>
                </a:cubicBezTo>
                <a:cubicBezTo>
                  <a:pt x="8831" y="11923"/>
                  <a:pt x="8855" y="11914"/>
                  <a:pt x="8880" y="11906"/>
                </a:cubicBezTo>
              </a:path>
              <a:path w="7889" h="2234">
                <a:moveTo>
                  <a:pt x="8434" y="12452"/>
                </a:moveTo>
                <a:cubicBezTo>
                  <a:pt x="8415" y="12591"/>
                  <a:pt x="8413" y="12673"/>
                  <a:pt x="8434" y="12799"/>
                </a:cubicBezTo>
                <a:cubicBezTo>
                  <a:pt x="8434" y="12851"/>
                  <a:pt x="8435" y="12869"/>
                  <a:pt x="8458" y="12898"/>
                </a:cubicBezTo>
              </a:path>
              <a:path w="7889" h="2234">
                <a:moveTo>
                  <a:pt x="8682" y="12328"/>
                </a:moveTo>
                <a:cubicBezTo>
                  <a:pt x="8764" y="12297"/>
                  <a:pt x="8822" y="12292"/>
                  <a:pt x="8905" y="12328"/>
                </a:cubicBezTo>
                <a:cubicBezTo>
                  <a:pt x="8988" y="12363"/>
                  <a:pt x="9047" y="12431"/>
                  <a:pt x="9029" y="12526"/>
                </a:cubicBezTo>
                <a:cubicBezTo>
                  <a:pt x="9018" y="12583"/>
                  <a:pt x="8945" y="12690"/>
                  <a:pt x="8905" y="12725"/>
                </a:cubicBezTo>
                <a:cubicBezTo>
                  <a:pt x="8847" y="12775"/>
                  <a:pt x="8777" y="12774"/>
                  <a:pt x="8706" y="12774"/>
                </a:cubicBezTo>
                <a:cubicBezTo>
                  <a:pt x="8736" y="12715"/>
                  <a:pt x="8821" y="12693"/>
                  <a:pt x="8905" y="12750"/>
                </a:cubicBezTo>
                <a:cubicBezTo>
                  <a:pt x="8953" y="12783"/>
                  <a:pt x="9067" y="12898"/>
                  <a:pt x="9128" y="12898"/>
                </a:cubicBezTo>
                <a:cubicBezTo>
                  <a:pt x="9145" y="12890"/>
                  <a:pt x="9161" y="12882"/>
                  <a:pt x="9178" y="12874"/>
                </a:cubicBezTo>
              </a:path>
              <a:path w="7889" h="2234">
                <a:moveTo>
                  <a:pt x="9426" y="12005"/>
                </a:moveTo>
                <a:cubicBezTo>
                  <a:pt x="9543" y="11977"/>
                  <a:pt x="9651" y="11981"/>
                  <a:pt x="9773" y="11981"/>
                </a:cubicBezTo>
              </a:path>
              <a:path w="7889" h="2234">
                <a:moveTo>
                  <a:pt x="9475" y="12154"/>
                </a:moveTo>
                <a:cubicBezTo>
                  <a:pt x="9632" y="12207"/>
                  <a:pt x="9652" y="12207"/>
                  <a:pt x="9798" y="12154"/>
                </a:cubicBezTo>
              </a:path>
              <a:path w="7889" h="2234">
                <a:moveTo>
                  <a:pt x="10170" y="11385"/>
                </a:moveTo>
                <a:cubicBezTo>
                  <a:pt x="10274" y="11351"/>
                  <a:pt x="10395" y="11330"/>
                  <a:pt x="10492" y="11286"/>
                </a:cubicBezTo>
                <a:cubicBezTo>
                  <a:pt x="10542" y="11261"/>
                  <a:pt x="10558" y="11253"/>
                  <a:pt x="10592" y="11237"/>
                </a:cubicBezTo>
              </a:path>
              <a:path w="7889" h="2234">
                <a:moveTo>
                  <a:pt x="10120" y="11311"/>
                </a:moveTo>
                <a:cubicBezTo>
                  <a:pt x="10115" y="11363"/>
                  <a:pt x="10064" y="11529"/>
                  <a:pt x="10170" y="11559"/>
                </a:cubicBezTo>
                <a:cubicBezTo>
                  <a:pt x="10255" y="11583"/>
                  <a:pt x="10359" y="11557"/>
                  <a:pt x="10443" y="11584"/>
                </a:cubicBezTo>
                <a:cubicBezTo>
                  <a:pt x="10506" y="11604"/>
                  <a:pt x="10560" y="11608"/>
                  <a:pt x="10567" y="11683"/>
                </a:cubicBezTo>
                <a:cubicBezTo>
                  <a:pt x="10577" y="11795"/>
                  <a:pt x="10537" y="11835"/>
                  <a:pt x="10492" y="11931"/>
                </a:cubicBezTo>
                <a:cubicBezTo>
                  <a:pt x="10452" y="12017"/>
                  <a:pt x="10396" y="12004"/>
                  <a:pt x="10319" y="12030"/>
                </a:cubicBezTo>
                <a:cubicBezTo>
                  <a:pt x="10227" y="12061"/>
                  <a:pt x="10146" y="12047"/>
                  <a:pt x="10071" y="11981"/>
                </a:cubicBezTo>
                <a:cubicBezTo>
                  <a:pt x="10017" y="11933"/>
                  <a:pt x="10027" y="11900"/>
                  <a:pt x="10021" y="11832"/>
                </a:cubicBezTo>
              </a:path>
              <a:path w="7889" h="2234">
                <a:moveTo>
                  <a:pt x="10790" y="11336"/>
                </a:moveTo>
                <a:cubicBezTo>
                  <a:pt x="10924" y="11342"/>
                  <a:pt x="11108" y="11407"/>
                  <a:pt x="11237" y="11385"/>
                </a:cubicBezTo>
                <a:cubicBezTo>
                  <a:pt x="11277" y="11365"/>
                  <a:pt x="11284" y="11357"/>
                  <a:pt x="11311" y="11361"/>
                </a:cubicBezTo>
              </a:path>
              <a:path w="7889" h="2234">
                <a:moveTo>
                  <a:pt x="11013" y="11509"/>
                </a:moveTo>
                <a:cubicBezTo>
                  <a:pt x="10958" y="11636"/>
                  <a:pt x="10869" y="11768"/>
                  <a:pt x="10864" y="11906"/>
                </a:cubicBezTo>
                <a:cubicBezTo>
                  <a:pt x="10864" y="11974"/>
                  <a:pt x="10861" y="11993"/>
                  <a:pt x="10889" y="12030"/>
                </a:cubicBezTo>
              </a:path>
              <a:path w="7889" h="2234">
                <a:moveTo>
                  <a:pt x="11212" y="11410"/>
                </a:moveTo>
                <a:cubicBezTo>
                  <a:pt x="11212" y="11633"/>
                  <a:pt x="11212" y="11857"/>
                  <a:pt x="11212" y="12080"/>
                </a:cubicBezTo>
              </a:path>
              <a:path w="7889" h="2234">
                <a:moveTo>
                  <a:pt x="11435" y="12005"/>
                </a:moveTo>
                <a:cubicBezTo>
                  <a:pt x="11307" y="12066"/>
                  <a:pt x="11172" y="12133"/>
                  <a:pt x="11038" y="12179"/>
                </a:cubicBezTo>
                <a:cubicBezTo>
                  <a:pt x="10907" y="12224"/>
                  <a:pt x="10773" y="12264"/>
                  <a:pt x="10641" y="12303"/>
                </a:cubicBezTo>
                <a:cubicBezTo>
                  <a:pt x="10526" y="12337"/>
                  <a:pt x="10426" y="12349"/>
                  <a:pt x="10319" y="12378"/>
                </a:cubicBezTo>
                <a:cubicBezTo>
                  <a:pt x="10278" y="12397"/>
                  <a:pt x="10262" y="12416"/>
                  <a:pt x="10269" y="12378"/>
                </a:cubicBezTo>
              </a:path>
              <a:path w="7889" h="2234">
                <a:moveTo>
                  <a:pt x="10964" y="12526"/>
                </a:moveTo>
                <a:cubicBezTo>
                  <a:pt x="10900" y="12707"/>
                  <a:pt x="10887" y="12833"/>
                  <a:pt x="10840" y="12998"/>
                </a:cubicBezTo>
                <a:cubicBezTo>
                  <a:pt x="10834" y="13019"/>
                  <a:pt x="10804" y="13168"/>
                  <a:pt x="10840" y="13097"/>
                </a:cubicBezTo>
              </a:path>
              <a:path w="7889" h="2234">
                <a:moveTo>
                  <a:pt x="11137" y="12551"/>
                </a:moveTo>
                <a:cubicBezTo>
                  <a:pt x="11271" y="12481"/>
                  <a:pt x="11394" y="12399"/>
                  <a:pt x="11509" y="12576"/>
                </a:cubicBezTo>
                <a:cubicBezTo>
                  <a:pt x="11580" y="12685"/>
                  <a:pt x="11504" y="12790"/>
                  <a:pt x="11435" y="12874"/>
                </a:cubicBezTo>
                <a:cubicBezTo>
                  <a:pt x="11377" y="12944"/>
                  <a:pt x="11302" y="13004"/>
                  <a:pt x="11212" y="13022"/>
                </a:cubicBezTo>
                <a:cubicBezTo>
                  <a:pt x="11125" y="13040"/>
                  <a:pt x="11116" y="12949"/>
                  <a:pt x="11137" y="12898"/>
                </a:cubicBezTo>
                <a:cubicBezTo>
                  <a:pt x="11171" y="12816"/>
                  <a:pt x="11194" y="12776"/>
                  <a:pt x="11286" y="12774"/>
                </a:cubicBezTo>
                <a:cubicBezTo>
                  <a:pt x="11473" y="12769"/>
                  <a:pt x="11531" y="12812"/>
                  <a:pt x="11683" y="12898"/>
                </a:cubicBezTo>
                <a:cubicBezTo>
                  <a:pt x="11799" y="12964"/>
                  <a:pt x="11923" y="12979"/>
                  <a:pt x="12030" y="130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Ink 7"/>
          <p:cNvSpPr/>
          <p:nvPr/>
        </p:nvSpPr>
        <p:spPr>
          <a:xfrm>
            <a:off x="473040" y="4483080"/>
            <a:ext cx="1571760" cy="892080"/>
          </a:xfrm>
          <a:custGeom>
            <a:avLst/>
            <a:gdLst/>
            <a:ahLst/>
            <a:rect l="l" t="t" r="r" b="b"/>
            <a:pathLst>
              <a:path w="4366" h="2481">
                <a:moveTo>
                  <a:pt x="2059" y="12923"/>
                </a:moveTo>
                <a:cubicBezTo>
                  <a:pt x="2150" y="12884"/>
                  <a:pt x="2210" y="12920"/>
                  <a:pt x="2307" y="12923"/>
                </a:cubicBezTo>
                <a:cubicBezTo>
                  <a:pt x="2422" y="12926"/>
                  <a:pt x="2538" y="12923"/>
                  <a:pt x="2654" y="12923"/>
                </a:cubicBezTo>
              </a:path>
              <a:path w="4366" h="2481">
                <a:moveTo>
                  <a:pt x="2431" y="12898"/>
                </a:moveTo>
                <a:cubicBezTo>
                  <a:pt x="2409" y="13023"/>
                  <a:pt x="2351" y="13149"/>
                  <a:pt x="2332" y="13271"/>
                </a:cubicBezTo>
                <a:cubicBezTo>
                  <a:pt x="2319" y="13354"/>
                  <a:pt x="2307" y="13434"/>
                  <a:pt x="2307" y="13519"/>
                </a:cubicBezTo>
              </a:path>
              <a:path w="4366" h="2481">
                <a:moveTo>
                  <a:pt x="2555" y="12973"/>
                </a:moveTo>
                <a:cubicBezTo>
                  <a:pt x="2548" y="13147"/>
                  <a:pt x="2535" y="13276"/>
                  <a:pt x="2555" y="13444"/>
                </a:cubicBezTo>
                <a:cubicBezTo>
                  <a:pt x="2563" y="13509"/>
                  <a:pt x="2577" y="13557"/>
                  <a:pt x="2604" y="13618"/>
                </a:cubicBezTo>
              </a:path>
              <a:path w="4366" h="2481">
                <a:moveTo>
                  <a:pt x="2208" y="13543"/>
                </a:moveTo>
                <a:cubicBezTo>
                  <a:pt x="2283" y="13605"/>
                  <a:pt x="2341" y="13598"/>
                  <a:pt x="2431" y="13618"/>
                </a:cubicBezTo>
                <a:cubicBezTo>
                  <a:pt x="2571" y="13649"/>
                  <a:pt x="2658" y="13640"/>
                  <a:pt x="2803" y="13618"/>
                </a:cubicBezTo>
              </a:path>
              <a:path w="4366" h="2481">
                <a:moveTo>
                  <a:pt x="2332" y="14015"/>
                </a:moveTo>
                <a:cubicBezTo>
                  <a:pt x="2421" y="13992"/>
                  <a:pt x="2427" y="13933"/>
                  <a:pt x="2505" y="13891"/>
                </a:cubicBezTo>
                <a:cubicBezTo>
                  <a:pt x="2573" y="13854"/>
                  <a:pt x="2693" y="13851"/>
                  <a:pt x="2729" y="13940"/>
                </a:cubicBezTo>
                <a:cubicBezTo>
                  <a:pt x="2750" y="13993"/>
                  <a:pt x="2727" y="14116"/>
                  <a:pt x="2704" y="14163"/>
                </a:cubicBezTo>
                <a:cubicBezTo>
                  <a:pt x="2679" y="14213"/>
                  <a:pt x="2610" y="14361"/>
                  <a:pt x="2555" y="14387"/>
                </a:cubicBezTo>
                <a:cubicBezTo>
                  <a:pt x="2519" y="14404"/>
                  <a:pt x="2398" y="14430"/>
                  <a:pt x="2356" y="14412"/>
                </a:cubicBezTo>
                <a:cubicBezTo>
                  <a:pt x="2272" y="14375"/>
                  <a:pt x="2267" y="14359"/>
                  <a:pt x="2257" y="14288"/>
                </a:cubicBezTo>
                <a:cubicBezTo>
                  <a:pt x="2330" y="14288"/>
                  <a:pt x="2394" y="14289"/>
                  <a:pt x="2456" y="14337"/>
                </a:cubicBezTo>
                <a:cubicBezTo>
                  <a:pt x="2524" y="14391"/>
                  <a:pt x="2586" y="14434"/>
                  <a:pt x="2629" y="14511"/>
                </a:cubicBezTo>
                <a:cubicBezTo>
                  <a:pt x="2671" y="14587"/>
                  <a:pt x="2651" y="14582"/>
                  <a:pt x="2729" y="14560"/>
                </a:cubicBezTo>
              </a:path>
              <a:path w="4366" h="2481">
                <a:moveTo>
                  <a:pt x="3001" y="13767"/>
                </a:moveTo>
                <a:cubicBezTo>
                  <a:pt x="3092" y="13799"/>
                  <a:pt x="3180" y="13837"/>
                  <a:pt x="3274" y="13841"/>
                </a:cubicBezTo>
                <a:cubicBezTo>
                  <a:pt x="3350" y="13841"/>
                  <a:pt x="3376" y="13841"/>
                  <a:pt x="3423" y="13816"/>
                </a:cubicBezTo>
              </a:path>
              <a:path w="4366" h="2481">
                <a:moveTo>
                  <a:pt x="3820" y="13221"/>
                </a:moveTo>
                <a:cubicBezTo>
                  <a:pt x="3902" y="13200"/>
                  <a:pt x="4005" y="13150"/>
                  <a:pt x="4093" y="13171"/>
                </a:cubicBezTo>
                <a:cubicBezTo>
                  <a:pt x="4168" y="13189"/>
                  <a:pt x="4253" y="13195"/>
                  <a:pt x="4316" y="13246"/>
                </a:cubicBezTo>
                <a:cubicBezTo>
                  <a:pt x="4382" y="13300"/>
                  <a:pt x="4334" y="13413"/>
                  <a:pt x="4291" y="13469"/>
                </a:cubicBezTo>
                <a:cubicBezTo>
                  <a:pt x="4233" y="13545"/>
                  <a:pt x="4172" y="13624"/>
                  <a:pt x="4118" y="13692"/>
                </a:cubicBezTo>
                <a:cubicBezTo>
                  <a:pt x="4084" y="13735"/>
                  <a:pt x="4028" y="13800"/>
                  <a:pt x="3969" y="13816"/>
                </a:cubicBezTo>
                <a:cubicBezTo>
                  <a:pt x="3885" y="13838"/>
                  <a:pt x="3843" y="13776"/>
                  <a:pt x="3870" y="13717"/>
                </a:cubicBezTo>
                <a:cubicBezTo>
                  <a:pt x="3896" y="13660"/>
                  <a:pt x="4005" y="13634"/>
                  <a:pt x="4068" y="13667"/>
                </a:cubicBezTo>
                <a:cubicBezTo>
                  <a:pt x="4123" y="13696"/>
                  <a:pt x="4167" y="13798"/>
                  <a:pt x="4217" y="13816"/>
                </a:cubicBezTo>
                <a:cubicBezTo>
                  <a:pt x="4258" y="13816"/>
                  <a:pt x="4266" y="13816"/>
                  <a:pt x="4291" y="13816"/>
                </a:cubicBezTo>
              </a:path>
              <a:path w="4366" h="2481">
                <a:moveTo>
                  <a:pt x="4539" y="13295"/>
                </a:moveTo>
                <a:cubicBezTo>
                  <a:pt x="4597" y="13288"/>
                  <a:pt x="4819" y="13296"/>
                  <a:pt x="4887" y="13271"/>
                </a:cubicBezTo>
                <a:cubicBezTo>
                  <a:pt x="4895" y="13263"/>
                  <a:pt x="4903" y="13254"/>
                  <a:pt x="4911" y="13246"/>
                </a:cubicBezTo>
              </a:path>
              <a:path w="4366" h="2481">
                <a:moveTo>
                  <a:pt x="4638" y="13419"/>
                </a:moveTo>
                <a:cubicBezTo>
                  <a:pt x="4592" y="13502"/>
                  <a:pt x="4531" y="13606"/>
                  <a:pt x="4514" y="13692"/>
                </a:cubicBezTo>
                <a:cubicBezTo>
                  <a:pt x="4514" y="13709"/>
                  <a:pt x="4514" y="13725"/>
                  <a:pt x="4514" y="13742"/>
                </a:cubicBezTo>
              </a:path>
              <a:path w="4366" h="2481">
                <a:moveTo>
                  <a:pt x="4812" y="13246"/>
                </a:moveTo>
                <a:cubicBezTo>
                  <a:pt x="4812" y="13384"/>
                  <a:pt x="4798" y="13509"/>
                  <a:pt x="4787" y="13643"/>
                </a:cubicBezTo>
                <a:cubicBezTo>
                  <a:pt x="4778" y="13747"/>
                  <a:pt x="4775" y="13841"/>
                  <a:pt x="4762" y="13940"/>
                </a:cubicBezTo>
              </a:path>
              <a:path w="4366" h="2481">
                <a:moveTo>
                  <a:pt x="4093" y="13891"/>
                </a:moveTo>
                <a:cubicBezTo>
                  <a:pt x="4261" y="13913"/>
                  <a:pt x="4419" y="13915"/>
                  <a:pt x="4589" y="13915"/>
                </a:cubicBezTo>
                <a:cubicBezTo>
                  <a:pt x="4666" y="13915"/>
                  <a:pt x="4682" y="13911"/>
                  <a:pt x="4738" y="13866"/>
                </a:cubicBezTo>
              </a:path>
              <a:path w="4366" h="2481">
                <a:moveTo>
                  <a:pt x="4291" y="14064"/>
                </a:moveTo>
                <a:cubicBezTo>
                  <a:pt x="4396" y="14064"/>
                  <a:pt x="4487" y="14043"/>
                  <a:pt x="4589" y="14039"/>
                </a:cubicBezTo>
                <a:cubicBezTo>
                  <a:pt x="4681" y="14036"/>
                  <a:pt x="4739" y="14034"/>
                  <a:pt x="4812" y="14089"/>
                </a:cubicBezTo>
                <a:cubicBezTo>
                  <a:pt x="4884" y="14143"/>
                  <a:pt x="4855" y="14241"/>
                  <a:pt x="4837" y="14312"/>
                </a:cubicBezTo>
                <a:cubicBezTo>
                  <a:pt x="4809" y="14425"/>
                  <a:pt x="4707" y="14512"/>
                  <a:pt x="4688" y="14635"/>
                </a:cubicBezTo>
                <a:cubicBezTo>
                  <a:pt x="4679" y="14695"/>
                  <a:pt x="4639" y="14845"/>
                  <a:pt x="4663" y="14908"/>
                </a:cubicBezTo>
                <a:cubicBezTo>
                  <a:pt x="4686" y="14930"/>
                  <a:pt x="4691" y="14938"/>
                  <a:pt x="4713" y="14932"/>
                </a:cubicBezTo>
              </a:path>
              <a:path w="4366" h="2481">
                <a:moveTo>
                  <a:pt x="5283" y="13915"/>
                </a:moveTo>
                <a:cubicBezTo>
                  <a:pt x="5428" y="13894"/>
                  <a:pt x="5537" y="13901"/>
                  <a:pt x="5680" y="13915"/>
                </a:cubicBezTo>
              </a:path>
              <a:path w="4366" h="2481">
                <a:moveTo>
                  <a:pt x="5407" y="14213"/>
                </a:moveTo>
                <a:cubicBezTo>
                  <a:pt x="5504" y="14275"/>
                  <a:pt x="5540" y="14288"/>
                  <a:pt x="5655" y="14288"/>
                </a:cubicBezTo>
              </a:path>
              <a:path w="4366" h="2481">
                <a:moveTo>
                  <a:pt x="2084" y="14064"/>
                </a:moveTo>
                <a:cubicBezTo>
                  <a:pt x="2084" y="14056"/>
                  <a:pt x="2084" y="14047"/>
                  <a:pt x="2084" y="14039"/>
                </a:cubicBezTo>
              </a:path>
              <a:path w="4366" h="2481">
                <a:moveTo>
                  <a:pt x="1637" y="13643"/>
                </a:moveTo>
                <a:cubicBezTo>
                  <a:pt x="1708" y="13662"/>
                  <a:pt x="1798" y="13654"/>
                  <a:pt x="1860" y="13692"/>
                </a:cubicBezTo>
                <a:cubicBezTo>
                  <a:pt x="1925" y="13732"/>
                  <a:pt x="1957" y="13774"/>
                  <a:pt x="1935" y="13841"/>
                </a:cubicBezTo>
                <a:cubicBezTo>
                  <a:pt x="1915" y="13900"/>
                  <a:pt x="1883" y="13987"/>
                  <a:pt x="1860" y="14039"/>
                </a:cubicBezTo>
                <a:cubicBezTo>
                  <a:pt x="1834" y="14098"/>
                  <a:pt x="1776" y="14171"/>
                  <a:pt x="1761" y="14238"/>
                </a:cubicBezTo>
                <a:cubicBezTo>
                  <a:pt x="1761" y="14283"/>
                  <a:pt x="1758" y="14303"/>
                  <a:pt x="1786" y="14263"/>
                </a:cubicBezTo>
              </a:path>
              <a:path w="4366" h="2481">
                <a:moveTo>
                  <a:pt x="1836" y="12898"/>
                </a:moveTo>
                <a:cubicBezTo>
                  <a:pt x="1836" y="12890"/>
                  <a:pt x="1836" y="12882"/>
                  <a:pt x="1836" y="12874"/>
                </a:cubicBezTo>
              </a:path>
              <a:path w="4366" h="2481">
                <a:moveTo>
                  <a:pt x="1315" y="12452"/>
                </a:moveTo>
                <a:cubicBezTo>
                  <a:pt x="1390" y="12459"/>
                  <a:pt x="1450" y="12489"/>
                  <a:pt x="1513" y="12502"/>
                </a:cubicBezTo>
                <a:cubicBezTo>
                  <a:pt x="1579" y="12515"/>
                  <a:pt x="1667" y="12511"/>
                  <a:pt x="1712" y="12576"/>
                </a:cubicBezTo>
                <a:cubicBezTo>
                  <a:pt x="1772" y="12661"/>
                  <a:pt x="1704" y="12717"/>
                  <a:pt x="1687" y="12799"/>
                </a:cubicBezTo>
                <a:cubicBezTo>
                  <a:pt x="1672" y="12870"/>
                  <a:pt x="1683" y="12930"/>
                  <a:pt x="1662" y="12998"/>
                </a:cubicBezTo>
                <a:cubicBezTo>
                  <a:pt x="1644" y="13057"/>
                  <a:pt x="1637" y="13082"/>
                  <a:pt x="1637" y="13146"/>
                </a:cubicBezTo>
              </a:path>
              <a:path w="4366" h="2481">
                <a:moveTo>
                  <a:pt x="5110" y="14635"/>
                </a:moveTo>
                <a:lnTo>
                  <a:pt x="5110" y="14635"/>
                </a:lnTo>
              </a:path>
              <a:path w="4366" h="2481">
                <a:moveTo>
                  <a:pt x="5159" y="14238"/>
                </a:moveTo>
                <a:cubicBezTo>
                  <a:pt x="5264" y="14276"/>
                  <a:pt x="5306" y="14298"/>
                  <a:pt x="5333" y="14412"/>
                </a:cubicBezTo>
                <a:cubicBezTo>
                  <a:pt x="5359" y="14521"/>
                  <a:pt x="5321" y="14636"/>
                  <a:pt x="5283" y="14734"/>
                </a:cubicBezTo>
                <a:cubicBezTo>
                  <a:pt x="5255" y="14807"/>
                  <a:pt x="5216" y="14815"/>
                  <a:pt x="5159" y="14858"/>
                </a:cubicBezTo>
                <a:cubicBezTo>
                  <a:pt x="5151" y="14866"/>
                  <a:pt x="5143" y="14875"/>
                  <a:pt x="5135" y="14883"/>
                </a:cubicBezTo>
                <a:cubicBezTo>
                  <a:pt x="5101" y="14827"/>
                  <a:pt x="5094" y="14767"/>
                  <a:pt x="5135" y="14709"/>
                </a:cubicBezTo>
                <a:cubicBezTo>
                  <a:pt x="5188" y="14634"/>
                  <a:pt x="5255" y="14711"/>
                  <a:pt x="5283" y="14759"/>
                </a:cubicBezTo>
                <a:cubicBezTo>
                  <a:pt x="5321" y="14824"/>
                  <a:pt x="5374" y="14837"/>
                  <a:pt x="5432" y="14883"/>
                </a:cubicBezTo>
              </a:path>
              <a:path w="4366" h="2481">
                <a:moveTo>
                  <a:pt x="5035" y="13419"/>
                </a:moveTo>
                <a:lnTo>
                  <a:pt x="5035" y="13419"/>
                </a:lnTo>
              </a:path>
              <a:path w="4366" h="2481">
                <a:moveTo>
                  <a:pt x="5110" y="13146"/>
                </a:moveTo>
                <a:cubicBezTo>
                  <a:pt x="5162" y="13096"/>
                  <a:pt x="5172" y="13094"/>
                  <a:pt x="5234" y="13072"/>
                </a:cubicBezTo>
                <a:cubicBezTo>
                  <a:pt x="5299" y="13049"/>
                  <a:pt x="5349" y="13025"/>
                  <a:pt x="5407" y="13072"/>
                </a:cubicBezTo>
                <a:cubicBezTo>
                  <a:pt x="5458" y="13113"/>
                  <a:pt x="5464" y="13193"/>
                  <a:pt x="5432" y="13246"/>
                </a:cubicBezTo>
                <a:cubicBezTo>
                  <a:pt x="5389" y="13317"/>
                  <a:pt x="5299" y="13403"/>
                  <a:pt x="5234" y="13444"/>
                </a:cubicBezTo>
                <a:cubicBezTo>
                  <a:pt x="5183" y="13476"/>
                  <a:pt x="5097" y="13497"/>
                  <a:pt x="5110" y="13568"/>
                </a:cubicBezTo>
                <a:cubicBezTo>
                  <a:pt x="5124" y="13646"/>
                  <a:pt x="5269" y="13660"/>
                  <a:pt x="5333" y="13667"/>
                </a:cubicBezTo>
                <a:cubicBezTo>
                  <a:pt x="5412" y="13676"/>
                  <a:pt x="5484" y="13669"/>
                  <a:pt x="5556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Ink 8"/>
          <p:cNvSpPr/>
          <p:nvPr/>
        </p:nvSpPr>
        <p:spPr>
          <a:xfrm>
            <a:off x="2259000" y="4680000"/>
            <a:ext cx="1616040" cy="936720"/>
          </a:xfrm>
          <a:custGeom>
            <a:avLst/>
            <a:gdLst/>
            <a:ahLst/>
            <a:rect l="l" t="t" r="r" b="b"/>
            <a:pathLst>
              <a:path w="4490" h="2605">
                <a:moveTo>
                  <a:pt x="6300" y="13097"/>
                </a:moveTo>
                <a:cubicBezTo>
                  <a:pt x="6348" y="13059"/>
                  <a:pt x="6399" y="13042"/>
                  <a:pt x="6449" y="13022"/>
                </a:cubicBezTo>
                <a:cubicBezTo>
                  <a:pt x="6491" y="13005"/>
                  <a:pt x="6627" y="12966"/>
                  <a:pt x="6648" y="13047"/>
                </a:cubicBezTo>
                <a:cubicBezTo>
                  <a:pt x="6673" y="13141"/>
                  <a:pt x="6627" y="13231"/>
                  <a:pt x="6623" y="13320"/>
                </a:cubicBezTo>
                <a:cubicBezTo>
                  <a:pt x="6619" y="13417"/>
                  <a:pt x="6587" y="13499"/>
                  <a:pt x="6573" y="13593"/>
                </a:cubicBezTo>
                <a:cubicBezTo>
                  <a:pt x="6563" y="13659"/>
                  <a:pt x="6552" y="13726"/>
                  <a:pt x="6548" y="13791"/>
                </a:cubicBezTo>
                <a:cubicBezTo>
                  <a:pt x="6548" y="13833"/>
                  <a:pt x="6548" y="13841"/>
                  <a:pt x="6548" y="13866"/>
                </a:cubicBezTo>
              </a:path>
              <a:path w="4490" h="2605">
                <a:moveTo>
                  <a:pt x="6821" y="13122"/>
                </a:moveTo>
                <a:cubicBezTo>
                  <a:pt x="6886" y="13105"/>
                  <a:pt x="7081" y="13014"/>
                  <a:pt x="7144" y="13122"/>
                </a:cubicBezTo>
                <a:cubicBezTo>
                  <a:pt x="7183" y="13188"/>
                  <a:pt x="7181" y="13281"/>
                  <a:pt x="7144" y="13345"/>
                </a:cubicBezTo>
                <a:cubicBezTo>
                  <a:pt x="7098" y="13426"/>
                  <a:pt x="7035" y="13523"/>
                  <a:pt x="7020" y="13618"/>
                </a:cubicBezTo>
                <a:cubicBezTo>
                  <a:pt x="7008" y="13698"/>
                  <a:pt x="7001" y="13787"/>
                  <a:pt x="6995" y="13866"/>
                </a:cubicBezTo>
                <a:cubicBezTo>
                  <a:pt x="6995" y="13874"/>
                  <a:pt x="6995" y="13883"/>
                  <a:pt x="6995" y="13891"/>
                </a:cubicBezTo>
              </a:path>
              <a:path w="4490" h="2605">
                <a:moveTo>
                  <a:pt x="6970" y="13072"/>
                </a:moveTo>
                <a:cubicBezTo>
                  <a:pt x="6961" y="13147"/>
                  <a:pt x="6930" y="13222"/>
                  <a:pt x="6921" y="13295"/>
                </a:cubicBezTo>
                <a:cubicBezTo>
                  <a:pt x="6907" y="13408"/>
                  <a:pt x="6901" y="13529"/>
                  <a:pt x="6896" y="13643"/>
                </a:cubicBezTo>
                <a:cubicBezTo>
                  <a:pt x="6894" y="13694"/>
                  <a:pt x="6882" y="13699"/>
                  <a:pt x="6871" y="13742"/>
                </a:cubicBezTo>
              </a:path>
              <a:path w="4490" h="2605">
                <a:moveTo>
                  <a:pt x="6970" y="13171"/>
                </a:moveTo>
                <a:cubicBezTo>
                  <a:pt x="6962" y="13171"/>
                  <a:pt x="6953" y="13171"/>
                  <a:pt x="6945" y="13171"/>
                </a:cubicBezTo>
              </a:path>
              <a:path w="4490" h="2605">
                <a:moveTo>
                  <a:pt x="6276" y="13791"/>
                </a:moveTo>
                <a:cubicBezTo>
                  <a:pt x="6398" y="13818"/>
                  <a:pt x="6526" y="13855"/>
                  <a:pt x="6648" y="13866"/>
                </a:cubicBezTo>
                <a:cubicBezTo>
                  <a:pt x="6778" y="13878"/>
                  <a:pt x="6865" y="13892"/>
                  <a:pt x="6995" y="13866"/>
                </a:cubicBezTo>
                <a:cubicBezTo>
                  <a:pt x="7095" y="13846"/>
                  <a:pt x="7124" y="13847"/>
                  <a:pt x="7193" y="13791"/>
                </a:cubicBezTo>
              </a:path>
              <a:path w="4490" h="2605">
                <a:moveTo>
                  <a:pt x="6697" y="14089"/>
                </a:moveTo>
                <a:cubicBezTo>
                  <a:pt x="6634" y="14272"/>
                  <a:pt x="6566" y="14454"/>
                  <a:pt x="6499" y="14635"/>
                </a:cubicBezTo>
                <a:cubicBezTo>
                  <a:pt x="6476" y="14696"/>
                  <a:pt x="6478" y="14735"/>
                  <a:pt x="6449" y="14784"/>
                </a:cubicBezTo>
              </a:path>
              <a:path w="4490" h="2605">
                <a:moveTo>
                  <a:pt x="6846" y="14163"/>
                </a:moveTo>
                <a:cubicBezTo>
                  <a:pt x="6837" y="14229"/>
                  <a:pt x="6800" y="14266"/>
                  <a:pt x="6796" y="14337"/>
                </a:cubicBezTo>
                <a:cubicBezTo>
                  <a:pt x="6792" y="14417"/>
                  <a:pt x="6801" y="14491"/>
                  <a:pt x="6846" y="14560"/>
                </a:cubicBezTo>
                <a:cubicBezTo>
                  <a:pt x="6893" y="14632"/>
                  <a:pt x="6958" y="14608"/>
                  <a:pt x="7020" y="14585"/>
                </a:cubicBezTo>
              </a:path>
              <a:path w="4490" h="2605">
                <a:moveTo>
                  <a:pt x="7045" y="14188"/>
                </a:moveTo>
                <a:cubicBezTo>
                  <a:pt x="7004" y="14309"/>
                  <a:pt x="6958" y="14433"/>
                  <a:pt x="6945" y="14560"/>
                </a:cubicBezTo>
                <a:cubicBezTo>
                  <a:pt x="6932" y="14685"/>
                  <a:pt x="6902" y="14810"/>
                  <a:pt x="6896" y="14932"/>
                </a:cubicBezTo>
                <a:cubicBezTo>
                  <a:pt x="6896" y="14949"/>
                  <a:pt x="6896" y="14965"/>
                  <a:pt x="6896" y="14982"/>
                </a:cubicBezTo>
              </a:path>
              <a:path w="4490" h="2605">
                <a:moveTo>
                  <a:pt x="7367" y="14114"/>
                </a:moveTo>
                <a:cubicBezTo>
                  <a:pt x="7483" y="14071"/>
                  <a:pt x="7602" y="14040"/>
                  <a:pt x="7714" y="13990"/>
                </a:cubicBezTo>
              </a:path>
              <a:path w="4490" h="2605">
                <a:moveTo>
                  <a:pt x="7962" y="13469"/>
                </a:moveTo>
                <a:cubicBezTo>
                  <a:pt x="7912" y="13521"/>
                  <a:pt x="7897" y="13567"/>
                  <a:pt x="7913" y="13643"/>
                </a:cubicBezTo>
                <a:cubicBezTo>
                  <a:pt x="7931" y="13727"/>
                  <a:pt x="7959" y="13761"/>
                  <a:pt x="8037" y="13767"/>
                </a:cubicBezTo>
                <a:cubicBezTo>
                  <a:pt x="8045" y="13767"/>
                  <a:pt x="8054" y="13767"/>
                  <a:pt x="8062" y="13767"/>
                </a:cubicBezTo>
              </a:path>
              <a:path w="4490" h="2605">
                <a:moveTo>
                  <a:pt x="8235" y="13271"/>
                </a:moveTo>
                <a:cubicBezTo>
                  <a:pt x="8167" y="13337"/>
                  <a:pt x="8184" y="13384"/>
                  <a:pt x="8161" y="13469"/>
                </a:cubicBezTo>
                <a:cubicBezTo>
                  <a:pt x="8129" y="13585"/>
                  <a:pt x="8097" y="13693"/>
                  <a:pt x="8086" y="13816"/>
                </a:cubicBezTo>
                <a:cubicBezTo>
                  <a:pt x="8076" y="13931"/>
                  <a:pt x="8069" y="14048"/>
                  <a:pt x="8062" y="14163"/>
                </a:cubicBezTo>
                <a:cubicBezTo>
                  <a:pt x="8062" y="14171"/>
                  <a:pt x="8062" y="14180"/>
                  <a:pt x="8062" y="14188"/>
                </a:cubicBezTo>
              </a:path>
              <a:path w="4490" h="2605">
                <a:moveTo>
                  <a:pt x="8409" y="13469"/>
                </a:moveTo>
                <a:cubicBezTo>
                  <a:pt x="8513" y="13434"/>
                  <a:pt x="8634" y="13414"/>
                  <a:pt x="8731" y="13370"/>
                </a:cubicBezTo>
                <a:cubicBezTo>
                  <a:pt x="8775" y="13348"/>
                  <a:pt x="8787" y="13345"/>
                  <a:pt x="8806" y="13320"/>
                </a:cubicBezTo>
              </a:path>
              <a:path w="4490" h="2605">
                <a:moveTo>
                  <a:pt x="8508" y="13519"/>
                </a:moveTo>
                <a:cubicBezTo>
                  <a:pt x="8430" y="13721"/>
                  <a:pt x="8386" y="13826"/>
                  <a:pt x="8359" y="14015"/>
                </a:cubicBezTo>
                <a:cubicBezTo>
                  <a:pt x="8359" y="14059"/>
                  <a:pt x="8356" y="14079"/>
                  <a:pt x="8384" y="14039"/>
                </a:cubicBezTo>
              </a:path>
              <a:path w="4490" h="2605">
                <a:moveTo>
                  <a:pt x="8706" y="13469"/>
                </a:moveTo>
                <a:cubicBezTo>
                  <a:pt x="8706" y="13592"/>
                  <a:pt x="8690" y="13653"/>
                  <a:pt x="8657" y="13767"/>
                </a:cubicBezTo>
                <a:cubicBezTo>
                  <a:pt x="8627" y="13869"/>
                  <a:pt x="8622" y="13964"/>
                  <a:pt x="8582" y="14064"/>
                </a:cubicBezTo>
              </a:path>
              <a:path w="4490" h="2605">
                <a:moveTo>
                  <a:pt x="8161" y="14238"/>
                </a:moveTo>
                <a:cubicBezTo>
                  <a:pt x="8348" y="14238"/>
                  <a:pt x="8575" y="14269"/>
                  <a:pt x="8756" y="14213"/>
                </a:cubicBezTo>
                <a:cubicBezTo>
                  <a:pt x="8773" y="14205"/>
                  <a:pt x="8789" y="14196"/>
                  <a:pt x="8806" y="14188"/>
                </a:cubicBezTo>
              </a:path>
              <a:path w="4490" h="2605">
                <a:moveTo>
                  <a:pt x="8334" y="14536"/>
                </a:moveTo>
                <a:cubicBezTo>
                  <a:pt x="8284" y="14674"/>
                  <a:pt x="8235" y="14826"/>
                  <a:pt x="8186" y="14957"/>
                </a:cubicBezTo>
                <a:cubicBezTo>
                  <a:pt x="8161" y="14982"/>
                  <a:pt x="8153" y="14990"/>
                  <a:pt x="8186" y="15007"/>
                </a:cubicBezTo>
              </a:path>
              <a:path w="4490" h="2605">
                <a:moveTo>
                  <a:pt x="8483" y="14461"/>
                </a:moveTo>
                <a:cubicBezTo>
                  <a:pt x="8465" y="14570"/>
                  <a:pt x="8478" y="14612"/>
                  <a:pt x="8533" y="14709"/>
                </a:cubicBezTo>
                <a:cubicBezTo>
                  <a:pt x="8558" y="14759"/>
                  <a:pt x="8566" y="14775"/>
                  <a:pt x="8607" y="14784"/>
                </a:cubicBezTo>
              </a:path>
              <a:path w="4490" h="2605">
                <a:moveTo>
                  <a:pt x="8756" y="14362"/>
                </a:moveTo>
                <a:cubicBezTo>
                  <a:pt x="8709" y="14462"/>
                  <a:pt x="8630" y="14577"/>
                  <a:pt x="8607" y="14684"/>
                </a:cubicBezTo>
                <a:cubicBezTo>
                  <a:pt x="8581" y="14808"/>
                  <a:pt x="8591" y="14961"/>
                  <a:pt x="8558" y="15081"/>
                </a:cubicBezTo>
                <a:cubicBezTo>
                  <a:pt x="8543" y="15136"/>
                  <a:pt x="8493" y="15176"/>
                  <a:pt x="8558" y="15156"/>
                </a:cubicBezTo>
              </a:path>
              <a:path w="4490" h="2605">
                <a:moveTo>
                  <a:pt x="9054" y="14089"/>
                </a:moveTo>
                <a:cubicBezTo>
                  <a:pt x="9200" y="14052"/>
                  <a:pt x="9280" y="14036"/>
                  <a:pt x="9401" y="13990"/>
                </a:cubicBezTo>
              </a:path>
              <a:path w="4490" h="2605">
                <a:moveTo>
                  <a:pt x="9128" y="14362"/>
                </a:moveTo>
                <a:cubicBezTo>
                  <a:pt x="9260" y="14413"/>
                  <a:pt x="9202" y="14419"/>
                  <a:pt x="9302" y="14362"/>
                </a:cubicBezTo>
              </a:path>
              <a:path w="4490" h="2605">
                <a:moveTo>
                  <a:pt x="9699" y="13519"/>
                </a:moveTo>
                <a:cubicBezTo>
                  <a:pt x="9816" y="13502"/>
                  <a:pt x="9904" y="13461"/>
                  <a:pt x="9996" y="13543"/>
                </a:cubicBezTo>
                <a:cubicBezTo>
                  <a:pt x="10004" y="13551"/>
                  <a:pt x="10013" y="13560"/>
                  <a:pt x="10021" y="13568"/>
                </a:cubicBezTo>
                <a:cubicBezTo>
                  <a:pt x="9974" y="13655"/>
                  <a:pt x="9961" y="13699"/>
                  <a:pt x="9872" y="13717"/>
                </a:cubicBezTo>
                <a:cubicBezTo>
                  <a:pt x="9809" y="13730"/>
                  <a:pt x="9760" y="13740"/>
                  <a:pt x="9699" y="13767"/>
                </a:cubicBezTo>
                <a:cubicBezTo>
                  <a:pt x="9781" y="13813"/>
                  <a:pt x="9881" y="13829"/>
                  <a:pt x="9971" y="13866"/>
                </a:cubicBezTo>
                <a:cubicBezTo>
                  <a:pt x="10058" y="13902"/>
                  <a:pt x="10057" y="13935"/>
                  <a:pt x="10021" y="14015"/>
                </a:cubicBezTo>
                <a:cubicBezTo>
                  <a:pt x="9982" y="14102"/>
                  <a:pt x="9832" y="14169"/>
                  <a:pt x="9748" y="14213"/>
                </a:cubicBezTo>
                <a:cubicBezTo>
                  <a:pt x="9675" y="14252"/>
                  <a:pt x="9653" y="14243"/>
                  <a:pt x="9599" y="14188"/>
                </a:cubicBezTo>
                <a:cubicBezTo>
                  <a:pt x="9546" y="14134"/>
                  <a:pt x="9559" y="14129"/>
                  <a:pt x="9575" y="14064"/>
                </a:cubicBezTo>
              </a:path>
              <a:path w="4490" h="2605">
                <a:moveTo>
                  <a:pt x="10195" y="13469"/>
                </a:moveTo>
                <a:cubicBezTo>
                  <a:pt x="10236" y="13469"/>
                  <a:pt x="10540" y="13526"/>
                  <a:pt x="10567" y="13419"/>
                </a:cubicBezTo>
              </a:path>
              <a:path w="4490" h="2605">
                <a:moveTo>
                  <a:pt x="10244" y="13593"/>
                </a:moveTo>
                <a:cubicBezTo>
                  <a:pt x="10180" y="13769"/>
                  <a:pt x="10127" y="13880"/>
                  <a:pt x="10096" y="14039"/>
                </a:cubicBezTo>
              </a:path>
              <a:path w="4490" h="2605">
                <a:moveTo>
                  <a:pt x="10492" y="13494"/>
                </a:moveTo>
                <a:cubicBezTo>
                  <a:pt x="10465" y="13568"/>
                  <a:pt x="10447" y="13641"/>
                  <a:pt x="10418" y="13717"/>
                </a:cubicBezTo>
                <a:cubicBezTo>
                  <a:pt x="10383" y="13808"/>
                  <a:pt x="10377" y="13896"/>
                  <a:pt x="10344" y="13990"/>
                </a:cubicBezTo>
              </a:path>
              <a:path w="4490" h="2605">
                <a:moveTo>
                  <a:pt x="10666" y="13915"/>
                </a:moveTo>
                <a:cubicBezTo>
                  <a:pt x="10549" y="14032"/>
                  <a:pt x="10394" y="14051"/>
                  <a:pt x="10269" y="14163"/>
                </a:cubicBezTo>
                <a:cubicBezTo>
                  <a:pt x="10184" y="14239"/>
                  <a:pt x="10105" y="14280"/>
                  <a:pt x="9996" y="14337"/>
                </a:cubicBezTo>
                <a:cubicBezTo>
                  <a:pt x="9914" y="14380"/>
                  <a:pt x="9845" y="14432"/>
                  <a:pt x="9773" y="14486"/>
                </a:cubicBezTo>
                <a:cubicBezTo>
                  <a:pt x="9765" y="14494"/>
                  <a:pt x="9756" y="14503"/>
                  <a:pt x="9748" y="14511"/>
                </a:cubicBezTo>
              </a:path>
              <a:path w="4490" h="2605">
                <a:moveTo>
                  <a:pt x="10269" y="14461"/>
                </a:moveTo>
                <a:cubicBezTo>
                  <a:pt x="10190" y="14593"/>
                  <a:pt x="10114" y="14672"/>
                  <a:pt x="10046" y="14808"/>
                </a:cubicBezTo>
                <a:cubicBezTo>
                  <a:pt x="9994" y="14911"/>
                  <a:pt x="9925" y="15020"/>
                  <a:pt x="9897" y="15131"/>
                </a:cubicBezTo>
                <a:cubicBezTo>
                  <a:pt x="9897" y="15182"/>
                  <a:pt x="9899" y="15198"/>
                  <a:pt x="9947" y="15156"/>
                </a:cubicBezTo>
              </a:path>
              <a:path w="4490" h="2605">
                <a:moveTo>
                  <a:pt x="10418" y="14461"/>
                </a:moveTo>
                <a:cubicBezTo>
                  <a:pt x="10418" y="14560"/>
                  <a:pt x="10422" y="14639"/>
                  <a:pt x="10443" y="14734"/>
                </a:cubicBezTo>
                <a:cubicBezTo>
                  <a:pt x="10465" y="14833"/>
                  <a:pt x="10450" y="14952"/>
                  <a:pt x="10517" y="15032"/>
                </a:cubicBezTo>
                <a:cubicBezTo>
                  <a:pt x="10546" y="15060"/>
                  <a:pt x="10559" y="15068"/>
                  <a:pt x="10592" y="15056"/>
                </a:cubicBezTo>
              </a:path>
              <a:path w="4490" h="2605">
                <a:moveTo>
                  <a:pt x="10765" y="14461"/>
                </a:moveTo>
                <a:cubicBezTo>
                  <a:pt x="10693" y="14544"/>
                  <a:pt x="10684" y="14579"/>
                  <a:pt x="10666" y="14684"/>
                </a:cubicBezTo>
                <a:cubicBezTo>
                  <a:pt x="10635" y="14867"/>
                  <a:pt x="10635" y="15047"/>
                  <a:pt x="10616" y="15230"/>
                </a:cubicBezTo>
                <a:cubicBezTo>
                  <a:pt x="10588" y="15405"/>
                  <a:pt x="10574" y="15479"/>
                  <a:pt x="10542" y="156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Ink 9"/>
          <p:cNvSpPr/>
          <p:nvPr/>
        </p:nvSpPr>
        <p:spPr>
          <a:xfrm>
            <a:off x="669960" y="5518080"/>
            <a:ext cx="1322280" cy="590760"/>
          </a:xfrm>
          <a:custGeom>
            <a:avLst/>
            <a:gdLst/>
            <a:ahLst/>
            <a:rect l="l" t="t" r="r" b="b"/>
            <a:pathLst>
              <a:path w="3672" h="1638">
                <a:moveTo>
                  <a:pt x="2381" y="16024"/>
                </a:moveTo>
                <a:cubicBezTo>
                  <a:pt x="2381" y="15880"/>
                  <a:pt x="2407" y="15713"/>
                  <a:pt x="2356" y="15577"/>
                </a:cubicBezTo>
                <a:cubicBezTo>
                  <a:pt x="2328" y="15502"/>
                  <a:pt x="2236" y="15466"/>
                  <a:pt x="2158" y="15478"/>
                </a:cubicBezTo>
                <a:cubicBezTo>
                  <a:pt x="2056" y="15494"/>
                  <a:pt x="1991" y="15549"/>
                  <a:pt x="1935" y="15627"/>
                </a:cubicBezTo>
                <a:cubicBezTo>
                  <a:pt x="1858" y="15733"/>
                  <a:pt x="1860" y="15796"/>
                  <a:pt x="1860" y="15925"/>
                </a:cubicBezTo>
                <a:cubicBezTo>
                  <a:pt x="1860" y="15986"/>
                  <a:pt x="1894" y="16076"/>
                  <a:pt x="1960" y="16098"/>
                </a:cubicBezTo>
                <a:cubicBezTo>
                  <a:pt x="2027" y="16121"/>
                  <a:pt x="2064" y="16030"/>
                  <a:pt x="2108" y="15999"/>
                </a:cubicBezTo>
                <a:cubicBezTo>
                  <a:pt x="2180" y="15948"/>
                  <a:pt x="2220" y="15909"/>
                  <a:pt x="2232" y="15825"/>
                </a:cubicBezTo>
                <a:cubicBezTo>
                  <a:pt x="2254" y="15880"/>
                  <a:pt x="2228" y="15976"/>
                  <a:pt x="2208" y="16049"/>
                </a:cubicBezTo>
                <a:cubicBezTo>
                  <a:pt x="2168" y="16194"/>
                  <a:pt x="2096" y="16322"/>
                  <a:pt x="2059" y="16470"/>
                </a:cubicBezTo>
                <a:cubicBezTo>
                  <a:pt x="2034" y="16570"/>
                  <a:pt x="1892" y="16815"/>
                  <a:pt x="1984" y="16768"/>
                </a:cubicBezTo>
                <a:cubicBezTo>
                  <a:pt x="1992" y="16751"/>
                  <a:pt x="2001" y="16735"/>
                  <a:pt x="2009" y="16718"/>
                </a:cubicBezTo>
              </a:path>
              <a:path w="3672" h="1638">
                <a:moveTo>
                  <a:pt x="2604" y="15553"/>
                </a:moveTo>
                <a:cubicBezTo>
                  <a:pt x="2571" y="15724"/>
                  <a:pt x="2509" y="15826"/>
                  <a:pt x="2456" y="15999"/>
                </a:cubicBezTo>
                <a:cubicBezTo>
                  <a:pt x="2407" y="16158"/>
                  <a:pt x="2385" y="16330"/>
                  <a:pt x="2381" y="16495"/>
                </a:cubicBezTo>
                <a:cubicBezTo>
                  <a:pt x="2378" y="16606"/>
                  <a:pt x="2408" y="16672"/>
                  <a:pt x="2456" y="16768"/>
                </a:cubicBezTo>
                <a:cubicBezTo>
                  <a:pt x="2565" y="16746"/>
                  <a:pt x="2581" y="16692"/>
                  <a:pt x="2654" y="16594"/>
                </a:cubicBezTo>
                <a:cubicBezTo>
                  <a:pt x="2752" y="16463"/>
                  <a:pt x="2825" y="16287"/>
                  <a:pt x="2853" y="16123"/>
                </a:cubicBezTo>
                <a:cubicBezTo>
                  <a:pt x="2876" y="15985"/>
                  <a:pt x="2874" y="15861"/>
                  <a:pt x="2828" y="15726"/>
                </a:cubicBezTo>
                <a:cubicBezTo>
                  <a:pt x="2800" y="15646"/>
                  <a:pt x="2766" y="15529"/>
                  <a:pt x="2654" y="15553"/>
                </a:cubicBezTo>
                <a:cubicBezTo>
                  <a:pt x="2569" y="15571"/>
                  <a:pt x="2600" y="15654"/>
                  <a:pt x="2629" y="15701"/>
                </a:cubicBezTo>
              </a:path>
              <a:path w="3672" h="1638">
                <a:moveTo>
                  <a:pt x="2977" y="15503"/>
                </a:moveTo>
                <a:cubicBezTo>
                  <a:pt x="2969" y="15554"/>
                  <a:pt x="2939" y="15671"/>
                  <a:pt x="3026" y="15701"/>
                </a:cubicBezTo>
                <a:cubicBezTo>
                  <a:pt x="3087" y="15722"/>
                  <a:pt x="3164" y="15661"/>
                  <a:pt x="3175" y="15602"/>
                </a:cubicBezTo>
                <a:cubicBezTo>
                  <a:pt x="3193" y="15506"/>
                  <a:pt x="3180" y="15425"/>
                  <a:pt x="3125" y="15354"/>
                </a:cubicBezTo>
                <a:cubicBezTo>
                  <a:pt x="3097" y="15325"/>
                  <a:pt x="3084" y="15317"/>
                  <a:pt x="3051" y="15329"/>
                </a:cubicBezTo>
              </a:path>
              <a:path w="3672" h="1638">
                <a:moveTo>
                  <a:pt x="3150" y="16173"/>
                </a:moveTo>
                <a:cubicBezTo>
                  <a:pt x="3387" y="16225"/>
                  <a:pt x="3355" y="16234"/>
                  <a:pt x="3572" y="16173"/>
                </a:cubicBezTo>
              </a:path>
              <a:path w="3672" h="1638">
                <a:moveTo>
                  <a:pt x="3919" y="15726"/>
                </a:moveTo>
                <a:cubicBezTo>
                  <a:pt x="3870" y="15790"/>
                  <a:pt x="3762" y="15906"/>
                  <a:pt x="3746" y="15999"/>
                </a:cubicBezTo>
                <a:cubicBezTo>
                  <a:pt x="3734" y="16067"/>
                  <a:pt x="3718" y="16242"/>
                  <a:pt x="3770" y="16297"/>
                </a:cubicBezTo>
                <a:cubicBezTo>
                  <a:pt x="3826" y="16357"/>
                  <a:pt x="3905" y="16349"/>
                  <a:pt x="3969" y="16321"/>
                </a:cubicBezTo>
                <a:cubicBezTo>
                  <a:pt x="3985" y="16313"/>
                  <a:pt x="4002" y="16305"/>
                  <a:pt x="4018" y="16297"/>
                </a:cubicBezTo>
              </a:path>
              <a:path w="3672" h="1638">
                <a:moveTo>
                  <a:pt x="4217" y="15677"/>
                </a:moveTo>
                <a:cubicBezTo>
                  <a:pt x="4150" y="15676"/>
                  <a:pt x="4153" y="15789"/>
                  <a:pt x="4118" y="15875"/>
                </a:cubicBezTo>
                <a:cubicBezTo>
                  <a:pt x="4055" y="16027"/>
                  <a:pt x="4002" y="16183"/>
                  <a:pt x="3969" y="16346"/>
                </a:cubicBezTo>
                <a:cubicBezTo>
                  <a:pt x="3927" y="16553"/>
                  <a:pt x="3844" y="16741"/>
                  <a:pt x="3795" y="16942"/>
                </a:cubicBezTo>
                <a:cubicBezTo>
                  <a:pt x="3795" y="16950"/>
                  <a:pt x="3795" y="16958"/>
                  <a:pt x="3795" y="16966"/>
                </a:cubicBezTo>
              </a:path>
              <a:path w="3672" h="1638">
                <a:moveTo>
                  <a:pt x="4341" y="15825"/>
                </a:moveTo>
                <a:cubicBezTo>
                  <a:pt x="4404" y="15762"/>
                  <a:pt x="4459" y="15719"/>
                  <a:pt x="4564" y="15751"/>
                </a:cubicBezTo>
                <a:cubicBezTo>
                  <a:pt x="4671" y="15784"/>
                  <a:pt x="4756" y="15797"/>
                  <a:pt x="4862" y="15825"/>
                </a:cubicBezTo>
                <a:cubicBezTo>
                  <a:pt x="4849" y="15926"/>
                  <a:pt x="4798" y="15917"/>
                  <a:pt x="4762" y="15999"/>
                </a:cubicBezTo>
                <a:cubicBezTo>
                  <a:pt x="4716" y="16103"/>
                  <a:pt x="4688" y="16235"/>
                  <a:pt x="4663" y="16346"/>
                </a:cubicBezTo>
                <a:cubicBezTo>
                  <a:pt x="4627" y="16509"/>
                  <a:pt x="4544" y="16653"/>
                  <a:pt x="4514" y="16818"/>
                </a:cubicBezTo>
                <a:cubicBezTo>
                  <a:pt x="4514" y="16859"/>
                  <a:pt x="4514" y="16867"/>
                  <a:pt x="4514" y="16892"/>
                </a:cubicBezTo>
              </a:path>
              <a:path w="3672" h="1638">
                <a:moveTo>
                  <a:pt x="5135" y="15776"/>
                </a:moveTo>
                <a:cubicBezTo>
                  <a:pt x="5056" y="15854"/>
                  <a:pt x="5030" y="15890"/>
                  <a:pt x="5085" y="15999"/>
                </a:cubicBezTo>
                <a:cubicBezTo>
                  <a:pt x="5128" y="16084"/>
                  <a:pt x="5157" y="16087"/>
                  <a:pt x="5234" y="16024"/>
                </a:cubicBezTo>
                <a:cubicBezTo>
                  <a:pt x="5316" y="15957"/>
                  <a:pt x="5270" y="15881"/>
                  <a:pt x="5259" y="15801"/>
                </a:cubicBezTo>
                <a:cubicBezTo>
                  <a:pt x="5247" y="15715"/>
                  <a:pt x="5226" y="15727"/>
                  <a:pt x="5159" y="15677"/>
                </a:cubicBezTo>
                <a:cubicBezTo>
                  <a:pt x="5137" y="15654"/>
                  <a:pt x="5132" y="15646"/>
                  <a:pt x="5110" y="15652"/>
                </a:cubicBezTo>
              </a:path>
              <a:path w="3672" h="1638">
                <a:moveTo>
                  <a:pt x="5283" y="16346"/>
                </a:moveTo>
                <a:cubicBezTo>
                  <a:pt x="5423" y="16366"/>
                  <a:pt x="5447" y="16375"/>
                  <a:pt x="5531" y="16371"/>
                </a:cubicBezTo>
              </a:path>
              <a:path w="3672" h="1638">
                <a:moveTo>
                  <a:pt x="5283" y="16594"/>
                </a:moveTo>
                <a:cubicBezTo>
                  <a:pt x="5422" y="16654"/>
                  <a:pt x="5441" y="16679"/>
                  <a:pt x="5531" y="166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Ink 10"/>
          <p:cNvSpPr/>
          <p:nvPr/>
        </p:nvSpPr>
        <p:spPr>
          <a:xfrm>
            <a:off x="2170080" y="5554800"/>
            <a:ext cx="571680" cy="527040"/>
          </a:xfrm>
          <a:custGeom>
            <a:avLst/>
            <a:gdLst/>
            <a:ahLst/>
            <a:rect l="l" t="t" r="r" b="b"/>
            <a:pathLst>
              <a:path w="1588" h="1464">
                <a:moveTo>
                  <a:pt x="6201" y="15602"/>
                </a:moveTo>
                <a:cubicBezTo>
                  <a:pt x="6159" y="15710"/>
                  <a:pt x="6151" y="15702"/>
                  <a:pt x="6077" y="15776"/>
                </a:cubicBezTo>
                <a:cubicBezTo>
                  <a:pt x="6046" y="15807"/>
                  <a:pt x="6020" y="15902"/>
                  <a:pt x="6028" y="15949"/>
                </a:cubicBezTo>
                <a:cubicBezTo>
                  <a:pt x="6043" y="16041"/>
                  <a:pt x="6045" y="16116"/>
                  <a:pt x="6127" y="16173"/>
                </a:cubicBezTo>
                <a:cubicBezTo>
                  <a:pt x="6223" y="16241"/>
                  <a:pt x="6236" y="16221"/>
                  <a:pt x="6350" y="16173"/>
                </a:cubicBezTo>
              </a:path>
              <a:path w="1588" h="1464">
                <a:moveTo>
                  <a:pt x="6474" y="15553"/>
                </a:moveTo>
                <a:cubicBezTo>
                  <a:pt x="6416" y="15643"/>
                  <a:pt x="6384" y="15723"/>
                  <a:pt x="6350" y="15825"/>
                </a:cubicBezTo>
                <a:cubicBezTo>
                  <a:pt x="6289" y="16008"/>
                  <a:pt x="6247" y="16185"/>
                  <a:pt x="6201" y="16371"/>
                </a:cubicBezTo>
                <a:cubicBezTo>
                  <a:pt x="6181" y="16451"/>
                  <a:pt x="6160" y="16572"/>
                  <a:pt x="6127" y="16644"/>
                </a:cubicBezTo>
                <a:cubicBezTo>
                  <a:pt x="6119" y="16652"/>
                  <a:pt x="6110" y="16661"/>
                  <a:pt x="6102" y="16669"/>
                </a:cubicBezTo>
              </a:path>
              <a:path w="1588" h="1464">
                <a:moveTo>
                  <a:pt x="6672" y="15900"/>
                </a:moveTo>
                <a:cubicBezTo>
                  <a:pt x="6783" y="15812"/>
                  <a:pt x="6891" y="15661"/>
                  <a:pt x="7045" y="15751"/>
                </a:cubicBezTo>
                <a:cubicBezTo>
                  <a:pt x="7114" y="15791"/>
                  <a:pt x="7104" y="15864"/>
                  <a:pt x="7069" y="15925"/>
                </a:cubicBezTo>
                <a:cubicBezTo>
                  <a:pt x="7036" y="15984"/>
                  <a:pt x="6969" y="16010"/>
                  <a:pt x="6921" y="16049"/>
                </a:cubicBezTo>
                <a:cubicBezTo>
                  <a:pt x="6878" y="16084"/>
                  <a:pt x="6838" y="16114"/>
                  <a:pt x="6796" y="16148"/>
                </a:cubicBezTo>
                <a:cubicBezTo>
                  <a:pt x="6860" y="16222"/>
                  <a:pt x="6915" y="16207"/>
                  <a:pt x="6995" y="16247"/>
                </a:cubicBezTo>
                <a:cubicBezTo>
                  <a:pt x="7053" y="16276"/>
                  <a:pt x="7129" y="16327"/>
                  <a:pt x="7144" y="16396"/>
                </a:cubicBezTo>
                <a:cubicBezTo>
                  <a:pt x="7161" y="16475"/>
                  <a:pt x="7097" y="16636"/>
                  <a:pt x="7045" y="16694"/>
                </a:cubicBezTo>
                <a:cubicBezTo>
                  <a:pt x="6991" y="16754"/>
                  <a:pt x="6887" y="16793"/>
                  <a:pt x="6821" y="16842"/>
                </a:cubicBezTo>
                <a:cubicBezTo>
                  <a:pt x="6752" y="16893"/>
                  <a:pt x="6641" y="16922"/>
                  <a:pt x="6573" y="16867"/>
                </a:cubicBezTo>
                <a:cubicBezTo>
                  <a:pt x="6497" y="16806"/>
                  <a:pt x="6518" y="16699"/>
                  <a:pt x="6548" y="16619"/>
                </a:cubicBezTo>
                <a:cubicBezTo>
                  <a:pt x="6565" y="16586"/>
                  <a:pt x="6581" y="16553"/>
                  <a:pt x="6598" y="16520"/>
                </a:cubicBezTo>
              </a:path>
              <a:path w="1588" h="1464">
                <a:moveTo>
                  <a:pt x="7367" y="15602"/>
                </a:moveTo>
                <a:cubicBezTo>
                  <a:pt x="7320" y="15640"/>
                  <a:pt x="7255" y="15653"/>
                  <a:pt x="7268" y="15726"/>
                </a:cubicBezTo>
                <a:cubicBezTo>
                  <a:pt x="7283" y="15807"/>
                  <a:pt x="7313" y="15949"/>
                  <a:pt x="7417" y="15949"/>
                </a:cubicBezTo>
                <a:cubicBezTo>
                  <a:pt x="7512" y="15949"/>
                  <a:pt x="7547" y="15835"/>
                  <a:pt x="7590" y="15776"/>
                </a:cubicBezTo>
                <a:cubicBezTo>
                  <a:pt x="7628" y="15724"/>
                  <a:pt x="7631" y="15635"/>
                  <a:pt x="7590" y="15577"/>
                </a:cubicBezTo>
                <a:cubicBezTo>
                  <a:pt x="7558" y="15532"/>
                  <a:pt x="7456" y="15426"/>
                  <a:pt x="7392" y="15429"/>
                </a:cubicBezTo>
                <a:cubicBezTo>
                  <a:pt x="7375" y="15437"/>
                  <a:pt x="7359" y="15445"/>
                  <a:pt x="7342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i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8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When a function makes more than one full revolution around the unit circl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nd the coordinates of these points on the unit circl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3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13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1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Ink 4"/>
          <p:cNvSpPr/>
          <p:nvPr/>
        </p:nvSpPr>
        <p:spPr>
          <a:xfrm>
            <a:off x="3517920" y="2160720"/>
            <a:ext cx="5519880" cy="2447640"/>
          </a:xfrm>
          <a:custGeom>
            <a:avLst/>
            <a:gdLst/>
            <a:ahLst/>
            <a:rect l="l" t="t" r="r" b="b"/>
            <a:pathLst>
              <a:path w="15330" h="6797">
                <a:moveTo>
                  <a:pt x="16446" y="9376"/>
                </a:moveTo>
                <a:cubicBezTo>
                  <a:pt x="16460" y="9367"/>
                  <a:pt x="16609" y="9316"/>
                  <a:pt x="16545" y="9327"/>
                </a:cubicBezTo>
                <a:cubicBezTo>
                  <a:pt x="16504" y="9347"/>
                  <a:pt x="16498" y="9355"/>
                  <a:pt x="16470" y="9351"/>
                </a:cubicBezTo>
              </a:path>
              <a:path w="15330" h="6797">
                <a:moveTo>
                  <a:pt x="16694" y="9376"/>
                </a:moveTo>
                <a:cubicBezTo>
                  <a:pt x="16904" y="9380"/>
                  <a:pt x="17106" y="9387"/>
                  <a:pt x="17314" y="9401"/>
                </a:cubicBezTo>
                <a:cubicBezTo>
                  <a:pt x="17538" y="9417"/>
                  <a:pt x="17757" y="9414"/>
                  <a:pt x="17983" y="9426"/>
                </a:cubicBezTo>
                <a:cubicBezTo>
                  <a:pt x="18313" y="9443"/>
                  <a:pt x="18645" y="9467"/>
                  <a:pt x="18976" y="9475"/>
                </a:cubicBezTo>
                <a:cubicBezTo>
                  <a:pt x="19255" y="9482"/>
                  <a:pt x="19542" y="9512"/>
                  <a:pt x="19819" y="9500"/>
                </a:cubicBezTo>
                <a:cubicBezTo>
                  <a:pt x="19958" y="9494"/>
                  <a:pt x="20082" y="9449"/>
                  <a:pt x="20216" y="9426"/>
                </a:cubicBezTo>
                <a:cubicBezTo>
                  <a:pt x="20291" y="9413"/>
                  <a:pt x="20392" y="9379"/>
                  <a:pt x="20464" y="9376"/>
                </a:cubicBezTo>
                <a:cubicBezTo>
                  <a:pt x="20536" y="9373"/>
                  <a:pt x="20479" y="9464"/>
                  <a:pt x="20538" y="9451"/>
                </a:cubicBezTo>
                <a:cubicBezTo>
                  <a:pt x="20571" y="9444"/>
                  <a:pt x="20614" y="9378"/>
                  <a:pt x="20638" y="9376"/>
                </a:cubicBezTo>
                <a:cubicBezTo>
                  <a:pt x="20551" y="9328"/>
                  <a:pt x="20582" y="9345"/>
                  <a:pt x="20464" y="9351"/>
                </a:cubicBezTo>
                <a:cubicBezTo>
                  <a:pt x="20517" y="9390"/>
                  <a:pt x="20475" y="9517"/>
                  <a:pt x="20538" y="9500"/>
                </a:cubicBezTo>
                <a:cubicBezTo>
                  <a:pt x="20602" y="9483"/>
                  <a:pt x="20601" y="9491"/>
                  <a:pt x="20613" y="9426"/>
                </a:cubicBezTo>
                <a:cubicBezTo>
                  <a:pt x="20624" y="9361"/>
                  <a:pt x="20630" y="9331"/>
                  <a:pt x="20613" y="9252"/>
                </a:cubicBezTo>
                <a:cubicBezTo>
                  <a:pt x="20563" y="9016"/>
                  <a:pt x="20467" y="8799"/>
                  <a:pt x="20365" y="8582"/>
                </a:cubicBezTo>
                <a:cubicBezTo>
                  <a:pt x="20232" y="8299"/>
                  <a:pt x="20069" y="7980"/>
                  <a:pt x="19869" y="7739"/>
                </a:cubicBezTo>
                <a:cubicBezTo>
                  <a:pt x="19722" y="7562"/>
                  <a:pt x="19525" y="7357"/>
                  <a:pt x="19348" y="7193"/>
                </a:cubicBezTo>
                <a:cubicBezTo>
                  <a:pt x="19192" y="7048"/>
                  <a:pt x="18982" y="6925"/>
                  <a:pt x="18802" y="6796"/>
                </a:cubicBezTo>
                <a:cubicBezTo>
                  <a:pt x="18440" y="6539"/>
                  <a:pt x="18052" y="6341"/>
                  <a:pt x="17636" y="6201"/>
                </a:cubicBezTo>
                <a:cubicBezTo>
                  <a:pt x="17270" y="6078"/>
                  <a:pt x="16912" y="5999"/>
                  <a:pt x="16520" y="6003"/>
                </a:cubicBezTo>
                <a:cubicBezTo>
                  <a:pt x="16314" y="6005"/>
                  <a:pt x="16105" y="6025"/>
                  <a:pt x="15900" y="6052"/>
                </a:cubicBezTo>
                <a:cubicBezTo>
                  <a:pt x="15706" y="6078"/>
                  <a:pt x="15538" y="6138"/>
                  <a:pt x="15354" y="6201"/>
                </a:cubicBezTo>
                <a:cubicBezTo>
                  <a:pt x="15168" y="6265"/>
                  <a:pt x="15010" y="6329"/>
                  <a:pt x="14833" y="6424"/>
                </a:cubicBezTo>
                <a:cubicBezTo>
                  <a:pt x="14644" y="6526"/>
                  <a:pt x="14451" y="6655"/>
                  <a:pt x="14288" y="6796"/>
                </a:cubicBezTo>
                <a:cubicBezTo>
                  <a:pt x="14144" y="6920"/>
                  <a:pt x="14025" y="7069"/>
                  <a:pt x="13915" y="7218"/>
                </a:cubicBezTo>
                <a:cubicBezTo>
                  <a:pt x="13829" y="7333"/>
                  <a:pt x="13732" y="7463"/>
                  <a:pt x="13667" y="7590"/>
                </a:cubicBezTo>
                <a:cubicBezTo>
                  <a:pt x="13588" y="7744"/>
                  <a:pt x="13508" y="7925"/>
                  <a:pt x="13444" y="8086"/>
                </a:cubicBezTo>
                <a:cubicBezTo>
                  <a:pt x="13336" y="8358"/>
                  <a:pt x="13297" y="8597"/>
                  <a:pt x="13271" y="8880"/>
                </a:cubicBezTo>
                <a:cubicBezTo>
                  <a:pt x="13266" y="8938"/>
                  <a:pt x="13242" y="8954"/>
                  <a:pt x="13271" y="9004"/>
                </a:cubicBezTo>
                <a:cubicBezTo>
                  <a:pt x="13337" y="9118"/>
                  <a:pt x="13244" y="9018"/>
                  <a:pt x="13419" y="9103"/>
                </a:cubicBezTo>
                <a:cubicBezTo>
                  <a:pt x="13427" y="9095"/>
                  <a:pt x="13436" y="9087"/>
                  <a:pt x="13444" y="9079"/>
                </a:cubicBezTo>
                <a:cubicBezTo>
                  <a:pt x="13338" y="9150"/>
                  <a:pt x="13305" y="9128"/>
                  <a:pt x="13295" y="9153"/>
                </a:cubicBezTo>
                <a:cubicBezTo>
                  <a:pt x="13272" y="9210"/>
                  <a:pt x="13319" y="9216"/>
                  <a:pt x="13320" y="9277"/>
                </a:cubicBezTo>
                <a:cubicBezTo>
                  <a:pt x="13321" y="9371"/>
                  <a:pt x="13305" y="9447"/>
                  <a:pt x="13320" y="9550"/>
                </a:cubicBezTo>
                <a:cubicBezTo>
                  <a:pt x="13335" y="9653"/>
                  <a:pt x="13342" y="9719"/>
                  <a:pt x="13370" y="9823"/>
                </a:cubicBezTo>
                <a:cubicBezTo>
                  <a:pt x="13397" y="9923"/>
                  <a:pt x="13440" y="10013"/>
                  <a:pt x="13469" y="10120"/>
                </a:cubicBezTo>
                <a:cubicBezTo>
                  <a:pt x="13491" y="10202"/>
                  <a:pt x="13494" y="10287"/>
                  <a:pt x="13519" y="10368"/>
                </a:cubicBezTo>
                <a:cubicBezTo>
                  <a:pt x="13554" y="10477"/>
                  <a:pt x="13599" y="10585"/>
                  <a:pt x="13643" y="10691"/>
                </a:cubicBezTo>
                <a:cubicBezTo>
                  <a:pt x="13727" y="10895"/>
                  <a:pt x="13826" y="11068"/>
                  <a:pt x="13940" y="11237"/>
                </a:cubicBezTo>
                <a:cubicBezTo>
                  <a:pt x="14016" y="11350"/>
                  <a:pt x="14114" y="11486"/>
                  <a:pt x="14213" y="11584"/>
                </a:cubicBezTo>
                <a:cubicBezTo>
                  <a:pt x="14331" y="11700"/>
                  <a:pt x="14476" y="11783"/>
                  <a:pt x="14610" y="11881"/>
                </a:cubicBezTo>
                <a:cubicBezTo>
                  <a:pt x="15054" y="12205"/>
                  <a:pt x="15511" y="12408"/>
                  <a:pt x="16024" y="12576"/>
                </a:cubicBezTo>
                <a:cubicBezTo>
                  <a:pt x="16386" y="12694"/>
                  <a:pt x="16757" y="12785"/>
                  <a:pt x="17140" y="12799"/>
                </a:cubicBezTo>
                <a:cubicBezTo>
                  <a:pt x="17709" y="12820"/>
                  <a:pt x="18194" y="12754"/>
                  <a:pt x="18703" y="12502"/>
                </a:cubicBezTo>
                <a:cubicBezTo>
                  <a:pt x="18884" y="12413"/>
                  <a:pt x="19044" y="12304"/>
                  <a:pt x="19199" y="12179"/>
                </a:cubicBezTo>
                <a:cubicBezTo>
                  <a:pt x="19394" y="12022"/>
                  <a:pt x="19590" y="11855"/>
                  <a:pt x="19745" y="11658"/>
                </a:cubicBezTo>
                <a:cubicBezTo>
                  <a:pt x="19848" y="11527"/>
                  <a:pt x="19963" y="11339"/>
                  <a:pt x="20042" y="11187"/>
                </a:cubicBezTo>
                <a:cubicBezTo>
                  <a:pt x="20129" y="11021"/>
                  <a:pt x="20220" y="10871"/>
                  <a:pt x="20290" y="10691"/>
                </a:cubicBezTo>
                <a:cubicBezTo>
                  <a:pt x="20358" y="10515"/>
                  <a:pt x="20438" y="10328"/>
                  <a:pt x="20489" y="10145"/>
                </a:cubicBezTo>
                <a:cubicBezTo>
                  <a:pt x="20527" y="10007"/>
                  <a:pt x="20585" y="9608"/>
                  <a:pt x="20588" y="9525"/>
                </a:cubicBezTo>
                <a:cubicBezTo>
                  <a:pt x="20589" y="9496"/>
                  <a:pt x="20616" y="9461"/>
                  <a:pt x="20613" y="9401"/>
                </a:cubicBezTo>
                <a:cubicBezTo>
                  <a:pt x="20596" y="9401"/>
                  <a:pt x="20580" y="9401"/>
                  <a:pt x="20563" y="9401"/>
                </a:cubicBezTo>
                <a:cubicBezTo>
                  <a:pt x="20536" y="9490"/>
                  <a:pt x="20384" y="9453"/>
                  <a:pt x="20464" y="9500"/>
                </a:cubicBezTo>
                <a:cubicBezTo>
                  <a:pt x="20520" y="9533"/>
                  <a:pt x="20587" y="9515"/>
                  <a:pt x="20613" y="9525"/>
                </a:cubicBezTo>
                <a:cubicBezTo>
                  <a:pt x="20629" y="9525"/>
                  <a:pt x="20646" y="9525"/>
                  <a:pt x="20662" y="9525"/>
                </a:cubicBezTo>
                <a:cubicBezTo>
                  <a:pt x="20648" y="9480"/>
                  <a:pt x="20603" y="9371"/>
                  <a:pt x="20588" y="9302"/>
                </a:cubicBezTo>
                <a:cubicBezTo>
                  <a:pt x="20561" y="9177"/>
                  <a:pt x="20578" y="9025"/>
                  <a:pt x="20538" y="8905"/>
                </a:cubicBezTo>
                <a:cubicBezTo>
                  <a:pt x="20415" y="8536"/>
                  <a:pt x="20188" y="8160"/>
                  <a:pt x="19943" y="7863"/>
                </a:cubicBezTo>
                <a:cubicBezTo>
                  <a:pt x="19758" y="7639"/>
                  <a:pt x="19571" y="7381"/>
                  <a:pt x="19348" y="7193"/>
                </a:cubicBezTo>
                <a:cubicBezTo>
                  <a:pt x="19121" y="7001"/>
                  <a:pt x="18819" y="6788"/>
                  <a:pt x="18554" y="6648"/>
                </a:cubicBezTo>
                <a:cubicBezTo>
                  <a:pt x="18329" y="6529"/>
                  <a:pt x="18093" y="6443"/>
                  <a:pt x="17859" y="6350"/>
                </a:cubicBezTo>
                <a:cubicBezTo>
                  <a:pt x="17476" y="6197"/>
                  <a:pt x="17061" y="6127"/>
                  <a:pt x="16644" y="6127"/>
                </a:cubicBezTo>
                <a:cubicBezTo>
                  <a:pt x="16239" y="6127"/>
                  <a:pt x="15968" y="6164"/>
                  <a:pt x="15602" y="6276"/>
                </a:cubicBezTo>
                <a:cubicBezTo>
                  <a:pt x="15346" y="6354"/>
                  <a:pt x="15064" y="6488"/>
                  <a:pt x="14833" y="6623"/>
                </a:cubicBezTo>
                <a:cubicBezTo>
                  <a:pt x="14614" y="6751"/>
                  <a:pt x="14369" y="6947"/>
                  <a:pt x="14188" y="7119"/>
                </a:cubicBezTo>
                <a:cubicBezTo>
                  <a:pt x="14019" y="7279"/>
                  <a:pt x="13861" y="7489"/>
                  <a:pt x="13742" y="7689"/>
                </a:cubicBezTo>
                <a:cubicBezTo>
                  <a:pt x="13641" y="7859"/>
                  <a:pt x="13563" y="8023"/>
                  <a:pt x="13494" y="8210"/>
                </a:cubicBezTo>
                <a:cubicBezTo>
                  <a:pt x="13436" y="8367"/>
                  <a:pt x="13359" y="8539"/>
                  <a:pt x="13320" y="8706"/>
                </a:cubicBezTo>
                <a:cubicBezTo>
                  <a:pt x="13283" y="8864"/>
                  <a:pt x="13445" y="8974"/>
                  <a:pt x="13395" y="9128"/>
                </a:cubicBezTo>
                <a:cubicBezTo>
                  <a:pt x="13388" y="9150"/>
                  <a:pt x="13231" y="9130"/>
                  <a:pt x="13221" y="9178"/>
                </a:cubicBezTo>
                <a:cubicBezTo>
                  <a:pt x="13238" y="9178"/>
                  <a:pt x="13254" y="9178"/>
                  <a:pt x="13271" y="9178"/>
                </a:cubicBezTo>
                <a:cubicBezTo>
                  <a:pt x="13313" y="9152"/>
                  <a:pt x="13474" y="9199"/>
                  <a:pt x="13494" y="9103"/>
                </a:cubicBezTo>
                <a:cubicBezTo>
                  <a:pt x="13522" y="8968"/>
                  <a:pt x="13527" y="9006"/>
                  <a:pt x="13395" y="8979"/>
                </a:cubicBezTo>
                <a:cubicBezTo>
                  <a:pt x="13232" y="8945"/>
                  <a:pt x="13151" y="9021"/>
                  <a:pt x="13022" y="9054"/>
                </a:cubicBezTo>
                <a:cubicBezTo>
                  <a:pt x="13111" y="9112"/>
                  <a:pt x="13355" y="9065"/>
                  <a:pt x="13295" y="9153"/>
                </a:cubicBezTo>
                <a:cubicBezTo>
                  <a:pt x="13258" y="9208"/>
                  <a:pt x="13045" y="9137"/>
                  <a:pt x="13047" y="9252"/>
                </a:cubicBezTo>
                <a:cubicBezTo>
                  <a:pt x="13048" y="9309"/>
                  <a:pt x="13119" y="9349"/>
                  <a:pt x="13097" y="9401"/>
                </a:cubicBezTo>
                <a:cubicBezTo>
                  <a:pt x="13077" y="9449"/>
                  <a:pt x="13078" y="9375"/>
                  <a:pt x="13072" y="9426"/>
                </a:cubicBezTo>
              </a:path>
              <a:path w="15330" h="6797">
                <a:moveTo>
                  <a:pt x="19918" y="8037"/>
                </a:moveTo>
                <a:cubicBezTo>
                  <a:pt x="19894" y="8109"/>
                  <a:pt x="20007" y="8046"/>
                  <a:pt x="20067" y="8037"/>
                </a:cubicBezTo>
                <a:cubicBezTo>
                  <a:pt x="20093" y="8033"/>
                  <a:pt x="20246" y="7986"/>
                  <a:pt x="20166" y="8012"/>
                </a:cubicBezTo>
                <a:cubicBezTo>
                  <a:pt x="20082" y="8039"/>
                  <a:pt x="19970" y="8072"/>
                  <a:pt x="19893" y="8086"/>
                </a:cubicBezTo>
                <a:cubicBezTo>
                  <a:pt x="19852" y="8086"/>
                  <a:pt x="19836" y="8078"/>
                  <a:pt x="19844" y="8111"/>
                </a:cubicBezTo>
              </a:path>
              <a:path w="15330" h="6797">
                <a:moveTo>
                  <a:pt x="18529" y="6846"/>
                </a:moveTo>
                <a:cubicBezTo>
                  <a:pt x="18496" y="6871"/>
                  <a:pt x="18463" y="6896"/>
                  <a:pt x="18430" y="6921"/>
                </a:cubicBezTo>
                <a:cubicBezTo>
                  <a:pt x="18466" y="6863"/>
                  <a:pt x="18510" y="6800"/>
                  <a:pt x="18554" y="6747"/>
                </a:cubicBezTo>
                <a:cubicBezTo>
                  <a:pt x="18610" y="6679"/>
                  <a:pt x="18665" y="6630"/>
                  <a:pt x="18728" y="6573"/>
                </a:cubicBezTo>
                <a:cubicBezTo>
                  <a:pt x="18736" y="6565"/>
                  <a:pt x="18744" y="6556"/>
                  <a:pt x="18752" y="6548"/>
                </a:cubicBezTo>
                <a:cubicBezTo>
                  <a:pt x="18700" y="6633"/>
                  <a:pt x="18634" y="6733"/>
                  <a:pt x="18554" y="6796"/>
                </a:cubicBezTo>
                <a:cubicBezTo>
                  <a:pt x="18506" y="6834"/>
                  <a:pt x="18493" y="6815"/>
                  <a:pt x="18479" y="6871"/>
                </a:cubicBezTo>
              </a:path>
              <a:path w="15330" h="6797">
                <a:moveTo>
                  <a:pt x="13791" y="7565"/>
                </a:moveTo>
                <a:cubicBezTo>
                  <a:pt x="13943" y="7677"/>
                  <a:pt x="14006" y="7705"/>
                  <a:pt x="14188" y="7764"/>
                </a:cubicBezTo>
              </a:path>
              <a:path w="15330" h="6797">
                <a:moveTo>
                  <a:pt x="13097" y="9153"/>
                </a:moveTo>
                <a:cubicBezTo>
                  <a:pt x="13220" y="9122"/>
                  <a:pt x="13343" y="9125"/>
                  <a:pt x="13469" y="9103"/>
                </a:cubicBezTo>
              </a:path>
              <a:path w="15330" h="6797">
                <a:moveTo>
                  <a:pt x="13816" y="10120"/>
                </a:moveTo>
                <a:cubicBezTo>
                  <a:pt x="13636" y="10255"/>
                  <a:pt x="13495" y="10428"/>
                  <a:pt x="13320" y="10567"/>
                </a:cubicBezTo>
              </a:path>
              <a:path w="15330" h="6797">
                <a:moveTo>
                  <a:pt x="14387" y="11683"/>
                </a:moveTo>
                <a:cubicBezTo>
                  <a:pt x="14329" y="11741"/>
                  <a:pt x="14271" y="11799"/>
                  <a:pt x="14213" y="11857"/>
                </a:cubicBezTo>
              </a:path>
              <a:path w="15330" h="6797">
                <a:moveTo>
                  <a:pt x="20414" y="9500"/>
                </a:moveTo>
                <a:cubicBezTo>
                  <a:pt x="20542" y="9507"/>
                  <a:pt x="20682" y="9547"/>
                  <a:pt x="20811" y="9525"/>
                </a:cubicBezTo>
                <a:cubicBezTo>
                  <a:pt x="20836" y="9517"/>
                  <a:pt x="20861" y="9508"/>
                  <a:pt x="20886" y="9500"/>
                </a:cubicBezTo>
                <a:cubicBezTo>
                  <a:pt x="21032" y="9416"/>
                  <a:pt x="20814" y="9443"/>
                  <a:pt x="20737" y="9451"/>
                </a:cubicBezTo>
                <a:cubicBezTo>
                  <a:pt x="20554" y="9470"/>
                  <a:pt x="20289" y="9602"/>
                  <a:pt x="20117" y="9550"/>
                </a:cubicBezTo>
                <a:cubicBezTo>
                  <a:pt x="19983" y="9510"/>
                  <a:pt x="20377" y="9455"/>
                  <a:pt x="20513" y="9426"/>
                </a:cubicBezTo>
                <a:cubicBezTo>
                  <a:pt x="20598" y="9408"/>
                  <a:pt x="20995" y="9390"/>
                  <a:pt x="20861" y="9401"/>
                </a:cubicBezTo>
                <a:cubicBezTo>
                  <a:pt x="20828" y="9401"/>
                  <a:pt x="20795" y="9401"/>
                  <a:pt x="20762" y="9401"/>
                </a:cubicBezTo>
                <a:cubicBezTo>
                  <a:pt x="20614" y="9426"/>
                  <a:pt x="20465" y="9445"/>
                  <a:pt x="20315" y="9451"/>
                </a:cubicBezTo>
                <a:cubicBezTo>
                  <a:pt x="20175" y="9456"/>
                  <a:pt x="20400" y="9451"/>
                  <a:pt x="20414" y="9451"/>
                </a:cubicBezTo>
                <a:cubicBezTo>
                  <a:pt x="20591" y="9446"/>
                  <a:pt x="20759" y="9471"/>
                  <a:pt x="20935" y="9475"/>
                </a:cubicBezTo>
                <a:cubicBezTo>
                  <a:pt x="21180" y="9480"/>
                  <a:pt x="21138" y="9475"/>
                  <a:pt x="20910" y="9475"/>
                </a:cubicBezTo>
                <a:cubicBezTo>
                  <a:pt x="20725" y="9475"/>
                  <a:pt x="20515" y="9502"/>
                  <a:pt x="20340" y="9451"/>
                </a:cubicBezTo>
                <a:cubicBezTo>
                  <a:pt x="20558" y="9451"/>
                  <a:pt x="20769" y="9430"/>
                  <a:pt x="20985" y="9426"/>
                </a:cubicBezTo>
                <a:cubicBezTo>
                  <a:pt x="21205" y="9421"/>
                  <a:pt x="21208" y="9390"/>
                  <a:pt x="20985" y="9376"/>
                </a:cubicBezTo>
                <a:cubicBezTo>
                  <a:pt x="20788" y="9364"/>
                  <a:pt x="20588" y="9401"/>
                  <a:pt x="20389" y="9401"/>
                </a:cubicBezTo>
                <a:cubicBezTo>
                  <a:pt x="20568" y="9433"/>
                  <a:pt x="20730" y="9430"/>
                  <a:pt x="20910" y="9401"/>
                </a:cubicBezTo>
                <a:cubicBezTo>
                  <a:pt x="21197" y="9355"/>
                  <a:pt x="21090" y="9385"/>
                  <a:pt x="20861" y="9426"/>
                </a:cubicBezTo>
                <a:cubicBezTo>
                  <a:pt x="20735" y="9448"/>
                  <a:pt x="20636" y="9469"/>
                  <a:pt x="20712" y="9575"/>
                </a:cubicBezTo>
              </a:path>
              <a:path w="15330" h="6797">
                <a:moveTo>
                  <a:pt x="21481" y="9004"/>
                </a:moveTo>
                <a:cubicBezTo>
                  <a:pt x="21481" y="9185"/>
                  <a:pt x="21473" y="9344"/>
                  <a:pt x="21481" y="9525"/>
                </a:cubicBezTo>
                <a:cubicBezTo>
                  <a:pt x="21482" y="9550"/>
                  <a:pt x="21499" y="9688"/>
                  <a:pt x="21530" y="9624"/>
                </a:cubicBezTo>
              </a:path>
              <a:path w="15330" h="6797">
                <a:moveTo>
                  <a:pt x="21952" y="8930"/>
                </a:moveTo>
                <a:cubicBezTo>
                  <a:pt x="22102" y="8965"/>
                  <a:pt x="22212" y="8983"/>
                  <a:pt x="22126" y="9153"/>
                </a:cubicBezTo>
                <a:cubicBezTo>
                  <a:pt x="22071" y="9262"/>
                  <a:pt x="21968" y="9327"/>
                  <a:pt x="21878" y="9401"/>
                </a:cubicBezTo>
                <a:cubicBezTo>
                  <a:pt x="21844" y="9429"/>
                  <a:pt x="21837" y="9533"/>
                  <a:pt x="21853" y="9575"/>
                </a:cubicBezTo>
                <a:cubicBezTo>
                  <a:pt x="21873" y="9625"/>
                  <a:pt x="22006" y="9663"/>
                  <a:pt x="22051" y="9649"/>
                </a:cubicBezTo>
                <a:cubicBezTo>
                  <a:pt x="22109" y="9624"/>
                  <a:pt x="22167" y="9600"/>
                  <a:pt x="22225" y="9575"/>
                </a:cubicBezTo>
              </a:path>
              <a:path w="15330" h="6797">
                <a:moveTo>
                  <a:pt x="22423" y="9004"/>
                </a:moveTo>
                <a:cubicBezTo>
                  <a:pt x="22555" y="9004"/>
                  <a:pt x="22688" y="9004"/>
                  <a:pt x="22820" y="9004"/>
                </a:cubicBezTo>
              </a:path>
              <a:path w="15330" h="6797">
                <a:moveTo>
                  <a:pt x="22473" y="9054"/>
                </a:moveTo>
                <a:cubicBezTo>
                  <a:pt x="22464" y="9129"/>
                  <a:pt x="22404" y="9349"/>
                  <a:pt x="22473" y="9426"/>
                </a:cubicBezTo>
                <a:cubicBezTo>
                  <a:pt x="22481" y="9426"/>
                  <a:pt x="22490" y="9426"/>
                  <a:pt x="22498" y="9426"/>
                </a:cubicBezTo>
              </a:path>
              <a:path w="15330" h="6797">
                <a:moveTo>
                  <a:pt x="22820" y="8930"/>
                </a:moveTo>
                <a:cubicBezTo>
                  <a:pt x="22820" y="9073"/>
                  <a:pt x="22805" y="9210"/>
                  <a:pt x="22796" y="9351"/>
                </a:cubicBezTo>
                <a:cubicBezTo>
                  <a:pt x="22788" y="9473"/>
                  <a:pt x="22796" y="9601"/>
                  <a:pt x="22796" y="9723"/>
                </a:cubicBezTo>
              </a:path>
              <a:path w="15330" h="6797">
                <a:moveTo>
                  <a:pt x="21679" y="9798"/>
                </a:moveTo>
                <a:cubicBezTo>
                  <a:pt x="21872" y="9798"/>
                  <a:pt x="22059" y="9782"/>
                  <a:pt x="22250" y="9773"/>
                </a:cubicBezTo>
                <a:cubicBezTo>
                  <a:pt x="22440" y="9764"/>
                  <a:pt x="22592" y="9738"/>
                  <a:pt x="22771" y="9674"/>
                </a:cubicBezTo>
              </a:path>
              <a:path w="15330" h="6797">
                <a:moveTo>
                  <a:pt x="22374" y="9971"/>
                </a:moveTo>
                <a:cubicBezTo>
                  <a:pt x="22290" y="10119"/>
                  <a:pt x="22180" y="10244"/>
                  <a:pt x="22250" y="10418"/>
                </a:cubicBezTo>
                <a:cubicBezTo>
                  <a:pt x="22293" y="10524"/>
                  <a:pt x="22424" y="10618"/>
                  <a:pt x="22523" y="10666"/>
                </a:cubicBezTo>
                <a:cubicBezTo>
                  <a:pt x="22665" y="10735"/>
                  <a:pt x="22734" y="10613"/>
                  <a:pt x="22820" y="10542"/>
                </a:cubicBezTo>
                <a:cubicBezTo>
                  <a:pt x="22860" y="10510"/>
                  <a:pt x="22902" y="10435"/>
                  <a:pt x="22820" y="10393"/>
                </a:cubicBezTo>
                <a:cubicBezTo>
                  <a:pt x="22702" y="10333"/>
                  <a:pt x="22630" y="10447"/>
                  <a:pt x="22547" y="10492"/>
                </a:cubicBezTo>
                <a:cubicBezTo>
                  <a:pt x="22436" y="10552"/>
                  <a:pt x="22413" y="10589"/>
                  <a:pt x="22498" y="10716"/>
                </a:cubicBezTo>
                <a:cubicBezTo>
                  <a:pt x="22545" y="10786"/>
                  <a:pt x="22597" y="10765"/>
                  <a:pt x="22671" y="10765"/>
                </a:cubicBezTo>
              </a:path>
              <a:path w="15330" h="6797">
                <a:moveTo>
                  <a:pt x="23316" y="9748"/>
                </a:moveTo>
                <a:cubicBezTo>
                  <a:pt x="23429" y="9753"/>
                  <a:pt x="23528" y="9773"/>
                  <a:pt x="23639" y="9773"/>
                </a:cubicBezTo>
              </a:path>
              <a:path w="15330" h="6797">
                <a:moveTo>
                  <a:pt x="23366" y="10120"/>
                </a:moveTo>
                <a:cubicBezTo>
                  <a:pt x="23537" y="10120"/>
                  <a:pt x="23593" y="10121"/>
                  <a:pt x="23688" y="10046"/>
                </a:cubicBezTo>
              </a:path>
              <a:path w="15330" h="6797">
                <a:moveTo>
                  <a:pt x="23837" y="9401"/>
                </a:moveTo>
                <a:cubicBezTo>
                  <a:pt x="23979" y="9346"/>
                  <a:pt x="24040" y="9293"/>
                  <a:pt x="24160" y="9401"/>
                </a:cubicBezTo>
                <a:cubicBezTo>
                  <a:pt x="24263" y="9494"/>
                  <a:pt x="24229" y="9630"/>
                  <a:pt x="24185" y="9748"/>
                </a:cubicBezTo>
                <a:cubicBezTo>
                  <a:pt x="24131" y="9895"/>
                  <a:pt x="24070" y="9929"/>
                  <a:pt x="23961" y="10021"/>
                </a:cubicBezTo>
                <a:cubicBezTo>
                  <a:pt x="23937" y="10046"/>
                  <a:pt x="23929" y="10055"/>
                  <a:pt x="23912" y="10071"/>
                </a:cubicBezTo>
                <a:cubicBezTo>
                  <a:pt x="23971" y="9987"/>
                  <a:pt x="24033" y="9967"/>
                  <a:pt x="24135" y="10021"/>
                </a:cubicBezTo>
                <a:cubicBezTo>
                  <a:pt x="24197" y="10054"/>
                  <a:pt x="24313" y="10235"/>
                  <a:pt x="24358" y="10244"/>
                </a:cubicBezTo>
                <a:cubicBezTo>
                  <a:pt x="24375" y="10236"/>
                  <a:pt x="24391" y="10228"/>
                  <a:pt x="24408" y="10220"/>
                </a:cubicBezTo>
              </a:path>
              <a:path w="15330" h="6797">
                <a:moveTo>
                  <a:pt x="24705" y="9351"/>
                </a:moveTo>
                <a:cubicBezTo>
                  <a:pt x="24859" y="9377"/>
                  <a:pt x="24955" y="9401"/>
                  <a:pt x="25102" y="9451"/>
                </a:cubicBezTo>
              </a:path>
              <a:path w="15330" h="6797">
                <a:moveTo>
                  <a:pt x="24730" y="9475"/>
                </a:moveTo>
                <a:cubicBezTo>
                  <a:pt x="24688" y="9654"/>
                  <a:pt x="24553" y="9863"/>
                  <a:pt x="24681" y="10021"/>
                </a:cubicBezTo>
              </a:path>
              <a:path w="15330" h="6797">
                <a:moveTo>
                  <a:pt x="24854" y="9451"/>
                </a:moveTo>
                <a:cubicBezTo>
                  <a:pt x="24845" y="9652"/>
                  <a:pt x="24829" y="9844"/>
                  <a:pt x="24829" y="10046"/>
                </a:cubicBezTo>
                <a:cubicBezTo>
                  <a:pt x="24829" y="10079"/>
                  <a:pt x="24829" y="10112"/>
                  <a:pt x="24829" y="10145"/>
                </a:cubicBezTo>
              </a:path>
              <a:path w="15330" h="6797">
                <a:moveTo>
                  <a:pt x="20067" y="8210"/>
                </a:moveTo>
                <a:cubicBezTo>
                  <a:pt x="20067" y="8227"/>
                  <a:pt x="20067" y="8243"/>
                  <a:pt x="20067" y="8260"/>
                </a:cubicBezTo>
              </a:path>
              <a:path w="15330" h="6797">
                <a:moveTo>
                  <a:pt x="10021" y="8781"/>
                </a:moveTo>
                <a:cubicBezTo>
                  <a:pt x="9923" y="8956"/>
                  <a:pt x="9852" y="9077"/>
                  <a:pt x="9798" y="9277"/>
                </a:cubicBezTo>
                <a:cubicBezTo>
                  <a:pt x="9763" y="9408"/>
                  <a:pt x="9768" y="9519"/>
                  <a:pt x="9798" y="9649"/>
                </a:cubicBezTo>
                <a:cubicBezTo>
                  <a:pt x="9823" y="9756"/>
                  <a:pt x="9836" y="9873"/>
                  <a:pt x="9872" y="9971"/>
                </a:cubicBezTo>
                <a:cubicBezTo>
                  <a:pt x="9906" y="10062"/>
                  <a:pt x="9999" y="10114"/>
                  <a:pt x="10021" y="10195"/>
                </a:cubicBezTo>
                <a:cubicBezTo>
                  <a:pt x="10034" y="10245"/>
                  <a:pt x="10009" y="10232"/>
                  <a:pt x="10046" y="10269"/>
                </a:cubicBezTo>
                <a:cubicBezTo>
                  <a:pt x="10054" y="10277"/>
                  <a:pt x="10063" y="10286"/>
                  <a:pt x="10071" y="10294"/>
                </a:cubicBezTo>
              </a:path>
              <a:path w="15330" h="6797">
                <a:moveTo>
                  <a:pt x="10443" y="9153"/>
                </a:moveTo>
                <a:cubicBezTo>
                  <a:pt x="10410" y="9260"/>
                  <a:pt x="10368" y="9587"/>
                  <a:pt x="10368" y="9475"/>
                </a:cubicBezTo>
                <a:cubicBezTo>
                  <a:pt x="10368" y="9390"/>
                  <a:pt x="10307" y="9336"/>
                  <a:pt x="10294" y="9252"/>
                </a:cubicBezTo>
                <a:cubicBezTo>
                  <a:pt x="10283" y="9180"/>
                  <a:pt x="10249" y="9079"/>
                  <a:pt x="10269" y="9004"/>
                </a:cubicBezTo>
                <a:cubicBezTo>
                  <a:pt x="10292" y="8917"/>
                  <a:pt x="10373" y="8854"/>
                  <a:pt x="10443" y="8806"/>
                </a:cubicBezTo>
                <a:cubicBezTo>
                  <a:pt x="10528" y="8748"/>
                  <a:pt x="10689" y="8743"/>
                  <a:pt x="10790" y="8731"/>
                </a:cubicBezTo>
                <a:cubicBezTo>
                  <a:pt x="10807" y="8731"/>
                  <a:pt x="10823" y="8731"/>
                  <a:pt x="10840" y="8731"/>
                </a:cubicBezTo>
              </a:path>
              <a:path w="15330" h="6797">
                <a:moveTo>
                  <a:pt x="10616" y="8954"/>
                </a:moveTo>
                <a:cubicBezTo>
                  <a:pt x="10675" y="8959"/>
                  <a:pt x="10785" y="8957"/>
                  <a:pt x="10840" y="8979"/>
                </a:cubicBezTo>
                <a:cubicBezTo>
                  <a:pt x="10946" y="9020"/>
                  <a:pt x="10920" y="9081"/>
                  <a:pt x="10864" y="9153"/>
                </a:cubicBezTo>
                <a:cubicBezTo>
                  <a:pt x="10814" y="9218"/>
                  <a:pt x="10782" y="9231"/>
                  <a:pt x="10716" y="9277"/>
                </a:cubicBezTo>
                <a:cubicBezTo>
                  <a:pt x="10708" y="9285"/>
                  <a:pt x="10699" y="9294"/>
                  <a:pt x="10691" y="9302"/>
                </a:cubicBezTo>
                <a:cubicBezTo>
                  <a:pt x="10774" y="9350"/>
                  <a:pt x="10818" y="9344"/>
                  <a:pt x="10914" y="9376"/>
                </a:cubicBezTo>
                <a:cubicBezTo>
                  <a:pt x="10931" y="9384"/>
                  <a:pt x="10947" y="9393"/>
                  <a:pt x="10964" y="9401"/>
                </a:cubicBezTo>
                <a:cubicBezTo>
                  <a:pt x="10916" y="9440"/>
                  <a:pt x="10852" y="9467"/>
                  <a:pt x="10790" y="9475"/>
                </a:cubicBezTo>
                <a:cubicBezTo>
                  <a:pt x="10710" y="9485"/>
                  <a:pt x="10645" y="9467"/>
                  <a:pt x="10567" y="9451"/>
                </a:cubicBezTo>
              </a:path>
              <a:path w="15330" h="6797">
                <a:moveTo>
                  <a:pt x="10220" y="9475"/>
                </a:moveTo>
                <a:cubicBezTo>
                  <a:pt x="10359" y="9519"/>
                  <a:pt x="10495" y="9538"/>
                  <a:pt x="10641" y="9550"/>
                </a:cubicBezTo>
                <a:cubicBezTo>
                  <a:pt x="10784" y="9550"/>
                  <a:pt x="10859" y="9541"/>
                  <a:pt x="10964" y="9500"/>
                </a:cubicBezTo>
              </a:path>
              <a:path w="15330" h="6797">
                <a:moveTo>
                  <a:pt x="10616" y="9773"/>
                </a:moveTo>
                <a:cubicBezTo>
                  <a:pt x="10672" y="9807"/>
                  <a:pt x="10773" y="9817"/>
                  <a:pt x="10840" y="9823"/>
                </a:cubicBezTo>
                <a:cubicBezTo>
                  <a:pt x="10934" y="9823"/>
                  <a:pt x="10954" y="9802"/>
                  <a:pt x="10988" y="9847"/>
                </a:cubicBezTo>
                <a:cubicBezTo>
                  <a:pt x="10939" y="9927"/>
                  <a:pt x="10881" y="9957"/>
                  <a:pt x="10815" y="10021"/>
                </a:cubicBezTo>
                <a:cubicBezTo>
                  <a:pt x="10730" y="10103"/>
                  <a:pt x="10607" y="10109"/>
                  <a:pt x="10666" y="10244"/>
                </a:cubicBezTo>
                <a:cubicBezTo>
                  <a:pt x="10709" y="10341"/>
                  <a:pt x="10943" y="10275"/>
                  <a:pt x="10988" y="10269"/>
                </a:cubicBezTo>
              </a:path>
              <a:path w="15330" h="6797">
                <a:moveTo>
                  <a:pt x="10939" y="10269"/>
                </a:moveTo>
                <a:cubicBezTo>
                  <a:pt x="10975" y="10533"/>
                  <a:pt x="10950" y="10612"/>
                  <a:pt x="11162" y="10443"/>
                </a:cubicBezTo>
              </a:path>
              <a:path w="15330" h="6797">
                <a:moveTo>
                  <a:pt x="11609" y="9004"/>
                </a:moveTo>
                <a:cubicBezTo>
                  <a:pt x="11635" y="9150"/>
                  <a:pt x="11658" y="9278"/>
                  <a:pt x="11658" y="9426"/>
                </a:cubicBezTo>
                <a:cubicBezTo>
                  <a:pt x="11658" y="9467"/>
                  <a:pt x="11658" y="9509"/>
                  <a:pt x="11658" y="9550"/>
                </a:cubicBezTo>
              </a:path>
              <a:path w="15330" h="6797">
                <a:moveTo>
                  <a:pt x="11509" y="9550"/>
                </a:moveTo>
                <a:cubicBezTo>
                  <a:pt x="11649" y="9573"/>
                  <a:pt x="11724" y="9565"/>
                  <a:pt x="11857" y="9550"/>
                </a:cubicBezTo>
                <a:cubicBezTo>
                  <a:pt x="11882" y="9550"/>
                  <a:pt x="11906" y="9550"/>
                  <a:pt x="11931" y="9550"/>
                </a:cubicBezTo>
              </a:path>
              <a:path w="15330" h="6797">
                <a:moveTo>
                  <a:pt x="11633" y="9847"/>
                </a:moveTo>
                <a:cubicBezTo>
                  <a:pt x="11718" y="9847"/>
                  <a:pt x="11859" y="9813"/>
                  <a:pt x="11931" y="9823"/>
                </a:cubicBezTo>
                <a:cubicBezTo>
                  <a:pt x="11939" y="9831"/>
                  <a:pt x="11948" y="9839"/>
                  <a:pt x="11956" y="9847"/>
                </a:cubicBezTo>
                <a:cubicBezTo>
                  <a:pt x="11894" y="9919"/>
                  <a:pt x="11800" y="9940"/>
                  <a:pt x="11733" y="10021"/>
                </a:cubicBezTo>
                <a:cubicBezTo>
                  <a:pt x="11661" y="10108"/>
                  <a:pt x="11581" y="10175"/>
                  <a:pt x="11683" y="10269"/>
                </a:cubicBezTo>
                <a:cubicBezTo>
                  <a:pt x="11772" y="10351"/>
                  <a:pt x="11917" y="10383"/>
                  <a:pt x="12030" y="10319"/>
                </a:cubicBezTo>
                <a:cubicBezTo>
                  <a:pt x="12063" y="10294"/>
                  <a:pt x="12096" y="10269"/>
                  <a:pt x="12129" y="10244"/>
                </a:cubicBezTo>
              </a:path>
              <a:path w="15330" h="6797">
                <a:moveTo>
                  <a:pt x="12204" y="8954"/>
                </a:moveTo>
                <a:cubicBezTo>
                  <a:pt x="12343" y="9372"/>
                  <a:pt x="12431" y="9616"/>
                  <a:pt x="12378" y="10046"/>
                </a:cubicBezTo>
                <a:cubicBezTo>
                  <a:pt x="12352" y="10257"/>
                  <a:pt x="12346" y="10468"/>
                  <a:pt x="12154" y="10567"/>
                </a:cubicBezTo>
                <a:cubicBezTo>
                  <a:pt x="12121" y="10583"/>
                  <a:pt x="12088" y="10600"/>
                  <a:pt x="12055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Ink 5"/>
          <p:cNvSpPr/>
          <p:nvPr/>
        </p:nvSpPr>
        <p:spPr>
          <a:xfrm>
            <a:off x="3044880" y="2241720"/>
            <a:ext cx="1260360" cy="615960"/>
          </a:xfrm>
          <a:custGeom>
            <a:avLst/>
            <a:gdLst/>
            <a:ahLst/>
            <a:rect l="l" t="t" r="r" b="b"/>
            <a:pathLst>
              <a:path w="3499" h="1713">
                <a:moveTo>
                  <a:pt x="8458" y="6921"/>
                </a:moveTo>
                <a:cubicBezTo>
                  <a:pt x="8543" y="6889"/>
                  <a:pt x="8612" y="6896"/>
                  <a:pt x="8706" y="6896"/>
                </a:cubicBezTo>
                <a:cubicBezTo>
                  <a:pt x="8774" y="6896"/>
                  <a:pt x="8836" y="6915"/>
                  <a:pt x="8905" y="6921"/>
                </a:cubicBezTo>
              </a:path>
              <a:path w="3499" h="1713">
                <a:moveTo>
                  <a:pt x="8508" y="7119"/>
                </a:moveTo>
                <a:cubicBezTo>
                  <a:pt x="8576" y="7153"/>
                  <a:pt x="8650" y="7144"/>
                  <a:pt x="8731" y="7144"/>
                </a:cubicBezTo>
                <a:cubicBezTo>
                  <a:pt x="8808" y="7144"/>
                  <a:pt x="8867" y="7150"/>
                  <a:pt x="8930" y="7169"/>
                </a:cubicBezTo>
                <a:cubicBezTo>
                  <a:pt x="8938" y="7169"/>
                  <a:pt x="8946" y="7169"/>
                  <a:pt x="8954" y="7169"/>
                </a:cubicBezTo>
              </a:path>
              <a:path w="3499" h="1713">
                <a:moveTo>
                  <a:pt x="9674" y="6226"/>
                </a:moveTo>
                <a:cubicBezTo>
                  <a:pt x="9536" y="6330"/>
                  <a:pt x="9535" y="6382"/>
                  <a:pt x="9451" y="6524"/>
                </a:cubicBezTo>
                <a:cubicBezTo>
                  <a:pt x="9323" y="6739"/>
                  <a:pt x="9264" y="6856"/>
                  <a:pt x="9227" y="7119"/>
                </a:cubicBezTo>
                <a:cubicBezTo>
                  <a:pt x="9212" y="7223"/>
                  <a:pt x="9263" y="7346"/>
                  <a:pt x="9302" y="7441"/>
                </a:cubicBezTo>
                <a:cubicBezTo>
                  <a:pt x="9341" y="7536"/>
                  <a:pt x="9373" y="7536"/>
                  <a:pt x="9451" y="7590"/>
                </a:cubicBezTo>
                <a:cubicBezTo>
                  <a:pt x="9477" y="7609"/>
                  <a:pt x="9502" y="7642"/>
                  <a:pt x="9525" y="7665"/>
                </a:cubicBezTo>
              </a:path>
              <a:path w="3499" h="1713">
                <a:moveTo>
                  <a:pt x="9723" y="7069"/>
                </a:moveTo>
                <a:cubicBezTo>
                  <a:pt x="9841" y="7097"/>
                  <a:pt x="9925" y="7119"/>
                  <a:pt x="10046" y="7119"/>
                </a:cubicBezTo>
              </a:path>
              <a:path w="3499" h="1713">
                <a:moveTo>
                  <a:pt x="10468" y="6573"/>
                </a:moveTo>
                <a:cubicBezTo>
                  <a:pt x="10462" y="6760"/>
                  <a:pt x="10432" y="6934"/>
                  <a:pt x="10418" y="7119"/>
                </a:cubicBezTo>
                <a:cubicBezTo>
                  <a:pt x="10409" y="7237"/>
                  <a:pt x="10409" y="7354"/>
                  <a:pt x="10393" y="7466"/>
                </a:cubicBezTo>
                <a:cubicBezTo>
                  <a:pt x="10393" y="7508"/>
                  <a:pt x="10385" y="7524"/>
                  <a:pt x="10418" y="7516"/>
                </a:cubicBezTo>
              </a:path>
              <a:path w="3499" h="1713">
                <a:moveTo>
                  <a:pt x="10666" y="7491"/>
                </a:moveTo>
                <a:cubicBezTo>
                  <a:pt x="10646" y="7668"/>
                  <a:pt x="10569" y="8035"/>
                  <a:pt x="10616" y="7863"/>
                </a:cubicBezTo>
              </a:path>
              <a:path w="3499" h="1713">
                <a:moveTo>
                  <a:pt x="11038" y="6896"/>
                </a:moveTo>
                <a:cubicBezTo>
                  <a:pt x="11013" y="7034"/>
                  <a:pt x="10902" y="7279"/>
                  <a:pt x="10964" y="7417"/>
                </a:cubicBezTo>
                <a:cubicBezTo>
                  <a:pt x="11009" y="7517"/>
                  <a:pt x="11087" y="7536"/>
                  <a:pt x="11187" y="7541"/>
                </a:cubicBezTo>
                <a:cubicBezTo>
                  <a:pt x="11290" y="7546"/>
                  <a:pt x="11340" y="7544"/>
                  <a:pt x="11385" y="7441"/>
                </a:cubicBezTo>
                <a:cubicBezTo>
                  <a:pt x="11438" y="7319"/>
                  <a:pt x="11445" y="7221"/>
                  <a:pt x="11410" y="7094"/>
                </a:cubicBezTo>
                <a:cubicBezTo>
                  <a:pt x="11372" y="6957"/>
                  <a:pt x="11268" y="6940"/>
                  <a:pt x="11137" y="6921"/>
                </a:cubicBezTo>
                <a:cubicBezTo>
                  <a:pt x="11059" y="6910"/>
                  <a:pt x="11021" y="6939"/>
                  <a:pt x="11038" y="6871"/>
                </a:cubicBezTo>
              </a:path>
              <a:path w="3499" h="1713">
                <a:moveTo>
                  <a:pt x="11683" y="6449"/>
                </a:moveTo>
                <a:cubicBezTo>
                  <a:pt x="11830" y="6707"/>
                  <a:pt x="11945" y="6894"/>
                  <a:pt x="11956" y="7193"/>
                </a:cubicBezTo>
                <a:cubicBezTo>
                  <a:pt x="11965" y="7428"/>
                  <a:pt x="11837" y="7638"/>
                  <a:pt x="11683" y="7813"/>
                </a:cubicBezTo>
                <a:cubicBezTo>
                  <a:pt x="11593" y="7881"/>
                  <a:pt x="11569" y="7900"/>
                  <a:pt x="11509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Ink 6"/>
          <p:cNvSpPr/>
          <p:nvPr/>
        </p:nvSpPr>
        <p:spPr>
          <a:xfrm>
            <a:off x="5911920" y="4518000"/>
            <a:ext cx="4428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16421" y="12551"/>
                </a:moveTo>
                <a:cubicBezTo>
                  <a:pt x="16442" y="12811"/>
                  <a:pt x="16477" y="13046"/>
                  <a:pt x="16545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Ink 7"/>
          <p:cNvSpPr/>
          <p:nvPr/>
        </p:nvSpPr>
        <p:spPr>
          <a:xfrm>
            <a:off x="6419880" y="4446720"/>
            <a:ext cx="250920" cy="349200"/>
          </a:xfrm>
          <a:custGeom>
            <a:avLst/>
            <a:gdLst/>
            <a:ahLst/>
            <a:rect l="l" t="t" r="r" b="b"/>
            <a:pathLst>
              <a:path w="695" h="968">
                <a:moveTo>
                  <a:pt x="17835" y="12353"/>
                </a:moveTo>
                <a:cubicBezTo>
                  <a:pt x="17971" y="12613"/>
                  <a:pt x="18068" y="12844"/>
                  <a:pt x="18157" y="13122"/>
                </a:cubicBezTo>
              </a:path>
              <a:path w="695" h="968">
                <a:moveTo>
                  <a:pt x="17835" y="12353"/>
                </a:moveTo>
                <a:cubicBezTo>
                  <a:pt x="17908" y="12557"/>
                  <a:pt x="17997" y="12700"/>
                  <a:pt x="18132" y="12874"/>
                </a:cubicBezTo>
                <a:cubicBezTo>
                  <a:pt x="18243" y="13017"/>
                  <a:pt x="18370" y="13206"/>
                  <a:pt x="18504" y="13320"/>
                </a:cubicBezTo>
                <a:cubicBezTo>
                  <a:pt x="18512" y="13320"/>
                  <a:pt x="18521" y="13320"/>
                  <a:pt x="18529" y="133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Ink 8"/>
          <p:cNvSpPr/>
          <p:nvPr/>
        </p:nvSpPr>
        <p:spPr>
          <a:xfrm>
            <a:off x="6804000" y="4160880"/>
            <a:ext cx="403200" cy="420480"/>
          </a:xfrm>
          <a:custGeom>
            <a:avLst/>
            <a:gdLst/>
            <a:ahLst/>
            <a:rect l="l" t="t" r="r" b="b"/>
            <a:pathLst>
              <a:path w="1117" h="1167">
                <a:moveTo>
                  <a:pt x="19149" y="11807"/>
                </a:moveTo>
                <a:cubicBezTo>
                  <a:pt x="19289" y="12052"/>
                  <a:pt x="19407" y="12251"/>
                  <a:pt x="19571" y="12477"/>
                </a:cubicBezTo>
              </a:path>
              <a:path w="1117" h="1167">
                <a:moveTo>
                  <a:pt x="18901" y="11559"/>
                </a:moveTo>
                <a:cubicBezTo>
                  <a:pt x="19108" y="11766"/>
                  <a:pt x="19343" y="11970"/>
                  <a:pt x="19521" y="12204"/>
                </a:cubicBezTo>
                <a:cubicBezTo>
                  <a:pt x="19675" y="12407"/>
                  <a:pt x="19823" y="12559"/>
                  <a:pt x="20017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Ink 9"/>
          <p:cNvSpPr/>
          <p:nvPr/>
        </p:nvSpPr>
        <p:spPr>
          <a:xfrm>
            <a:off x="7126200" y="3867120"/>
            <a:ext cx="250920" cy="115920"/>
          </a:xfrm>
          <a:custGeom>
            <a:avLst/>
            <a:gdLst/>
            <a:ahLst/>
            <a:rect l="l" t="t" r="r" b="b"/>
            <a:pathLst>
              <a:path w="696" h="324">
                <a:moveTo>
                  <a:pt x="20017" y="10740"/>
                </a:moveTo>
                <a:cubicBezTo>
                  <a:pt x="20275" y="10912"/>
                  <a:pt x="20335" y="10951"/>
                  <a:pt x="20489" y="11063"/>
                </a:cubicBezTo>
              </a:path>
              <a:path w="696" h="324">
                <a:moveTo>
                  <a:pt x="19993" y="10914"/>
                </a:moveTo>
                <a:cubicBezTo>
                  <a:pt x="20042" y="10939"/>
                  <a:pt x="20059" y="10948"/>
                  <a:pt x="20092" y="10964"/>
                </a:cubicBezTo>
              </a:path>
              <a:path w="696" h="324">
                <a:moveTo>
                  <a:pt x="20241" y="10790"/>
                </a:moveTo>
                <a:cubicBezTo>
                  <a:pt x="20067" y="10768"/>
                  <a:pt x="19999" y="10725"/>
                  <a:pt x="19893" y="10864"/>
                </a:cubicBezTo>
                <a:cubicBezTo>
                  <a:pt x="19952" y="10938"/>
                  <a:pt x="19989" y="10983"/>
                  <a:pt x="20092" y="11013"/>
                </a:cubicBezTo>
                <a:cubicBezTo>
                  <a:pt x="20186" y="11040"/>
                  <a:pt x="20246" y="10982"/>
                  <a:pt x="20315" y="10939"/>
                </a:cubicBezTo>
                <a:cubicBezTo>
                  <a:pt x="20375" y="10902"/>
                  <a:pt x="20392" y="10919"/>
                  <a:pt x="20365" y="10864"/>
                </a:cubicBezTo>
                <a:cubicBezTo>
                  <a:pt x="20240" y="10836"/>
                  <a:pt x="20120" y="10825"/>
                  <a:pt x="19993" y="10864"/>
                </a:cubicBezTo>
                <a:cubicBezTo>
                  <a:pt x="19927" y="10889"/>
                  <a:pt x="19860" y="10914"/>
                  <a:pt x="19794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Ink 10"/>
          <p:cNvSpPr/>
          <p:nvPr/>
        </p:nvSpPr>
        <p:spPr>
          <a:xfrm>
            <a:off x="5946840" y="2160720"/>
            <a:ext cx="36360" cy="161640"/>
          </a:xfrm>
          <a:custGeom>
            <a:avLst/>
            <a:gdLst/>
            <a:ahLst/>
            <a:rect l="l" t="t" r="r" b="b"/>
            <a:pathLst>
              <a:path w="100" h="447">
                <a:moveTo>
                  <a:pt x="16594" y="6003"/>
                </a:moveTo>
                <a:cubicBezTo>
                  <a:pt x="16581" y="6112"/>
                  <a:pt x="16524" y="6323"/>
                  <a:pt x="16570" y="6424"/>
                </a:cubicBezTo>
                <a:cubicBezTo>
                  <a:pt x="16578" y="6432"/>
                  <a:pt x="16586" y="6441"/>
                  <a:pt x="16594" y="6449"/>
                </a:cubicBezTo>
              </a:path>
              <a:path w="100" h="447">
                <a:moveTo>
                  <a:pt x="16619" y="6152"/>
                </a:moveTo>
                <a:cubicBezTo>
                  <a:pt x="16611" y="6102"/>
                  <a:pt x="16602" y="6053"/>
                  <a:pt x="16594" y="6003"/>
                </a:cubicBezTo>
                <a:cubicBezTo>
                  <a:pt x="16556" y="6100"/>
                  <a:pt x="16503" y="6217"/>
                  <a:pt x="16520" y="6325"/>
                </a:cubicBezTo>
                <a:cubicBezTo>
                  <a:pt x="16547" y="6379"/>
                  <a:pt x="16558" y="6399"/>
                  <a:pt x="16594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Ink 11"/>
          <p:cNvSpPr/>
          <p:nvPr/>
        </p:nvSpPr>
        <p:spPr>
          <a:xfrm>
            <a:off x="5446800" y="222408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5131" y="6176"/>
                </a:moveTo>
                <a:cubicBezTo>
                  <a:pt x="15170" y="6302"/>
                  <a:pt x="15223" y="6437"/>
                  <a:pt x="15329" y="6524"/>
                </a:cubicBezTo>
                <a:cubicBezTo>
                  <a:pt x="15453" y="6606"/>
                  <a:pt x="15486" y="6615"/>
                  <a:pt x="15528" y="66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Ink 12"/>
          <p:cNvSpPr/>
          <p:nvPr/>
        </p:nvSpPr>
        <p:spPr>
          <a:xfrm>
            <a:off x="4786200" y="2152800"/>
            <a:ext cx="2608200" cy="2374920"/>
          </a:xfrm>
          <a:custGeom>
            <a:avLst/>
            <a:gdLst/>
            <a:ahLst/>
            <a:rect l="l" t="t" r="r" b="b"/>
            <a:pathLst>
              <a:path w="7244" h="6599">
                <a:moveTo>
                  <a:pt x="16098" y="5978"/>
                </a:moveTo>
                <a:cubicBezTo>
                  <a:pt x="15332" y="6099"/>
                  <a:pt x="14873" y="6441"/>
                  <a:pt x="14337" y="6995"/>
                </a:cubicBezTo>
                <a:cubicBezTo>
                  <a:pt x="14133" y="7206"/>
                  <a:pt x="13958" y="7458"/>
                  <a:pt x="13816" y="7714"/>
                </a:cubicBezTo>
                <a:cubicBezTo>
                  <a:pt x="13654" y="8006"/>
                  <a:pt x="13453" y="8371"/>
                  <a:pt x="13395" y="8706"/>
                </a:cubicBezTo>
                <a:cubicBezTo>
                  <a:pt x="13350" y="8962"/>
                  <a:pt x="13291" y="9241"/>
                  <a:pt x="13295" y="9500"/>
                </a:cubicBezTo>
                <a:cubicBezTo>
                  <a:pt x="13299" y="9751"/>
                  <a:pt x="13364" y="10032"/>
                  <a:pt x="13444" y="10269"/>
                </a:cubicBezTo>
                <a:cubicBezTo>
                  <a:pt x="13568" y="10639"/>
                  <a:pt x="13786" y="10967"/>
                  <a:pt x="14039" y="11261"/>
                </a:cubicBezTo>
                <a:cubicBezTo>
                  <a:pt x="14225" y="11478"/>
                  <a:pt x="14458" y="11660"/>
                  <a:pt x="14684" y="11832"/>
                </a:cubicBezTo>
                <a:cubicBezTo>
                  <a:pt x="14935" y="12023"/>
                  <a:pt x="15217" y="12134"/>
                  <a:pt x="15503" y="12254"/>
                </a:cubicBezTo>
                <a:cubicBezTo>
                  <a:pt x="15863" y="12405"/>
                  <a:pt x="16279" y="12518"/>
                  <a:pt x="16669" y="12551"/>
                </a:cubicBezTo>
                <a:cubicBezTo>
                  <a:pt x="17055" y="12584"/>
                  <a:pt x="17431" y="12600"/>
                  <a:pt x="17810" y="12526"/>
                </a:cubicBezTo>
                <a:cubicBezTo>
                  <a:pt x="18115" y="12467"/>
                  <a:pt x="18379" y="12360"/>
                  <a:pt x="18653" y="12229"/>
                </a:cubicBezTo>
                <a:cubicBezTo>
                  <a:pt x="18955" y="12085"/>
                  <a:pt x="19190" y="11949"/>
                  <a:pt x="19447" y="11733"/>
                </a:cubicBezTo>
                <a:cubicBezTo>
                  <a:pt x="19751" y="11477"/>
                  <a:pt x="19964" y="11174"/>
                  <a:pt x="20166" y="10840"/>
                </a:cubicBezTo>
                <a:cubicBezTo>
                  <a:pt x="20322" y="10581"/>
                  <a:pt x="20450" y="10270"/>
                  <a:pt x="20513" y="9971"/>
                </a:cubicBezTo>
                <a:cubicBezTo>
                  <a:pt x="20575" y="9676"/>
                  <a:pt x="20541" y="9350"/>
                  <a:pt x="20513" y="9054"/>
                </a:cubicBezTo>
                <a:cubicBezTo>
                  <a:pt x="20484" y="8752"/>
                  <a:pt x="20404" y="8440"/>
                  <a:pt x="20290" y="8161"/>
                </a:cubicBezTo>
                <a:cubicBezTo>
                  <a:pt x="20139" y="7791"/>
                  <a:pt x="19903" y="7423"/>
                  <a:pt x="19645" y="7119"/>
                </a:cubicBezTo>
                <a:cubicBezTo>
                  <a:pt x="19426" y="6861"/>
                  <a:pt x="19165" y="6670"/>
                  <a:pt x="18876" y="6499"/>
                </a:cubicBezTo>
                <a:cubicBezTo>
                  <a:pt x="18589" y="6330"/>
                  <a:pt x="18306" y="6190"/>
                  <a:pt x="17983" y="6102"/>
                </a:cubicBezTo>
                <a:cubicBezTo>
                  <a:pt x="17701" y="6025"/>
                  <a:pt x="17334" y="5967"/>
                  <a:pt x="17041" y="6003"/>
                </a:cubicBezTo>
                <a:cubicBezTo>
                  <a:pt x="16689" y="6047"/>
                  <a:pt x="16376" y="6103"/>
                  <a:pt x="16073" y="6276"/>
                </a:cubicBezTo>
                <a:cubicBezTo>
                  <a:pt x="16024" y="6317"/>
                  <a:pt x="15974" y="6359"/>
                  <a:pt x="15925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s of Trigonometric Func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 be a real number and let (x,y) be the point on the unit circle corresponding to 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 t =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 t =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 t = y/x, 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≠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t t = x/y. y ≠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c t = 1/x, x ≠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sc t = 1/y, y ≠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Ink 4"/>
          <p:cNvSpPr/>
          <p:nvPr/>
        </p:nvSpPr>
        <p:spPr>
          <a:xfrm>
            <a:off x="115920" y="1955880"/>
            <a:ext cx="546120" cy="4232160"/>
          </a:xfrm>
          <a:custGeom>
            <a:avLst/>
            <a:gdLst/>
            <a:ahLst/>
            <a:rect l="l" t="t" r="r" b="b"/>
            <a:pathLst>
              <a:path w="1515" h="11759">
                <a:moveTo>
                  <a:pt x="1811" y="5655"/>
                </a:moveTo>
                <a:cubicBezTo>
                  <a:pt x="1763" y="5617"/>
                  <a:pt x="1855" y="5526"/>
                  <a:pt x="1662" y="5482"/>
                </a:cubicBezTo>
                <a:cubicBezTo>
                  <a:pt x="1441" y="5431"/>
                  <a:pt x="992" y="5544"/>
                  <a:pt x="819" y="5680"/>
                </a:cubicBezTo>
                <a:cubicBezTo>
                  <a:pt x="723" y="5756"/>
                  <a:pt x="674" y="5836"/>
                  <a:pt x="645" y="5953"/>
                </a:cubicBezTo>
                <a:cubicBezTo>
                  <a:pt x="604" y="6119"/>
                  <a:pt x="634" y="6306"/>
                  <a:pt x="670" y="6474"/>
                </a:cubicBezTo>
                <a:cubicBezTo>
                  <a:pt x="732" y="6761"/>
                  <a:pt x="821" y="7023"/>
                  <a:pt x="868" y="7317"/>
                </a:cubicBezTo>
                <a:cubicBezTo>
                  <a:pt x="917" y="7620"/>
                  <a:pt x="955" y="7929"/>
                  <a:pt x="967" y="8235"/>
                </a:cubicBezTo>
                <a:cubicBezTo>
                  <a:pt x="1001" y="9096"/>
                  <a:pt x="986" y="9980"/>
                  <a:pt x="943" y="10840"/>
                </a:cubicBezTo>
                <a:cubicBezTo>
                  <a:pt x="915" y="11410"/>
                  <a:pt x="926" y="11982"/>
                  <a:pt x="893" y="12551"/>
                </a:cubicBezTo>
                <a:cubicBezTo>
                  <a:pt x="820" y="13818"/>
                  <a:pt x="612" y="15046"/>
                  <a:pt x="446" y="16297"/>
                </a:cubicBezTo>
                <a:cubicBezTo>
                  <a:pt x="421" y="16485"/>
                  <a:pt x="331" y="16679"/>
                  <a:pt x="322" y="16867"/>
                </a:cubicBezTo>
                <a:cubicBezTo>
                  <a:pt x="318" y="16950"/>
                  <a:pt x="302" y="17075"/>
                  <a:pt x="372" y="17140"/>
                </a:cubicBezTo>
                <a:cubicBezTo>
                  <a:pt x="452" y="17214"/>
                  <a:pt x="721" y="17164"/>
                  <a:pt x="819" y="17165"/>
                </a:cubicBezTo>
                <a:cubicBezTo>
                  <a:pt x="1092" y="17168"/>
                  <a:pt x="1373" y="17175"/>
                  <a:pt x="1637" y="17190"/>
                </a:cubicBezTo>
                <a:cubicBezTo>
                  <a:pt x="1654" y="17190"/>
                  <a:pt x="1670" y="17190"/>
                  <a:pt x="1687" y="17190"/>
                </a:cubicBezTo>
                <a:cubicBezTo>
                  <a:pt x="1583" y="17170"/>
                  <a:pt x="1472" y="17134"/>
                  <a:pt x="1364" y="17115"/>
                </a:cubicBezTo>
                <a:cubicBezTo>
                  <a:pt x="1204" y="17087"/>
                  <a:pt x="1022" y="17096"/>
                  <a:pt x="868" y="17041"/>
                </a:cubicBezTo>
                <a:cubicBezTo>
                  <a:pt x="761" y="17003"/>
                  <a:pt x="702" y="16937"/>
                  <a:pt x="620" y="16867"/>
                </a:cubicBezTo>
                <a:cubicBezTo>
                  <a:pt x="492" y="16757"/>
                  <a:pt x="509" y="16691"/>
                  <a:pt x="446" y="16545"/>
                </a:cubicBezTo>
                <a:cubicBezTo>
                  <a:pt x="334" y="16284"/>
                  <a:pt x="311" y="16032"/>
                  <a:pt x="322" y="15751"/>
                </a:cubicBezTo>
                <a:cubicBezTo>
                  <a:pt x="333" y="15452"/>
                  <a:pt x="385" y="15150"/>
                  <a:pt x="446" y="14858"/>
                </a:cubicBezTo>
                <a:cubicBezTo>
                  <a:pt x="525" y="14480"/>
                  <a:pt x="570" y="14097"/>
                  <a:pt x="645" y="13717"/>
                </a:cubicBezTo>
                <a:cubicBezTo>
                  <a:pt x="745" y="13208"/>
                  <a:pt x="745" y="12691"/>
                  <a:pt x="819" y="12179"/>
                </a:cubicBezTo>
                <a:cubicBezTo>
                  <a:pt x="870" y="11827"/>
                  <a:pt x="896" y="11491"/>
                  <a:pt x="918" y="11137"/>
                </a:cubicBezTo>
                <a:cubicBezTo>
                  <a:pt x="950" y="10613"/>
                  <a:pt x="932" y="10100"/>
                  <a:pt x="918" y="9575"/>
                </a:cubicBezTo>
                <a:cubicBezTo>
                  <a:pt x="906" y="9105"/>
                  <a:pt x="808" y="8630"/>
                  <a:pt x="819" y="8161"/>
                </a:cubicBezTo>
                <a:cubicBezTo>
                  <a:pt x="833" y="7562"/>
                  <a:pt x="888" y="6944"/>
                  <a:pt x="843" y="6350"/>
                </a:cubicBezTo>
                <a:cubicBezTo>
                  <a:pt x="831" y="6189"/>
                  <a:pt x="783" y="6037"/>
                  <a:pt x="769" y="5879"/>
                </a:cubicBezTo>
                <a:cubicBezTo>
                  <a:pt x="763" y="5808"/>
                  <a:pt x="707" y="5748"/>
                  <a:pt x="769" y="5680"/>
                </a:cubicBezTo>
                <a:cubicBezTo>
                  <a:pt x="888" y="5550"/>
                  <a:pt x="1045" y="5532"/>
                  <a:pt x="1215" y="5482"/>
                </a:cubicBezTo>
                <a:cubicBezTo>
                  <a:pt x="1321" y="5450"/>
                  <a:pt x="1499" y="5438"/>
                  <a:pt x="1612" y="5432"/>
                </a:cubicBezTo>
                <a:cubicBezTo>
                  <a:pt x="1678" y="5428"/>
                  <a:pt x="1745" y="5438"/>
                  <a:pt x="1811" y="5432"/>
                </a:cubicBezTo>
                <a:cubicBezTo>
                  <a:pt x="1605" y="5485"/>
                  <a:pt x="1399" y="5540"/>
                  <a:pt x="1191" y="5581"/>
                </a:cubicBezTo>
                <a:cubicBezTo>
                  <a:pt x="1058" y="5607"/>
                  <a:pt x="926" y="5614"/>
                  <a:pt x="794" y="5631"/>
                </a:cubicBezTo>
                <a:cubicBezTo>
                  <a:pt x="935" y="5597"/>
                  <a:pt x="1074" y="5563"/>
                  <a:pt x="1215" y="5531"/>
                </a:cubicBezTo>
                <a:cubicBezTo>
                  <a:pt x="1253" y="5522"/>
                  <a:pt x="1547" y="5428"/>
                  <a:pt x="1414" y="5531"/>
                </a:cubicBezTo>
                <a:cubicBezTo>
                  <a:pt x="1264" y="5647"/>
                  <a:pt x="1010" y="5628"/>
                  <a:pt x="843" y="5730"/>
                </a:cubicBezTo>
                <a:cubicBezTo>
                  <a:pt x="766" y="5777"/>
                  <a:pt x="586" y="5837"/>
                  <a:pt x="744" y="5953"/>
                </a:cubicBezTo>
                <a:cubicBezTo>
                  <a:pt x="865" y="5993"/>
                  <a:pt x="938" y="6007"/>
                  <a:pt x="1042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 your unit circle to evaluate each trig fun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an –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sc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t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Ink 4"/>
          <p:cNvSpPr/>
          <p:nvPr/>
        </p:nvSpPr>
        <p:spPr>
          <a:xfrm>
            <a:off x="2384280" y="1938240"/>
            <a:ext cx="1670040" cy="2313000"/>
          </a:xfrm>
          <a:custGeom>
            <a:avLst/>
            <a:gdLst/>
            <a:ahLst/>
            <a:rect l="l" t="t" r="r" b="b"/>
            <a:pathLst>
              <a:path w="4639" h="6425">
                <a:moveTo>
                  <a:pt x="6623" y="6127"/>
                </a:moveTo>
                <a:cubicBezTo>
                  <a:pt x="6690" y="6161"/>
                  <a:pt x="6765" y="6152"/>
                  <a:pt x="6846" y="6152"/>
                </a:cubicBezTo>
                <a:cubicBezTo>
                  <a:pt x="6972" y="6152"/>
                  <a:pt x="7071" y="6142"/>
                  <a:pt x="7193" y="6127"/>
                </a:cubicBezTo>
                <a:cubicBezTo>
                  <a:pt x="7228" y="6123"/>
                  <a:pt x="7417" y="6127"/>
                  <a:pt x="7367" y="6127"/>
                </a:cubicBezTo>
              </a:path>
              <a:path w="4639" h="6425">
                <a:moveTo>
                  <a:pt x="6722" y="6350"/>
                </a:moveTo>
                <a:cubicBezTo>
                  <a:pt x="6916" y="6350"/>
                  <a:pt x="7293" y="6569"/>
                  <a:pt x="7293" y="6375"/>
                </a:cubicBezTo>
                <a:cubicBezTo>
                  <a:pt x="7285" y="6367"/>
                  <a:pt x="7276" y="6358"/>
                  <a:pt x="7268" y="6350"/>
                </a:cubicBezTo>
              </a:path>
              <a:path w="4639" h="6425">
                <a:moveTo>
                  <a:pt x="8359" y="5383"/>
                </a:moveTo>
                <a:cubicBezTo>
                  <a:pt x="8359" y="5521"/>
                  <a:pt x="8362" y="5649"/>
                  <a:pt x="8384" y="5779"/>
                </a:cubicBezTo>
                <a:cubicBezTo>
                  <a:pt x="8395" y="5843"/>
                  <a:pt x="8400" y="5981"/>
                  <a:pt x="8359" y="6003"/>
                </a:cubicBezTo>
                <a:cubicBezTo>
                  <a:pt x="8343" y="6011"/>
                  <a:pt x="8326" y="6020"/>
                  <a:pt x="8310" y="6028"/>
                </a:cubicBezTo>
              </a:path>
              <a:path w="4639" h="6425">
                <a:moveTo>
                  <a:pt x="7888" y="6028"/>
                </a:moveTo>
                <a:cubicBezTo>
                  <a:pt x="8212" y="6028"/>
                  <a:pt x="8954" y="5743"/>
                  <a:pt x="8855" y="6052"/>
                </a:cubicBezTo>
                <a:cubicBezTo>
                  <a:pt x="8839" y="6052"/>
                  <a:pt x="8822" y="6052"/>
                  <a:pt x="8806" y="6052"/>
                </a:cubicBezTo>
              </a:path>
              <a:path w="4639" h="6425">
                <a:moveTo>
                  <a:pt x="8086" y="6350"/>
                </a:moveTo>
                <a:cubicBezTo>
                  <a:pt x="8127" y="6309"/>
                  <a:pt x="8158" y="6279"/>
                  <a:pt x="8210" y="6251"/>
                </a:cubicBezTo>
                <a:cubicBezTo>
                  <a:pt x="8286" y="6211"/>
                  <a:pt x="8373" y="6204"/>
                  <a:pt x="8458" y="6201"/>
                </a:cubicBezTo>
                <a:cubicBezTo>
                  <a:pt x="8550" y="6198"/>
                  <a:pt x="8645" y="6202"/>
                  <a:pt x="8657" y="6300"/>
                </a:cubicBezTo>
                <a:cubicBezTo>
                  <a:pt x="8667" y="6388"/>
                  <a:pt x="8607" y="6480"/>
                  <a:pt x="8558" y="6548"/>
                </a:cubicBezTo>
                <a:cubicBezTo>
                  <a:pt x="8520" y="6601"/>
                  <a:pt x="8414" y="6682"/>
                  <a:pt x="8359" y="6722"/>
                </a:cubicBezTo>
                <a:cubicBezTo>
                  <a:pt x="8313" y="6756"/>
                  <a:pt x="8203" y="6809"/>
                  <a:pt x="8186" y="6871"/>
                </a:cubicBezTo>
                <a:cubicBezTo>
                  <a:pt x="8186" y="6888"/>
                  <a:pt x="8186" y="6904"/>
                  <a:pt x="8186" y="6921"/>
                </a:cubicBezTo>
                <a:cubicBezTo>
                  <a:pt x="8340" y="6921"/>
                  <a:pt x="8695" y="6851"/>
                  <a:pt x="8806" y="6896"/>
                </a:cubicBezTo>
                <a:cubicBezTo>
                  <a:pt x="8806" y="6904"/>
                  <a:pt x="8806" y="6913"/>
                  <a:pt x="8806" y="6921"/>
                </a:cubicBezTo>
              </a:path>
              <a:path w="4639" h="6425">
                <a:moveTo>
                  <a:pt x="7119" y="7987"/>
                </a:moveTo>
                <a:cubicBezTo>
                  <a:pt x="7209" y="7967"/>
                  <a:pt x="7305" y="7951"/>
                  <a:pt x="7392" y="7938"/>
                </a:cubicBezTo>
                <a:cubicBezTo>
                  <a:pt x="7461" y="7927"/>
                  <a:pt x="7507" y="7949"/>
                  <a:pt x="7565" y="7913"/>
                </a:cubicBezTo>
              </a:path>
              <a:path w="4639" h="6425">
                <a:moveTo>
                  <a:pt x="7119" y="8186"/>
                </a:moveTo>
                <a:cubicBezTo>
                  <a:pt x="7288" y="8186"/>
                  <a:pt x="7451" y="8188"/>
                  <a:pt x="7615" y="8210"/>
                </a:cubicBezTo>
                <a:cubicBezTo>
                  <a:pt x="7660" y="8210"/>
                  <a:pt x="7673" y="8214"/>
                  <a:pt x="7689" y="8186"/>
                </a:cubicBezTo>
              </a:path>
              <a:path w="4639" h="6425">
                <a:moveTo>
                  <a:pt x="8682" y="7491"/>
                </a:moveTo>
                <a:cubicBezTo>
                  <a:pt x="8570" y="7532"/>
                  <a:pt x="8567" y="7544"/>
                  <a:pt x="8508" y="7640"/>
                </a:cubicBezTo>
                <a:cubicBezTo>
                  <a:pt x="8460" y="7717"/>
                  <a:pt x="8398" y="7820"/>
                  <a:pt x="8384" y="7913"/>
                </a:cubicBezTo>
                <a:cubicBezTo>
                  <a:pt x="8374" y="7979"/>
                  <a:pt x="8422" y="8106"/>
                  <a:pt x="8458" y="8161"/>
                </a:cubicBezTo>
                <a:cubicBezTo>
                  <a:pt x="8514" y="8245"/>
                  <a:pt x="8608" y="8325"/>
                  <a:pt x="8706" y="8359"/>
                </a:cubicBezTo>
                <a:cubicBezTo>
                  <a:pt x="8779" y="8384"/>
                  <a:pt x="8986" y="8371"/>
                  <a:pt x="9054" y="8334"/>
                </a:cubicBezTo>
                <a:cubicBezTo>
                  <a:pt x="9096" y="8311"/>
                  <a:pt x="9202" y="8232"/>
                  <a:pt x="9227" y="8186"/>
                </a:cubicBezTo>
                <a:cubicBezTo>
                  <a:pt x="9285" y="8079"/>
                  <a:pt x="9301" y="7952"/>
                  <a:pt x="9252" y="7838"/>
                </a:cubicBezTo>
                <a:cubicBezTo>
                  <a:pt x="9221" y="7765"/>
                  <a:pt x="9155" y="7619"/>
                  <a:pt x="9103" y="7565"/>
                </a:cubicBezTo>
                <a:cubicBezTo>
                  <a:pt x="9043" y="7502"/>
                  <a:pt x="8910" y="7429"/>
                  <a:pt x="8830" y="7392"/>
                </a:cubicBezTo>
                <a:cubicBezTo>
                  <a:pt x="8734" y="7348"/>
                  <a:pt x="8643" y="7359"/>
                  <a:pt x="8558" y="7417"/>
                </a:cubicBezTo>
                <a:cubicBezTo>
                  <a:pt x="8518" y="7444"/>
                  <a:pt x="8482" y="7528"/>
                  <a:pt x="8458" y="7565"/>
                </a:cubicBezTo>
              </a:path>
              <a:path w="4639" h="6425">
                <a:moveTo>
                  <a:pt x="7888" y="9599"/>
                </a:moveTo>
                <a:cubicBezTo>
                  <a:pt x="8004" y="9599"/>
                  <a:pt x="8119" y="9599"/>
                  <a:pt x="8235" y="9599"/>
                </a:cubicBezTo>
              </a:path>
              <a:path w="4639" h="6425">
                <a:moveTo>
                  <a:pt x="7987" y="9847"/>
                </a:moveTo>
                <a:cubicBezTo>
                  <a:pt x="8103" y="9878"/>
                  <a:pt x="8191" y="9897"/>
                  <a:pt x="8310" y="9897"/>
                </a:cubicBezTo>
                <a:cubicBezTo>
                  <a:pt x="8335" y="9897"/>
                  <a:pt x="8359" y="9897"/>
                  <a:pt x="8384" y="9897"/>
                </a:cubicBezTo>
              </a:path>
              <a:path w="4639" h="6425">
                <a:moveTo>
                  <a:pt x="9128" y="9277"/>
                </a:moveTo>
                <a:cubicBezTo>
                  <a:pt x="9264" y="9277"/>
                  <a:pt x="9394" y="9269"/>
                  <a:pt x="9525" y="9302"/>
                </a:cubicBezTo>
              </a:path>
              <a:path w="4639" h="6425">
                <a:moveTo>
                  <a:pt x="9897" y="9029"/>
                </a:moveTo>
                <a:cubicBezTo>
                  <a:pt x="9897" y="9174"/>
                  <a:pt x="9855" y="9392"/>
                  <a:pt x="9922" y="9525"/>
                </a:cubicBezTo>
                <a:cubicBezTo>
                  <a:pt x="9963" y="9607"/>
                  <a:pt x="9877" y="9402"/>
                  <a:pt x="9872" y="9376"/>
                </a:cubicBezTo>
                <a:cubicBezTo>
                  <a:pt x="9860" y="9312"/>
                  <a:pt x="9857" y="9240"/>
                  <a:pt x="9847" y="9178"/>
                </a:cubicBezTo>
                <a:cubicBezTo>
                  <a:pt x="9831" y="9084"/>
                  <a:pt x="9861" y="8991"/>
                  <a:pt x="9872" y="8905"/>
                </a:cubicBezTo>
                <a:cubicBezTo>
                  <a:pt x="9889" y="8768"/>
                  <a:pt x="9895" y="8844"/>
                  <a:pt x="9996" y="8781"/>
                </a:cubicBezTo>
                <a:cubicBezTo>
                  <a:pt x="10044" y="8751"/>
                  <a:pt x="10134" y="8740"/>
                  <a:pt x="10195" y="8731"/>
                </a:cubicBezTo>
                <a:cubicBezTo>
                  <a:pt x="10283" y="8718"/>
                  <a:pt x="10399" y="8739"/>
                  <a:pt x="10468" y="8781"/>
                </a:cubicBezTo>
              </a:path>
              <a:path w="4639" h="6425">
                <a:moveTo>
                  <a:pt x="10195" y="9029"/>
                </a:moveTo>
                <a:cubicBezTo>
                  <a:pt x="10270" y="9029"/>
                  <a:pt x="10386" y="9005"/>
                  <a:pt x="10443" y="9054"/>
                </a:cubicBezTo>
                <a:cubicBezTo>
                  <a:pt x="10521" y="9122"/>
                  <a:pt x="10462" y="9131"/>
                  <a:pt x="10418" y="9203"/>
                </a:cubicBezTo>
                <a:cubicBezTo>
                  <a:pt x="10369" y="9283"/>
                  <a:pt x="10315" y="9320"/>
                  <a:pt x="10244" y="9376"/>
                </a:cubicBezTo>
                <a:cubicBezTo>
                  <a:pt x="10236" y="9384"/>
                  <a:pt x="10228" y="9393"/>
                  <a:pt x="10220" y="9401"/>
                </a:cubicBezTo>
                <a:cubicBezTo>
                  <a:pt x="10279" y="9461"/>
                  <a:pt x="10305" y="9472"/>
                  <a:pt x="10393" y="9475"/>
                </a:cubicBezTo>
                <a:cubicBezTo>
                  <a:pt x="10467" y="9478"/>
                  <a:pt x="10542" y="9475"/>
                  <a:pt x="10616" y="9475"/>
                </a:cubicBezTo>
              </a:path>
              <a:path w="4639" h="6425">
                <a:moveTo>
                  <a:pt x="9897" y="9649"/>
                </a:moveTo>
                <a:cubicBezTo>
                  <a:pt x="10018" y="9614"/>
                  <a:pt x="10093" y="9599"/>
                  <a:pt x="10220" y="9599"/>
                </a:cubicBezTo>
                <a:cubicBezTo>
                  <a:pt x="10332" y="9599"/>
                  <a:pt x="10485" y="9598"/>
                  <a:pt x="10592" y="9624"/>
                </a:cubicBezTo>
                <a:cubicBezTo>
                  <a:pt x="10614" y="9647"/>
                  <a:pt x="10619" y="9655"/>
                  <a:pt x="10641" y="9649"/>
                </a:cubicBezTo>
              </a:path>
              <a:path w="4639" h="6425">
                <a:moveTo>
                  <a:pt x="10269" y="9748"/>
                </a:moveTo>
                <a:cubicBezTo>
                  <a:pt x="10350" y="9748"/>
                  <a:pt x="10418" y="9741"/>
                  <a:pt x="10492" y="9773"/>
                </a:cubicBezTo>
                <a:cubicBezTo>
                  <a:pt x="10509" y="9781"/>
                  <a:pt x="10525" y="9790"/>
                  <a:pt x="10542" y="9798"/>
                </a:cubicBezTo>
                <a:cubicBezTo>
                  <a:pt x="10531" y="9873"/>
                  <a:pt x="10500" y="9890"/>
                  <a:pt x="10443" y="9947"/>
                </a:cubicBezTo>
                <a:cubicBezTo>
                  <a:pt x="10390" y="9999"/>
                  <a:pt x="10328" y="10029"/>
                  <a:pt x="10269" y="10071"/>
                </a:cubicBezTo>
                <a:cubicBezTo>
                  <a:pt x="10337" y="10105"/>
                  <a:pt x="10411" y="10096"/>
                  <a:pt x="10492" y="10096"/>
                </a:cubicBezTo>
                <a:cubicBezTo>
                  <a:pt x="10583" y="10096"/>
                  <a:pt x="10674" y="10096"/>
                  <a:pt x="10765" y="10096"/>
                </a:cubicBezTo>
              </a:path>
              <a:path w="4639" h="6425">
                <a:moveTo>
                  <a:pt x="9401" y="10244"/>
                </a:moveTo>
                <a:cubicBezTo>
                  <a:pt x="9480" y="10284"/>
                  <a:pt x="9559" y="10252"/>
                  <a:pt x="9649" y="10269"/>
                </a:cubicBezTo>
                <a:cubicBezTo>
                  <a:pt x="9782" y="10294"/>
                  <a:pt x="9909" y="10294"/>
                  <a:pt x="10046" y="10294"/>
                </a:cubicBezTo>
                <a:cubicBezTo>
                  <a:pt x="10416" y="10294"/>
                  <a:pt x="10955" y="10294"/>
                  <a:pt x="11237" y="10294"/>
                </a:cubicBezTo>
              </a:path>
              <a:path w="4639" h="6425">
                <a:moveTo>
                  <a:pt x="10195" y="10716"/>
                </a:moveTo>
                <a:cubicBezTo>
                  <a:pt x="10201" y="10759"/>
                  <a:pt x="10197" y="10976"/>
                  <a:pt x="10220" y="11038"/>
                </a:cubicBezTo>
                <a:cubicBezTo>
                  <a:pt x="10247" y="11066"/>
                  <a:pt x="10255" y="11080"/>
                  <a:pt x="10244" y="11112"/>
                </a:cubicBezTo>
                <a:cubicBezTo>
                  <a:pt x="10219" y="11042"/>
                  <a:pt x="10220" y="10989"/>
                  <a:pt x="10220" y="10914"/>
                </a:cubicBezTo>
                <a:cubicBezTo>
                  <a:pt x="10220" y="10800"/>
                  <a:pt x="10200" y="10671"/>
                  <a:pt x="10244" y="10567"/>
                </a:cubicBezTo>
                <a:cubicBezTo>
                  <a:pt x="10278" y="10486"/>
                  <a:pt x="10388" y="10454"/>
                  <a:pt x="10468" y="10443"/>
                </a:cubicBezTo>
                <a:cubicBezTo>
                  <a:pt x="10547" y="10433"/>
                  <a:pt x="10636" y="10443"/>
                  <a:pt x="10716" y="10443"/>
                </a:cubicBezTo>
              </a:path>
              <a:path w="4639" h="6425">
                <a:moveTo>
                  <a:pt x="10443" y="10616"/>
                </a:moveTo>
                <a:cubicBezTo>
                  <a:pt x="10537" y="10608"/>
                  <a:pt x="10644" y="10571"/>
                  <a:pt x="10740" y="10592"/>
                </a:cubicBezTo>
                <a:cubicBezTo>
                  <a:pt x="10757" y="10600"/>
                  <a:pt x="10773" y="10608"/>
                  <a:pt x="10790" y="10616"/>
                </a:cubicBezTo>
                <a:cubicBezTo>
                  <a:pt x="10779" y="10703"/>
                  <a:pt x="10753" y="10750"/>
                  <a:pt x="10691" y="10815"/>
                </a:cubicBezTo>
                <a:cubicBezTo>
                  <a:pt x="10625" y="10885"/>
                  <a:pt x="10564" y="10924"/>
                  <a:pt x="10542" y="11013"/>
                </a:cubicBezTo>
                <a:cubicBezTo>
                  <a:pt x="10601" y="11049"/>
                  <a:pt x="10666" y="11060"/>
                  <a:pt x="10740" y="11063"/>
                </a:cubicBezTo>
                <a:cubicBezTo>
                  <a:pt x="10822" y="11066"/>
                  <a:pt x="10906" y="11063"/>
                  <a:pt x="10988" y="11063"/>
                </a:cubicBezTo>
              </a:path>
              <a:path w="4639" h="6425">
                <a:moveTo>
                  <a:pt x="10244" y="11162"/>
                </a:moveTo>
                <a:cubicBezTo>
                  <a:pt x="10382" y="11116"/>
                  <a:pt x="10490" y="11096"/>
                  <a:pt x="10641" y="11112"/>
                </a:cubicBezTo>
                <a:cubicBezTo>
                  <a:pt x="10727" y="11121"/>
                  <a:pt x="10908" y="11135"/>
                  <a:pt x="10988" y="11162"/>
                </a:cubicBezTo>
                <a:cubicBezTo>
                  <a:pt x="10996" y="11170"/>
                  <a:pt x="11005" y="11179"/>
                  <a:pt x="11013" y="11187"/>
                </a:cubicBezTo>
              </a:path>
              <a:path w="4639" h="6425">
                <a:moveTo>
                  <a:pt x="10517" y="11311"/>
                </a:moveTo>
                <a:cubicBezTo>
                  <a:pt x="10601" y="11283"/>
                  <a:pt x="10658" y="11274"/>
                  <a:pt x="10740" y="11311"/>
                </a:cubicBezTo>
                <a:cubicBezTo>
                  <a:pt x="10830" y="11351"/>
                  <a:pt x="10840" y="11419"/>
                  <a:pt x="10790" y="11509"/>
                </a:cubicBezTo>
                <a:cubicBezTo>
                  <a:pt x="10757" y="11569"/>
                  <a:pt x="10623" y="11632"/>
                  <a:pt x="10641" y="11708"/>
                </a:cubicBezTo>
                <a:cubicBezTo>
                  <a:pt x="10660" y="11787"/>
                  <a:pt x="10777" y="11800"/>
                  <a:pt x="10840" y="11807"/>
                </a:cubicBezTo>
                <a:cubicBezTo>
                  <a:pt x="10949" y="11818"/>
                  <a:pt x="11082" y="11816"/>
                  <a:pt x="11187" y="11782"/>
                </a:cubicBezTo>
                <a:cubicBezTo>
                  <a:pt x="11204" y="11774"/>
                  <a:pt x="11220" y="11765"/>
                  <a:pt x="11237" y="117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Ink 5"/>
          <p:cNvSpPr/>
          <p:nvPr/>
        </p:nvSpPr>
        <p:spPr>
          <a:xfrm>
            <a:off x="2446200" y="3687840"/>
            <a:ext cx="1046160" cy="635040"/>
          </a:xfrm>
          <a:custGeom>
            <a:avLst/>
            <a:gdLst/>
            <a:ahLst/>
            <a:rect l="l" t="t" r="r" b="b"/>
            <a:pathLst>
              <a:path w="2904" h="1762">
                <a:moveTo>
                  <a:pt x="7193" y="10244"/>
                </a:moveTo>
                <a:cubicBezTo>
                  <a:pt x="7193" y="10366"/>
                  <a:pt x="7201" y="10474"/>
                  <a:pt x="7218" y="10592"/>
                </a:cubicBezTo>
                <a:cubicBezTo>
                  <a:pt x="7228" y="10658"/>
                  <a:pt x="7224" y="10697"/>
                  <a:pt x="7243" y="10765"/>
                </a:cubicBezTo>
              </a:path>
              <a:path w="2904" h="1762">
                <a:moveTo>
                  <a:pt x="6796" y="10840"/>
                </a:moveTo>
                <a:cubicBezTo>
                  <a:pt x="6925" y="10840"/>
                  <a:pt x="7044" y="10848"/>
                  <a:pt x="7169" y="10864"/>
                </a:cubicBezTo>
                <a:cubicBezTo>
                  <a:pt x="7285" y="10879"/>
                  <a:pt x="7401" y="10872"/>
                  <a:pt x="7516" y="10889"/>
                </a:cubicBezTo>
                <a:cubicBezTo>
                  <a:pt x="7583" y="10899"/>
                  <a:pt x="7650" y="10903"/>
                  <a:pt x="7714" y="10914"/>
                </a:cubicBezTo>
                <a:cubicBezTo>
                  <a:pt x="7759" y="10914"/>
                  <a:pt x="7772" y="10911"/>
                  <a:pt x="7789" y="10939"/>
                </a:cubicBezTo>
              </a:path>
              <a:path w="2904" h="1762">
                <a:moveTo>
                  <a:pt x="7218" y="11088"/>
                </a:moveTo>
                <a:cubicBezTo>
                  <a:pt x="7234" y="11185"/>
                  <a:pt x="7243" y="11264"/>
                  <a:pt x="7243" y="11361"/>
                </a:cubicBezTo>
              </a:path>
              <a:path w="2904" h="1762">
                <a:moveTo>
                  <a:pt x="6995" y="11385"/>
                </a:moveTo>
                <a:cubicBezTo>
                  <a:pt x="7076" y="11385"/>
                  <a:pt x="7141" y="11406"/>
                  <a:pt x="7218" y="11410"/>
                </a:cubicBezTo>
                <a:cubicBezTo>
                  <a:pt x="7309" y="11415"/>
                  <a:pt x="7381" y="11415"/>
                  <a:pt x="7466" y="11435"/>
                </a:cubicBezTo>
                <a:cubicBezTo>
                  <a:pt x="7474" y="11435"/>
                  <a:pt x="7483" y="11435"/>
                  <a:pt x="7491" y="11435"/>
                </a:cubicBezTo>
              </a:path>
              <a:path w="2904" h="1762">
                <a:moveTo>
                  <a:pt x="7193" y="11633"/>
                </a:moveTo>
                <a:cubicBezTo>
                  <a:pt x="7263" y="11625"/>
                  <a:pt x="7319" y="11609"/>
                  <a:pt x="7392" y="11609"/>
                </a:cubicBezTo>
                <a:cubicBezTo>
                  <a:pt x="7485" y="11609"/>
                  <a:pt x="7472" y="11674"/>
                  <a:pt x="7441" y="11733"/>
                </a:cubicBezTo>
                <a:cubicBezTo>
                  <a:pt x="7415" y="11782"/>
                  <a:pt x="7385" y="11869"/>
                  <a:pt x="7342" y="11906"/>
                </a:cubicBezTo>
                <a:cubicBezTo>
                  <a:pt x="7317" y="11928"/>
                  <a:pt x="7233" y="12001"/>
                  <a:pt x="7268" y="11931"/>
                </a:cubicBezTo>
                <a:cubicBezTo>
                  <a:pt x="7335" y="11931"/>
                  <a:pt x="7405" y="11935"/>
                  <a:pt x="7466" y="11956"/>
                </a:cubicBezTo>
                <a:cubicBezTo>
                  <a:pt x="7546" y="11983"/>
                  <a:pt x="7627" y="12001"/>
                  <a:pt x="7714" y="12005"/>
                </a:cubicBezTo>
                <a:cubicBezTo>
                  <a:pt x="7731" y="12005"/>
                  <a:pt x="7747" y="12005"/>
                  <a:pt x="7764" y="12005"/>
                </a:cubicBezTo>
              </a:path>
              <a:path w="2904" h="1762">
                <a:moveTo>
                  <a:pt x="8235" y="11112"/>
                </a:moveTo>
                <a:cubicBezTo>
                  <a:pt x="8314" y="11091"/>
                  <a:pt x="8352" y="11088"/>
                  <a:pt x="8434" y="11088"/>
                </a:cubicBezTo>
              </a:path>
              <a:path w="2904" h="1762">
                <a:moveTo>
                  <a:pt x="8285" y="11261"/>
                </a:moveTo>
                <a:cubicBezTo>
                  <a:pt x="8366" y="11308"/>
                  <a:pt x="8411" y="11328"/>
                  <a:pt x="8508" y="11336"/>
                </a:cubicBezTo>
              </a:path>
              <a:path w="2904" h="1762">
                <a:moveTo>
                  <a:pt x="8930" y="10840"/>
                </a:moveTo>
                <a:cubicBezTo>
                  <a:pt x="8970" y="10799"/>
                  <a:pt x="9014" y="10725"/>
                  <a:pt x="9079" y="10740"/>
                </a:cubicBezTo>
                <a:cubicBezTo>
                  <a:pt x="9138" y="10754"/>
                  <a:pt x="9191" y="10858"/>
                  <a:pt x="9203" y="10914"/>
                </a:cubicBezTo>
                <a:cubicBezTo>
                  <a:pt x="9218" y="10980"/>
                  <a:pt x="9188" y="11037"/>
                  <a:pt x="9178" y="11088"/>
                </a:cubicBezTo>
                <a:cubicBezTo>
                  <a:pt x="9160" y="11177"/>
                  <a:pt x="9144" y="11232"/>
                  <a:pt x="9103" y="11311"/>
                </a:cubicBezTo>
                <a:cubicBezTo>
                  <a:pt x="9056" y="11401"/>
                  <a:pt x="9033" y="11373"/>
                  <a:pt x="8954" y="11410"/>
                </a:cubicBezTo>
                <a:cubicBezTo>
                  <a:pt x="8895" y="11438"/>
                  <a:pt x="8798" y="11407"/>
                  <a:pt x="8756" y="11336"/>
                </a:cubicBezTo>
                <a:cubicBezTo>
                  <a:pt x="8734" y="11271"/>
                  <a:pt x="8726" y="11256"/>
                  <a:pt x="8731" y="11212"/>
                </a:cubicBezTo>
                <a:cubicBezTo>
                  <a:pt x="8800" y="11177"/>
                  <a:pt x="8856" y="11179"/>
                  <a:pt x="8930" y="11212"/>
                </a:cubicBezTo>
                <a:cubicBezTo>
                  <a:pt x="9019" y="11252"/>
                  <a:pt x="9085" y="11293"/>
                  <a:pt x="9153" y="11361"/>
                </a:cubicBezTo>
                <a:cubicBezTo>
                  <a:pt x="9219" y="11426"/>
                  <a:pt x="9294" y="11411"/>
                  <a:pt x="9376" y="11460"/>
                </a:cubicBezTo>
                <a:cubicBezTo>
                  <a:pt x="9449" y="11504"/>
                  <a:pt x="9516" y="11545"/>
                  <a:pt x="9599" y="11559"/>
                </a:cubicBezTo>
                <a:cubicBezTo>
                  <a:pt x="9661" y="11569"/>
                  <a:pt x="9656" y="11581"/>
                  <a:pt x="9699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Ink 6"/>
          <p:cNvSpPr/>
          <p:nvPr/>
        </p:nvSpPr>
        <p:spPr>
          <a:xfrm>
            <a:off x="4214880" y="3483000"/>
            <a:ext cx="500040" cy="330120"/>
          </a:xfrm>
          <a:custGeom>
            <a:avLst/>
            <a:gdLst/>
            <a:ahLst/>
            <a:rect l="l" t="t" r="r" b="b"/>
            <a:pathLst>
              <a:path w="1390" h="919">
                <a:moveTo>
                  <a:pt x="11708" y="10344"/>
                </a:moveTo>
                <a:cubicBezTo>
                  <a:pt x="11871" y="10310"/>
                  <a:pt x="11953" y="10294"/>
                  <a:pt x="12105" y="10294"/>
                </a:cubicBezTo>
              </a:path>
              <a:path w="1390" h="919">
                <a:moveTo>
                  <a:pt x="11733" y="10517"/>
                </a:moveTo>
                <a:cubicBezTo>
                  <a:pt x="11901" y="10609"/>
                  <a:pt x="11954" y="10590"/>
                  <a:pt x="12154" y="10567"/>
                </a:cubicBezTo>
              </a:path>
              <a:path w="1390" h="919">
                <a:moveTo>
                  <a:pt x="12477" y="9699"/>
                </a:moveTo>
                <a:cubicBezTo>
                  <a:pt x="12678" y="9699"/>
                  <a:pt x="12877" y="9709"/>
                  <a:pt x="13072" y="9674"/>
                </a:cubicBezTo>
                <a:cubicBezTo>
                  <a:pt x="13080" y="9674"/>
                  <a:pt x="13089" y="9674"/>
                  <a:pt x="13097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Ink 7"/>
          <p:cNvSpPr/>
          <p:nvPr/>
        </p:nvSpPr>
        <p:spPr>
          <a:xfrm>
            <a:off x="4964040" y="3241800"/>
            <a:ext cx="73080" cy="509400"/>
          </a:xfrm>
          <a:custGeom>
            <a:avLst/>
            <a:gdLst/>
            <a:ahLst/>
            <a:rect l="l" t="t" r="r" b="b"/>
            <a:pathLst>
              <a:path w="200" h="1415">
                <a:moveTo>
                  <a:pt x="13791" y="9004"/>
                </a:moveTo>
                <a:cubicBezTo>
                  <a:pt x="13799" y="9079"/>
                  <a:pt x="13807" y="9151"/>
                  <a:pt x="13816" y="9227"/>
                </a:cubicBezTo>
                <a:cubicBezTo>
                  <a:pt x="13832" y="9365"/>
                  <a:pt x="13821" y="9513"/>
                  <a:pt x="13841" y="9649"/>
                </a:cubicBezTo>
                <a:cubicBezTo>
                  <a:pt x="13857" y="9763"/>
                  <a:pt x="13880" y="9883"/>
                  <a:pt x="13891" y="9996"/>
                </a:cubicBezTo>
                <a:cubicBezTo>
                  <a:pt x="13900" y="10095"/>
                  <a:pt x="13926" y="10172"/>
                  <a:pt x="13940" y="10269"/>
                </a:cubicBezTo>
                <a:cubicBezTo>
                  <a:pt x="13949" y="10330"/>
                  <a:pt x="13955" y="10366"/>
                  <a:pt x="13990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Ink 8"/>
          <p:cNvSpPr/>
          <p:nvPr/>
        </p:nvSpPr>
        <p:spPr>
          <a:xfrm>
            <a:off x="2527200" y="4411800"/>
            <a:ext cx="4965840" cy="955440"/>
          </a:xfrm>
          <a:custGeom>
            <a:avLst/>
            <a:gdLst/>
            <a:ahLst/>
            <a:rect l="l" t="t" r="r" b="b"/>
            <a:pathLst>
              <a:path w="13792" h="2655">
                <a:moveTo>
                  <a:pt x="7417" y="12303"/>
                </a:moveTo>
                <a:cubicBezTo>
                  <a:pt x="7407" y="12372"/>
                  <a:pt x="7392" y="12424"/>
                  <a:pt x="7392" y="12502"/>
                </a:cubicBezTo>
                <a:cubicBezTo>
                  <a:pt x="7392" y="12560"/>
                  <a:pt x="7390" y="12580"/>
                  <a:pt x="7417" y="12626"/>
                </a:cubicBezTo>
              </a:path>
              <a:path w="13792" h="2655">
                <a:moveTo>
                  <a:pt x="7144" y="12626"/>
                </a:moveTo>
                <a:cubicBezTo>
                  <a:pt x="7207" y="12630"/>
                  <a:pt x="7331" y="12626"/>
                  <a:pt x="7392" y="12650"/>
                </a:cubicBezTo>
                <a:cubicBezTo>
                  <a:pt x="7455" y="12674"/>
                  <a:pt x="7515" y="12675"/>
                  <a:pt x="7590" y="12675"/>
                </a:cubicBezTo>
              </a:path>
              <a:path w="13792" h="2655">
                <a:moveTo>
                  <a:pt x="7342" y="12799"/>
                </a:moveTo>
                <a:cubicBezTo>
                  <a:pt x="7350" y="12807"/>
                  <a:pt x="7359" y="12816"/>
                  <a:pt x="7367" y="12824"/>
                </a:cubicBezTo>
                <a:cubicBezTo>
                  <a:pt x="7411" y="12780"/>
                  <a:pt x="7448" y="12755"/>
                  <a:pt x="7516" y="12774"/>
                </a:cubicBezTo>
                <a:cubicBezTo>
                  <a:pt x="7611" y="12801"/>
                  <a:pt x="7590" y="12868"/>
                  <a:pt x="7590" y="12948"/>
                </a:cubicBezTo>
              </a:path>
              <a:path w="13792" h="2655">
                <a:moveTo>
                  <a:pt x="7541" y="13072"/>
                </a:moveTo>
                <a:cubicBezTo>
                  <a:pt x="7504" y="13082"/>
                  <a:pt x="7367" y="13137"/>
                  <a:pt x="7342" y="13072"/>
                </a:cubicBezTo>
                <a:cubicBezTo>
                  <a:pt x="7342" y="13027"/>
                  <a:pt x="7338" y="13014"/>
                  <a:pt x="7367" y="12998"/>
                </a:cubicBezTo>
                <a:cubicBezTo>
                  <a:pt x="7406" y="13029"/>
                  <a:pt x="7466" y="13085"/>
                  <a:pt x="7516" y="13097"/>
                </a:cubicBezTo>
                <a:cubicBezTo>
                  <a:pt x="7577" y="13112"/>
                  <a:pt x="7622" y="13138"/>
                  <a:pt x="7689" y="13146"/>
                </a:cubicBezTo>
              </a:path>
              <a:path w="13792" h="2655">
                <a:moveTo>
                  <a:pt x="7020" y="13097"/>
                </a:moveTo>
                <a:cubicBezTo>
                  <a:pt x="7084" y="13129"/>
                  <a:pt x="7165" y="13143"/>
                  <a:pt x="7243" y="13146"/>
                </a:cubicBezTo>
                <a:cubicBezTo>
                  <a:pt x="7362" y="13150"/>
                  <a:pt x="7478" y="13157"/>
                  <a:pt x="7590" y="13171"/>
                </a:cubicBezTo>
                <a:cubicBezTo>
                  <a:pt x="7703" y="13185"/>
                  <a:pt x="7824" y="13192"/>
                  <a:pt x="7938" y="13196"/>
                </a:cubicBezTo>
                <a:cubicBezTo>
                  <a:pt x="8019" y="13199"/>
                  <a:pt x="8079" y="13221"/>
                  <a:pt x="8161" y="13221"/>
                </a:cubicBezTo>
              </a:path>
              <a:path w="13792" h="2655">
                <a:moveTo>
                  <a:pt x="7466" y="13469"/>
                </a:moveTo>
                <a:cubicBezTo>
                  <a:pt x="7477" y="13547"/>
                  <a:pt x="7477" y="13540"/>
                  <a:pt x="7466" y="13618"/>
                </a:cubicBezTo>
              </a:path>
              <a:path w="13792" h="2655">
                <a:moveTo>
                  <a:pt x="7466" y="13667"/>
                </a:moveTo>
                <a:cubicBezTo>
                  <a:pt x="7466" y="13575"/>
                  <a:pt x="7467" y="13497"/>
                  <a:pt x="7491" y="13419"/>
                </a:cubicBezTo>
                <a:cubicBezTo>
                  <a:pt x="7491" y="13411"/>
                  <a:pt x="7491" y="13403"/>
                  <a:pt x="7491" y="13395"/>
                </a:cubicBezTo>
              </a:path>
              <a:path w="13792" h="2655">
                <a:moveTo>
                  <a:pt x="7441" y="13345"/>
                </a:moveTo>
                <a:cubicBezTo>
                  <a:pt x="7501" y="13285"/>
                  <a:pt x="7527" y="13295"/>
                  <a:pt x="7615" y="13295"/>
                </a:cubicBezTo>
                <a:cubicBezTo>
                  <a:pt x="7679" y="13295"/>
                  <a:pt x="7738" y="13318"/>
                  <a:pt x="7789" y="13345"/>
                </a:cubicBezTo>
                <a:cubicBezTo>
                  <a:pt x="7848" y="13377"/>
                  <a:pt x="7897" y="13370"/>
                  <a:pt x="7962" y="13370"/>
                </a:cubicBezTo>
              </a:path>
              <a:path w="13792" h="2655">
                <a:moveTo>
                  <a:pt x="7640" y="13345"/>
                </a:moveTo>
                <a:cubicBezTo>
                  <a:pt x="7694" y="13378"/>
                  <a:pt x="7758" y="13374"/>
                  <a:pt x="7813" y="13419"/>
                </a:cubicBezTo>
                <a:cubicBezTo>
                  <a:pt x="7895" y="13486"/>
                  <a:pt x="7757" y="13514"/>
                  <a:pt x="7714" y="13519"/>
                </a:cubicBezTo>
                <a:cubicBezTo>
                  <a:pt x="7741" y="13545"/>
                  <a:pt x="7830" y="13587"/>
                  <a:pt x="7838" y="13618"/>
                </a:cubicBezTo>
                <a:cubicBezTo>
                  <a:pt x="7870" y="13740"/>
                  <a:pt x="7755" y="13727"/>
                  <a:pt x="7689" y="13717"/>
                </a:cubicBezTo>
                <a:cubicBezTo>
                  <a:pt x="7681" y="13717"/>
                  <a:pt x="7673" y="13717"/>
                  <a:pt x="7665" y="13717"/>
                </a:cubicBezTo>
              </a:path>
              <a:path w="13792" h="2655">
                <a:moveTo>
                  <a:pt x="7367" y="13667"/>
                </a:moveTo>
                <a:cubicBezTo>
                  <a:pt x="7445" y="13677"/>
                  <a:pt x="7515" y="13696"/>
                  <a:pt x="7590" y="13717"/>
                </a:cubicBezTo>
                <a:cubicBezTo>
                  <a:pt x="7709" y="13750"/>
                  <a:pt x="7839" y="13757"/>
                  <a:pt x="7962" y="13767"/>
                </a:cubicBezTo>
              </a:path>
              <a:path w="13792" h="2655">
                <a:moveTo>
                  <a:pt x="7764" y="13940"/>
                </a:moveTo>
                <a:cubicBezTo>
                  <a:pt x="7875" y="13920"/>
                  <a:pt x="7945" y="13889"/>
                  <a:pt x="8037" y="13965"/>
                </a:cubicBezTo>
                <a:cubicBezTo>
                  <a:pt x="8129" y="14041"/>
                  <a:pt x="8057" y="14092"/>
                  <a:pt x="8012" y="14163"/>
                </a:cubicBezTo>
                <a:cubicBezTo>
                  <a:pt x="7969" y="14231"/>
                  <a:pt x="7896" y="14270"/>
                  <a:pt x="7813" y="14288"/>
                </a:cubicBezTo>
                <a:cubicBezTo>
                  <a:pt x="7769" y="14288"/>
                  <a:pt x="7755" y="14291"/>
                  <a:pt x="7739" y="14263"/>
                </a:cubicBezTo>
                <a:cubicBezTo>
                  <a:pt x="7755" y="14154"/>
                  <a:pt x="7798" y="14134"/>
                  <a:pt x="7913" y="14163"/>
                </a:cubicBezTo>
                <a:cubicBezTo>
                  <a:pt x="7975" y="14178"/>
                  <a:pt x="8021" y="14256"/>
                  <a:pt x="8086" y="14288"/>
                </a:cubicBezTo>
                <a:cubicBezTo>
                  <a:pt x="8130" y="14309"/>
                  <a:pt x="8141" y="14322"/>
                  <a:pt x="8161" y="14288"/>
                </a:cubicBezTo>
              </a:path>
              <a:path w="13792" h="2655">
                <a:moveTo>
                  <a:pt x="8458" y="13271"/>
                </a:moveTo>
                <a:cubicBezTo>
                  <a:pt x="8557" y="13256"/>
                  <a:pt x="8648" y="13221"/>
                  <a:pt x="8731" y="13271"/>
                </a:cubicBezTo>
              </a:path>
              <a:path w="13792" h="2655">
                <a:moveTo>
                  <a:pt x="8533" y="13469"/>
                </a:moveTo>
                <a:cubicBezTo>
                  <a:pt x="8618" y="13487"/>
                  <a:pt x="8696" y="13501"/>
                  <a:pt x="8781" y="13519"/>
                </a:cubicBezTo>
              </a:path>
              <a:path w="13792" h="2655">
                <a:moveTo>
                  <a:pt x="9624" y="12328"/>
                </a:moveTo>
                <a:cubicBezTo>
                  <a:pt x="9598" y="12374"/>
                  <a:pt x="9546" y="12493"/>
                  <a:pt x="9550" y="12551"/>
                </a:cubicBezTo>
                <a:cubicBezTo>
                  <a:pt x="9555" y="12632"/>
                  <a:pt x="9577" y="12771"/>
                  <a:pt x="9599" y="12849"/>
                </a:cubicBezTo>
                <a:cubicBezTo>
                  <a:pt x="9616" y="12908"/>
                  <a:pt x="9624" y="12934"/>
                  <a:pt x="9624" y="12998"/>
                </a:cubicBezTo>
              </a:path>
              <a:path w="13792" h="2655">
                <a:moveTo>
                  <a:pt x="9252" y="13022"/>
                </a:moveTo>
                <a:cubicBezTo>
                  <a:pt x="9339" y="13005"/>
                  <a:pt x="9435" y="12982"/>
                  <a:pt x="9525" y="12998"/>
                </a:cubicBezTo>
                <a:cubicBezTo>
                  <a:pt x="9647" y="13019"/>
                  <a:pt x="9681" y="13014"/>
                  <a:pt x="9798" y="12998"/>
                </a:cubicBezTo>
                <a:cubicBezTo>
                  <a:pt x="9847" y="12998"/>
                  <a:pt x="9864" y="12998"/>
                  <a:pt x="9897" y="12998"/>
                </a:cubicBezTo>
              </a:path>
              <a:path w="13792" h="2655">
                <a:moveTo>
                  <a:pt x="9575" y="13196"/>
                </a:moveTo>
                <a:cubicBezTo>
                  <a:pt x="9606" y="13276"/>
                  <a:pt x="9626" y="13215"/>
                  <a:pt x="9699" y="13171"/>
                </a:cubicBezTo>
                <a:cubicBezTo>
                  <a:pt x="9776" y="13124"/>
                  <a:pt x="9854" y="13126"/>
                  <a:pt x="9897" y="13196"/>
                </a:cubicBezTo>
                <a:cubicBezTo>
                  <a:pt x="9951" y="13283"/>
                  <a:pt x="9910" y="13355"/>
                  <a:pt x="9897" y="13444"/>
                </a:cubicBezTo>
                <a:cubicBezTo>
                  <a:pt x="9888" y="13510"/>
                  <a:pt x="9872" y="13607"/>
                  <a:pt x="9847" y="13667"/>
                </a:cubicBezTo>
                <a:cubicBezTo>
                  <a:pt x="9810" y="13757"/>
                  <a:pt x="9646" y="13887"/>
                  <a:pt x="9550" y="13866"/>
                </a:cubicBezTo>
                <a:cubicBezTo>
                  <a:pt x="9542" y="13858"/>
                  <a:pt x="9533" y="13849"/>
                  <a:pt x="9525" y="13841"/>
                </a:cubicBezTo>
                <a:cubicBezTo>
                  <a:pt x="9539" y="13746"/>
                  <a:pt x="9576" y="13726"/>
                  <a:pt x="9674" y="13717"/>
                </a:cubicBezTo>
                <a:cubicBezTo>
                  <a:pt x="9755" y="13709"/>
                  <a:pt x="9798" y="13721"/>
                  <a:pt x="9847" y="13791"/>
                </a:cubicBezTo>
                <a:cubicBezTo>
                  <a:pt x="9924" y="13900"/>
                  <a:pt x="9884" y="13979"/>
                  <a:pt x="10021" y="13965"/>
                </a:cubicBezTo>
              </a:path>
              <a:path w="13792" h="2655">
                <a:moveTo>
                  <a:pt x="10443" y="12700"/>
                </a:moveTo>
                <a:cubicBezTo>
                  <a:pt x="10466" y="12723"/>
                  <a:pt x="10474" y="12727"/>
                  <a:pt x="10468" y="12750"/>
                </a:cubicBezTo>
              </a:path>
              <a:path w="13792" h="2655">
                <a:moveTo>
                  <a:pt x="10468" y="13395"/>
                </a:moveTo>
                <a:cubicBezTo>
                  <a:pt x="10488" y="13477"/>
                  <a:pt x="10496" y="13492"/>
                  <a:pt x="10492" y="13543"/>
                </a:cubicBezTo>
              </a:path>
              <a:path w="13792" h="2655">
                <a:moveTo>
                  <a:pt x="10244" y="13022"/>
                </a:moveTo>
                <a:cubicBezTo>
                  <a:pt x="10367" y="13029"/>
                  <a:pt x="10447" y="13067"/>
                  <a:pt x="10567" y="13072"/>
                </a:cubicBezTo>
                <a:cubicBezTo>
                  <a:pt x="10616" y="13072"/>
                  <a:pt x="10633" y="13072"/>
                  <a:pt x="10666" y="13072"/>
                </a:cubicBezTo>
              </a:path>
              <a:path w="13792" h="2655">
                <a:moveTo>
                  <a:pt x="11088" y="12551"/>
                </a:moveTo>
                <a:cubicBezTo>
                  <a:pt x="11088" y="12695"/>
                  <a:pt x="11041" y="12974"/>
                  <a:pt x="11112" y="13097"/>
                </a:cubicBezTo>
                <a:cubicBezTo>
                  <a:pt x="11112" y="13016"/>
                  <a:pt x="11097" y="12952"/>
                  <a:pt x="11088" y="12874"/>
                </a:cubicBezTo>
                <a:cubicBezTo>
                  <a:pt x="11075" y="12758"/>
                  <a:pt x="11094" y="12627"/>
                  <a:pt x="11112" y="12526"/>
                </a:cubicBezTo>
                <a:cubicBezTo>
                  <a:pt x="11123" y="12468"/>
                  <a:pt x="11139" y="12373"/>
                  <a:pt x="11187" y="12328"/>
                </a:cubicBezTo>
                <a:cubicBezTo>
                  <a:pt x="11257" y="12263"/>
                  <a:pt x="11347" y="12315"/>
                  <a:pt x="11410" y="12328"/>
                </a:cubicBezTo>
                <a:cubicBezTo>
                  <a:pt x="11455" y="12328"/>
                  <a:pt x="11468" y="12325"/>
                  <a:pt x="11485" y="12353"/>
                </a:cubicBezTo>
              </a:path>
              <a:path w="13792" h="2655">
                <a:moveTo>
                  <a:pt x="11336" y="12700"/>
                </a:moveTo>
                <a:cubicBezTo>
                  <a:pt x="11375" y="12660"/>
                  <a:pt x="11398" y="12616"/>
                  <a:pt x="11435" y="12576"/>
                </a:cubicBezTo>
                <a:cubicBezTo>
                  <a:pt x="11507" y="12497"/>
                  <a:pt x="11587" y="12502"/>
                  <a:pt x="11683" y="12502"/>
                </a:cubicBezTo>
                <a:cubicBezTo>
                  <a:pt x="11671" y="12593"/>
                  <a:pt x="11651" y="12619"/>
                  <a:pt x="11584" y="12675"/>
                </a:cubicBezTo>
                <a:cubicBezTo>
                  <a:pt x="11530" y="12720"/>
                  <a:pt x="11502" y="12725"/>
                  <a:pt x="11435" y="12750"/>
                </a:cubicBezTo>
                <a:cubicBezTo>
                  <a:pt x="11545" y="12762"/>
                  <a:pt x="11561" y="12791"/>
                  <a:pt x="11633" y="12849"/>
                </a:cubicBezTo>
                <a:cubicBezTo>
                  <a:pt x="11683" y="12874"/>
                  <a:pt x="11699" y="12882"/>
                  <a:pt x="11708" y="12923"/>
                </a:cubicBezTo>
                <a:cubicBezTo>
                  <a:pt x="11669" y="12962"/>
                  <a:pt x="11645" y="13006"/>
                  <a:pt x="11609" y="13047"/>
                </a:cubicBezTo>
                <a:cubicBezTo>
                  <a:pt x="11560" y="13102"/>
                  <a:pt x="11533" y="13097"/>
                  <a:pt x="11460" y="13097"/>
                </a:cubicBezTo>
                <a:cubicBezTo>
                  <a:pt x="11443" y="13097"/>
                  <a:pt x="11427" y="13097"/>
                  <a:pt x="11410" y="13097"/>
                </a:cubicBezTo>
              </a:path>
              <a:path w="13792" h="2655">
                <a:moveTo>
                  <a:pt x="11013" y="13097"/>
                </a:moveTo>
                <a:cubicBezTo>
                  <a:pt x="11120" y="13105"/>
                  <a:pt x="11202" y="13122"/>
                  <a:pt x="11311" y="13122"/>
                </a:cubicBezTo>
                <a:cubicBezTo>
                  <a:pt x="11418" y="13122"/>
                  <a:pt x="11526" y="13122"/>
                  <a:pt x="11633" y="13122"/>
                </a:cubicBezTo>
              </a:path>
              <a:path w="13792" h="2655">
                <a:moveTo>
                  <a:pt x="11485" y="13320"/>
                </a:moveTo>
                <a:cubicBezTo>
                  <a:pt x="11567" y="13311"/>
                  <a:pt x="11674" y="13267"/>
                  <a:pt x="11757" y="13295"/>
                </a:cubicBezTo>
                <a:cubicBezTo>
                  <a:pt x="11810" y="13313"/>
                  <a:pt x="11848" y="13424"/>
                  <a:pt x="11857" y="13469"/>
                </a:cubicBezTo>
                <a:cubicBezTo>
                  <a:pt x="11877" y="13564"/>
                  <a:pt x="11800" y="13708"/>
                  <a:pt x="11733" y="13767"/>
                </a:cubicBezTo>
                <a:cubicBezTo>
                  <a:pt x="11684" y="13810"/>
                  <a:pt x="11595" y="13836"/>
                  <a:pt x="11534" y="13841"/>
                </a:cubicBezTo>
                <a:cubicBezTo>
                  <a:pt x="11506" y="13841"/>
                  <a:pt x="11495" y="13839"/>
                  <a:pt x="11485" y="13816"/>
                </a:cubicBezTo>
                <a:cubicBezTo>
                  <a:pt x="11495" y="13736"/>
                  <a:pt x="11497" y="13696"/>
                  <a:pt x="11584" y="13692"/>
                </a:cubicBezTo>
                <a:cubicBezTo>
                  <a:pt x="11714" y="13686"/>
                  <a:pt x="11733" y="13730"/>
                  <a:pt x="11807" y="13816"/>
                </a:cubicBezTo>
                <a:cubicBezTo>
                  <a:pt x="11861" y="13879"/>
                  <a:pt x="11920" y="13912"/>
                  <a:pt x="11981" y="13965"/>
                </a:cubicBezTo>
              </a:path>
              <a:path w="13792" h="2655">
                <a:moveTo>
                  <a:pt x="12229" y="13047"/>
                </a:moveTo>
                <a:cubicBezTo>
                  <a:pt x="12330" y="12980"/>
                  <a:pt x="12361" y="13008"/>
                  <a:pt x="12477" y="13022"/>
                </a:cubicBezTo>
                <a:cubicBezTo>
                  <a:pt x="12493" y="13022"/>
                  <a:pt x="12510" y="13022"/>
                  <a:pt x="12526" y="13022"/>
                </a:cubicBezTo>
              </a:path>
              <a:path w="13792" h="2655">
                <a:moveTo>
                  <a:pt x="12378" y="13295"/>
                </a:moveTo>
                <a:cubicBezTo>
                  <a:pt x="12495" y="13315"/>
                  <a:pt x="12516" y="13337"/>
                  <a:pt x="12576" y="13295"/>
                </a:cubicBezTo>
              </a:path>
              <a:path w="13792" h="2655">
                <a:moveTo>
                  <a:pt x="13271" y="12278"/>
                </a:moveTo>
                <a:cubicBezTo>
                  <a:pt x="13233" y="12448"/>
                  <a:pt x="13221" y="12557"/>
                  <a:pt x="13221" y="12725"/>
                </a:cubicBezTo>
                <a:cubicBezTo>
                  <a:pt x="13221" y="12816"/>
                  <a:pt x="13227" y="12890"/>
                  <a:pt x="13196" y="12973"/>
                </a:cubicBezTo>
              </a:path>
              <a:path w="13792" h="2655">
                <a:moveTo>
                  <a:pt x="12874" y="13072"/>
                </a:moveTo>
                <a:cubicBezTo>
                  <a:pt x="13010" y="13050"/>
                  <a:pt x="13133" y="13047"/>
                  <a:pt x="13271" y="13047"/>
                </a:cubicBezTo>
                <a:cubicBezTo>
                  <a:pt x="13337" y="13047"/>
                  <a:pt x="13403" y="13047"/>
                  <a:pt x="13469" y="13047"/>
                </a:cubicBezTo>
              </a:path>
              <a:path w="13792" h="2655">
                <a:moveTo>
                  <a:pt x="13097" y="13469"/>
                </a:moveTo>
                <a:cubicBezTo>
                  <a:pt x="13185" y="13395"/>
                  <a:pt x="13266" y="13311"/>
                  <a:pt x="13395" y="13345"/>
                </a:cubicBezTo>
                <a:cubicBezTo>
                  <a:pt x="13507" y="13375"/>
                  <a:pt x="13465" y="13495"/>
                  <a:pt x="13444" y="13568"/>
                </a:cubicBezTo>
                <a:cubicBezTo>
                  <a:pt x="13411" y="13682"/>
                  <a:pt x="13375" y="13762"/>
                  <a:pt x="13320" y="13866"/>
                </a:cubicBezTo>
                <a:cubicBezTo>
                  <a:pt x="13287" y="13929"/>
                  <a:pt x="13274" y="14033"/>
                  <a:pt x="13196" y="14064"/>
                </a:cubicBezTo>
                <a:cubicBezTo>
                  <a:pt x="13146" y="14084"/>
                  <a:pt x="13126" y="14043"/>
                  <a:pt x="13097" y="14015"/>
                </a:cubicBezTo>
                <a:cubicBezTo>
                  <a:pt x="13147" y="13995"/>
                  <a:pt x="13216" y="14021"/>
                  <a:pt x="13271" y="14064"/>
                </a:cubicBezTo>
                <a:cubicBezTo>
                  <a:pt x="13317" y="14100"/>
                  <a:pt x="13396" y="14191"/>
                  <a:pt x="13469" y="14163"/>
                </a:cubicBezTo>
                <a:cubicBezTo>
                  <a:pt x="13494" y="14147"/>
                  <a:pt x="13518" y="14130"/>
                  <a:pt x="13543" y="14114"/>
                </a:cubicBezTo>
              </a:path>
              <a:path w="13792" h="2655">
                <a:moveTo>
                  <a:pt x="14039" y="13196"/>
                </a:moveTo>
                <a:cubicBezTo>
                  <a:pt x="14005" y="13305"/>
                  <a:pt x="14153" y="13143"/>
                  <a:pt x="14139" y="13122"/>
                </a:cubicBezTo>
                <a:cubicBezTo>
                  <a:pt x="14120" y="13092"/>
                  <a:pt x="14031" y="13137"/>
                  <a:pt x="14015" y="13146"/>
                </a:cubicBezTo>
                <a:cubicBezTo>
                  <a:pt x="14057" y="13200"/>
                  <a:pt x="14105" y="13183"/>
                  <a:pt x="14089" y="13122"/>
                </a:cubicBezTo>
                <a:cubicBezTo>
                  <a:pt x="14059" y="13151"/>
                  <a:pt x="14048" y="13159"/>
                  <a:pt x="14039" y="13196"/>
                </a:cubicBezTo>
              </a:path>
              <a:path w="13792" h="2655">
                <a:moveTo>
                  <a:pt x="14684" y="12526"/>
                </a:moveTo>
                <a:cubicBezTo>
                  <a:pt x="14653" y="12582"/>
                  <a:pt x="14644" y="12590"/>
                  <a:pt x="14635" y="12650"/>
                </a:cubicBezTo>
                <a:cubicBezTo>
                  <a:pt x="14670" y="12588"/>
                  <a:pt x="14722" y="12537"/>
                  <a:pt x="14759" y="12477"/>
                </a:cubicBezTo>
                <a:cubicBezTo>
                  <a:pt x="14793" y="12423"/>
                  <a:pt x="14813" y="12347"/>
                  <a:pt x="14883" y="12328"/>
                </a:cubicBezTo>
                <a:cubicBezTo>
                  <a:pt x="14899" y="12328"/>
                  <a:pt x="14916" y="12328"/>
                  <a:pt x="14932" y="12328"/>
                </a:cubicBezTo>
                <a:cubicBezTo>
                  <a:pt x="14989" y="12385"/>
                  <a:pt x="14998" y="12442"/>
                  <a:pt x="14982" y="12526"/>
                </a:cubicBezTo>
                <a:cubicBezTo>
                  <a:pt x="14958" y="12656"/>
                  <a:pt x="14878" y="12722"/>
                  <a:pt x="14808" y="12824"/>
                </a:cubicBezTo>
                <a:cubicBezTo>
                  <a:pt x="14768" y="12882"/>
                  <a:pt x="14739" y="12930"/>
                  <a:pt x="14660" y="12948"/>
                </a:cubicBezTo>
                <a:cubicBezTo>
                  <a:pt x="14618" y="12948"/>
                  <a:pt x="14610" y="12948"/>
                  <a:pt x="14585" y="12948"/>
                </a:cubicBezTo>
                <a:cubicBezTo>
                  <a:pt x="14632" y="12901"/>
                  <a:pt x="14662" y="12859"/>
                  <a:pt x="14734" y="12849"/>
                </a:cubicBezTo>
                <a:cubicBezTo>
                  <a:pt x="14822" y="12837"/>
                  <a:pt x="14949" y="12872"/>
                  <a:pt x="15032" y="12898"/>
                </a:cubicBezTo>
                <a:cubicBezTo>
                  <a:pt x="15091" y="12917"/>
                  <a:pt x="15116" y="12923"/>
                  <a:pt x="15180" y="12923"/>
                </a:cubicBezTo>
              </a:path>
              <a:path w="13792" h="2655">
                <a:moveTo>
                  <a:pt x="14486" y="13196"/>
                </a:moveTo>
                <a:cubicBezTo>
                  <a:pt x="14637" y="13196"/>
                  <a:pt x="14782" y="13217"/>
                  <a:pt x="14932" y="13221"/>
                </a:cubicBezTo>
                <a:cubicBezTo>
                  <a:pt x="15019" y="13223"/>
                  <a:pt x="15178" y="13231"/>
                  <a:pt x="15255" y="13196"/>
                </a:cubicBezTo>
                <a:cubicBezTo>
                  <a:pt x="15255" y="13188"/>
                  <a:pt x="15255" y="13179"/>
                  <a:pt x="15255" y="13171"/>
                </a:cubicBezTo>
              </a:path>
              <a:path w="13792" h="2655">
                <a:moveTo>
                  <a:pt x="14610" y="13717"/>
                </a:moveTo>
                <a:cubicBezTo>
                  <a:pt x="14584" y="13896"/>
                  <a:pt x="14494" y="14023"/>
                  <a:pt x="14610" y="14139"/>
                </a:cubicBezTo>
                <a:cubicBezTo>
                  <a:pt x="14620" y="14030"/>
                  <a:pt x="14635" y="13927"/>
                  <a:pt x="14635" y="13816"/>
                </a:cubicBezTo>
                <a:cubicBezTo>
                  <a:pt x="14635" y="13691"/>
                  <a:pt x="14584" y="13442"/>
                  <a:pt x="14660" y="13345"/>
                </a:cubicBezTo>
                <a:cubicBezTo>
                  <a:pt x="14702" y="13292"/>
                  <a:pt x="14794" y="13284"/>
                  <a:pt x="14858" y="13295"/>
                </a:cubicBezTo>
                <a:cubicBezTo>
                  <a:pt x="14946" y="13311"/>
                  <a:pt x="15048" y="13313"/>
                  <a:pt x="15131" y="13345"/>
                </a:cubicBezTo>
                <a:cubicBezTo>
                  <a:pt x="15147" y="13353"/>
                  <a:pt x="15164" y="13362"/>
                  <a:pt x="15180" y="13370"/>
                </a:cubicBezTo>
              </a:path>
              <a:path w="13792" h="2655">
                <a:moveTo>
                  <a:pt x="14833" y="13593"/>
                </a:moveTo>
                <a:cubicBezTo>
                  <a:pt x="14911" y="13554"/>
                  <a:pt x="14972" y="13524"/>
                  <a:pt x="15056" y="13519"/>
                </a:cubicBezTo>
                <a:cubicBezTo>
                  <a:pt x="15122" y="13515"/>
                  <a:pt x="15258" y="13506"/>
                  <a:pt x="15304" y="13568"/>
                </a:cubicBezTo>
                <a:cubicBezTo>
                  <a:pt x="15367" y="13654"/>
                  <a:pt x="15295" y="13703"/>
                  <a:pt x="15230" y="13742"/>
                </a:cubicBezTo>
                <a:cubicBezTo>
                  <a:pt x="15160" y="13784"/>
                  <a:pt x="15111" y="13791"/>
                  <a:pt x="15032" y="13791"/>
                </a:cubicBezTo>
                <a:cubicBezTo>
                  <a:pt x="15089" y="13826"/>
                  <a:pt x="15168" y="13821"/>
                  <a:pt x="15230" y="13866"/>
                </a:cubicBezTo>
                <a:cubicBezTo>
                  <a:pt x="15307" y="13922"/>
                  <a:pt x="15376" y="13996"/>
                  <a:pt x="15329" y="14089"/>
                </a:cubicBezTo>
                <a:cubicBezTo>
                  <a:pt x="15305" y="14138"/>
                  <a:pt x="15255" y="14190"/>
                  <a:pt x="15205" y="14213"/>
                </a:cubicBezTo>
                <a:cubicBezTo>
                  <a:pt x="15092" y="14264"/>
                  <a:pt x="15014" y="14210"/>
                  <a:pt x="14932" y="14139"/>
                </a:cubicBezTo>
              </a:path>
              <a:path w="13792" h="2655">
                <a:moveTo>
                  <a:pt x="13568" y="13271"/>
                </a:moveTo>
                <a:cubicBezTo>
                  <a:pt x="13527" y="13342"/>
                  <a:pt x="13467" y="13432"/>
                  <a:pt x="13419" y="13494"/>
                </a:cubicBezTo>
                <a:cubicBezTo>
                  <a:pt x="13350" y="13583"/>
                  <a:pt x="13285" y="13672"/>
                  <a:pt x="13221" y="13767"/>
                </a:cubicBezTo>
                <a:cubicBezTo>
                  <a:pt x="13175" y="13835"/>
                  <a:pt x="13103" y="13890"/>
                  <a:pt x="13072" y="13965"/>
                </a:cubicBezTo>
                <a:cubicBezTo>
                  <a:pt x="13041" y="14040"/>
                  <a:pt x="12967" y="14061"/>
                  <a:pt x="12948" y="14139"/>
                </a:cubicBezTo>
                <a:cubicBezTo>
                  <a:pt x="12948" y="14180"/>
                  <a:pt x="12948" y="14188"/>
                  <a:pt x="12948" y="14213"/>
                </a:cubicBezTo>
              </a:path>
              <a:path w="13792" h="2655">
                <a:moveTo>
                  <a:pt x="15131" y="12254"/>
                </a:moveTo>
                <a:cubicBezTo>
                  <a:pt x="15095" y="12373"/>
                  <a:pt x="14995" y="12478"/>
                  <a:pt x="14908" y="12576"/>
                </a:cubicBezTo>
                <a:cubicBezTo>
                  <a:pt x="14844" y="12648"/>
                  <a:pt x="14808" y="12718"/>
                  <a:pt x="14759" y="12799"/>
                </a:cubicBezTo>
                <a:cubicBezTo>
                  <a:pt x="14718" y="12866"/>
                  <a:pt x="14660" y="12947"/>
                  <a:pt x="14635" y="13022"/>
                </a:cubicBezTo>
                <a:cubicBezTo>
                  <a:pt x="14635" y="13030"/>
                  <a:pt x="14635" y="13039"/>
                  <a:pt x="14635" y="13047"/>
                </a:cubicBezTo>
              </a:path>
              <a:path w="13792" h="2655">
                <a:moveTo>
                  <a:pt x="15825" y="13171"/>
                </a:moveTo>
                <a:cubicBezTo>
                  <a:pt x="15948" y="13176"/>
                  <a:pt x="16036" y="13196"/>
                  <a:pt x="16148" y="13196"/>
                </a:cubicBezTo>
              </a:path>
              <a:path w="13792" h="2655">
                <a:moveTo>
                  <a:pt x="15875" y="13370"/>
                </a:moveTo>
                <a:cubicBezTo>
                  <a:pt x="16013" y="13484"/>
                  <a:pt x="16047" y="13526"/>
                  <a:pt x="16173" y="13494"/>
                </a:cubicBezTo>
              </a:path>
              <a:path w="13792" h="2655">
                <a:moveTo>
                  <a:pt x="16842" y="12452"/>
                </a:moveTo>
                <a:cubicBezTo>
                  <a:pt x="16842" y="12530"/>
                  <a:pt x="16807" y="12600"/>
                  <a:pt x="16818" y="12675"/>
                </a:cubicBezTo>
                <a:cubicBezTo>
                  <a:pt x="16838" y="12806"/>
                  <a:pt x="16840" y="12944"/>
                  <a:pt x="16867" y="13072"/>
                </a:cubicBezTo>
                <a:cubicBezTo>
                  <a:pt x="16885" y="13160"/>
                  <a:pt x="16892" y="13228"/>
                  <a:pt x="16892" y="13320"/>
                </a:cubicBezTo>
                <a:cubicBezTo>
                  <a:pt x="16892" y="13328"/>
                  <a:pt x="16892" y="13337"/>
                  <a:pt x="16892" y="13345"/>
                </a:cubicBezTo>
              </a:path>
              <a:path w="13792" h="2655">
                <a:moveTo>
                  <a:pt x="16570" y="13395"/>
                </a:moveTo>
                <a:cubicBezTo>
                  <a:pt x="16706" y="13371"/>
                  <a:pt x="16783" y="13390"/>
                  <a:pt x="16917" y="13395"/>
                </a:cubicBezTo>
                <a:cubicBezTo>
                  <a:pt x="17008" y="13398"/>
                  <a:pt x="17080" y="13373"/>
                  <a:pt x="17165" y="13370"/>
                </a:cubicBezTo>
                <a:cubicBezTo>
                  <a:pt x="17198" y="13370"/>
                  <a:pt x="17231" y="13370"/>
                  <a:pt x="17264" y="13370"/>
                </a:cubicBezTo>
              </a:path>
              <a:path w="13792" h="2655">
                <a:moveTo>
                  <a:pt x="16892" y="13841"/>
                </a:moveTo>
                <a:cubicBezTo>
                  <a:pt x="16861" y="14059"/>
                  <a:pt x="16811" y="14246"/>
                  <a:pt x="16867" y="14461"/>
                </a:cubicBezTo>
                <a:cubicBezTo>
                  <a:pt x="16875" y="14478"/>
                  <a:pt x="16884" y="14494"/>
                  <a:pt x="16892" y="14511"/>
                </a:cubicBezTo>
                <a:cubicBezTo>
                  <a:pt x="16892" y="14634"/>
                  <a:pt x="16872" y="14351"/>
                  <a:pt x="16867" y="14312"/>
                </a:cubicBezTo>
                <a:cubicBezTo>
                  <a:pt x="16856" y="14232"/>
                  <a:pt x="16858" y="14143"/>
                  <a:pt x="16842" y="14064"/>
                </a:cubicBezTo>
                <a:cubicBezTo>
                  <a:pt x="16822" y="13964"/>
                  <a:pt x="16804" y="13907"/>
                  <a:pt x="16867" y="13816"/>
                </a:cubicBezTo>
                <a:cubicBezTo>
                  <a:pt x="16913" y="13750"/>
                  <a:pt x="16998" y="13767"/>
                  <a:pt x="17066" y="13767"/>
                </a:cubicBezTo>
                <a:cubicBezTo>
                  <a:pt x="17145" y="13767"/>
                  <a:pt x="17212" y="13746"/>
                  <a:pt x="17289" y="13742"/>
                </a:cubicBezTo>
                <a:cubicBezTo>
                  <a:pt x="17305" y="13742"/>
                  <a:pt x="17322" y="13742"/>
                  <a:pt x="17338" y="13742"/>
                </a:cubicBezTo>
              </a:path>
              <a:path w="13792" h="2655">
                <a:moveTo>
                  <a:pt x="17239" y="13866"/>
                </a:moveTo>
                <a:cubicBezTo>
                  <a:pt x="17313" y="13829"/>
                  <a:pt x="17359" y="13792"/>
                  <a:pt x="17438" y="13841"/>
                </a:cubicBezTo>
                <a:cubicBezTo>
                  <a:pt x="17498" y="13878"/>
                  <a:pt x="17549" y="13998"/>
                  <a:pt x="17537" y="14064"/>
                </a:cubicBezTo>
                <a:cubicBezTo>
                  <a:pt x="17528" y="14116"/>
                  <a:pt x="17445" y="14225"/>
                  <a:pt x="17388" y="14238"/>
                </a:cubicBezTo>
                <a:cubicBezTo>
                  <a:pt x="17371" y="14238"/>
                  <a:pt x="17355" y="14238"/>
                  <a:pt x="17338" y="14238"/>
                </a:cubicBezTo>
                <a:cubicBezTo>
                  <a:pt x="17420" y="14304"/>
                  <a:pt x="17488" y="14323"/>
                  <a:pt x="17562" y="14412"/>
                </a:cubicBezTo>
                <a:cubicBezTo>
                  <a:pt x="17595" y="14452"/>
                  <a:pt x="17641" y="14519"/>
                  <a:pt x="17587" y="14560"/>
                </a:cubicBezTo>
                <a:cubicBezTo>
                  <a:pt x="17522" y="14610"/>
                  <a:pt x="17424" y="14581"/>
                  <a:pt x="17363" y="14536"/>
                </a:cubicBezTo>
                <a:cubicBezTo>
                  <a:pt x="17317" y="14489"/>
                  <a:pt x="17305" y="14475"/>
                  <a:pt x="17264" y="14461"/>
                </a:cubicBezTo>
              </a:path>
              <a:path w="13792" h="2655">
                <a:moveTo>
                  <a:pt x="17462" y="12551"/>
                </a:moveTo>
                <a:cubicBezTo>
                  <a:pt x="17510" y="12646"/>
                  <a:pt x="17530" y="12767"/>
                  <a:pt x="17562" y="12874"/>
                </a:cubicBezTo>
                <a:cubicBezTo>
                  <a:pt x="17591" y="12968"/>
                  <a:pt x="17641" y="13096"/>
                  <a:pt x="17611" y="13171"/>
                </a:cubicBezTo>
                <a:cubicBezTo>
                  <a:pt x="17589" y="13072"/>
                  <a:pt x="17566" y="12975"/>
                  <a:pt x="17562" y="12874"/>
                </a:cubicBezTo>
                <a:cubicBezTo>
                  <a:pt x="17558" y="12762"/>
                  <a:pt x="17574" y="12681"/>
                  <a:pt x="17611" y="12576"/>
                </a:cubicBezTo>
                <a:cubicBezTo>
                  <a:pt x="17664" y="12425"/>
                  <a:pt x="17691" y="12384"/>
                  <a:pt x="17835" y="12328"/>
                </a:cubicBezTo>
                <a:cubicBezTo>
                  <a:pt x="17909" y="12303"/>
                  <a:pt x="17934" y="12295"/>
                  <a:pt x="17983" y="12328"/>
                </a:cubicBezTo>
              </a:path>
              <a:path w="13792" h="2655">
                <a:moveTo>
                  <a:pt x="17884" y="12675"/>
                </a:moveTo>
                <a:cubicBezTo>
                  <a:pt x="17966" y="12724"/>
                  <a:pt x="18085" y="12738"/>
                  <a:pt x="18182" y="12774"/>
                </a:cubicBezTo>
                <a:cubicBezTo>
                  <a:pt x="18247" y="12798"/>
                  <a:pt x="18282" y="12880"/>
                  <a:pt x="18256" y="12948"/>
                </a:cubicBezTo>
                <a:cubicBezTo>
                  <a:pt x="18234" y="13004"/>
                  <a:pt x="18103" y="13015"/>
                  <a:pt x="18058" y="13022"/>
                </a:cubicBezTo>
                <a:cubicBezTo>
                  <a:pt x="18013" y="13022"/>
                  <a:pt x="18000" y="13019"/>
                  <a:pt x="17983" y="13047"/>
                </a:cubicBezTo>
                <a:cubicBezTo>
                  <a:pt x="18058" y="13080"/>
                  <a:pt x="18230" y="13106"/>
                  <a:pt x="18281" y="13171"/>
                </a:cubicBezTo>
                <a:cubicBezTo>
                  <a:pt x="18303" y="13215"/>
                  <a:pt x="18306" y="13227"/>
                  <a:pt x="18331" y="13246"/>
                </a:cubicBezTo>
                <a:cubicBezTo>
                  <a:pt x="18277" y="13299"/>
                  <a:pt x="18238" y="13308"/>
                  <a:pt x="18157" y="13295"/>
                </a:cubicBezTo>
                <a:cubicBezTo>
                  <a:pt x="18059" y="13280"/>
                  <a:pt x="17999" y="13249"/>
                  <a:pt x="17909" y="13221"/>
                </a:cubicBezTo>
                <a:cubicBezTo>
                  <a:pt x="17901" y="13221"/>
                  <a:pt x="17892" y="13221"/>
                  <a:pt x="17884" y="13221"/>
                </a:cubicBezTo>
              </a:path>
              <a:path w="13792" h="2655">
                <a:moveTo>
                  <a:pt x="18157" y="14114"/>
                </a:moveTo>
                <a:cubicBezTo>
                  <a:pt x="18163" y="14315"/>
                  <a:pt x="18204" y="14490"/>
                  <a:pt x="18231" y="14684"/>
                </a:cubicBezTo>
                <a:cubicBezTo>
                  <a:pt x="18240" y="14747"/>
                  <a:pt x="18231" y="14819"/>
                  <a:pt x="18231" y="14883"/>
                </a:cubicBezTo>
                <a:cubicBezTo>
                  <a:pt x="18207" y="14774"/>
                  <a:pt x="18184" y="14671"/>
                  <a:pt x="18182" y="14560"/>
                </a:cubicBezTo>
                <a:cubicBezTo>
                  <a:pt x="18178" y="14381"/>
                  <a:pt x="18147" y="14241"/>
                  <a:pt x="18182" y="14064"/>
                </a:cubicBezTo>
                <a:cubicBezTo>
                  <a:pt x="18202" y="13960"/>
                  <a:pt x="18208" y="13941"/>
                  <a:pt x="18256" y="13866"/>
                </a:cubicBezTo>
                <a:cubicBezTo>
                  <a:pt x="18306" y="13788"/>
                  <a:pt x="18411" y="13774"/>
                  <a:pt x="18504" y="13791"/>
                </a:cubicBezTo>
                <a:cubicBezTo>
                  <a:pt x="18582" y="13810"/>
                  <a:pt x="18599" y="13802"/>
                  <a:pt x="18628" y="13841"/>
                </a:cubicBezTo>
              </a:path>
              <a:path w="13792" h="2655">
                <a:moveTo>
                  <a:pt x="18455" y="14089"/>
                </a:moveTo>
                <a:cubicBezTo>
                  <a:pt x="18530" y="14099"/>
                  <a:pt x="18605" y="14130"/>
                  <a:pt x="18678" y="14139"/>
                </a:cubicBezTo>
                <a:cubicBezTo>
                  <a:pt x="18729" y="14145"/>
                  <a:pt x="18889" y="14185"/>
                  <a:pt x="18827" y="14288"/>
                </a:cubicBezTo>
                <a:cubicBezTo>
                  <a:pt x="18790" y="14349"/>
                  <a:pt x="18613" y="14379"/>
                  <a:pt x="18554" y="14412"/>
                </a:cubicBezTo>
                <a:cubicBezTo>
                  <a:pt x="18546" y="14420"/>
                  <a:pt x="18537" y="14428"/>
                  <a:pt x="18529" y="14436"/>
                </a:cubicBezTo>
                <a:cubicBezTo>
                  <a:pt x="18608" y="14444"/>
                  <a:pt x="18673" y="14456"/>
                  <a:pt x="18752" y="14486"/>
                </a:cubicBezTo>
                <a:cubicBezTo>
                  <a:pt x="18869" y="14531"/>
                  <a:pt x="18852" y="14601"/>
                  <a:pt x="18852" y="14709"/>
                </a:cubicBezTo>
                <a:cubicBezTo>
                  <a:pt x="18852" y="14817"/>
                  <a:pt x="18818" y="14865"/>
                  <a:pt x="18703" y="14883"/>
                </a:cubicBezTo>
                <a:cubicBezTo>
                  <a:pt x="18643" y="14892"/>
                  <a:pt x="18502" y="14902"/>
                  <a:pt x="18455" y="14858"/>
                </a:cubicBezTo>
                <a:cubicBezTo>
                  <a:pt x="18372" y="14780"/>
                  <a:pt x="18438" y="14551"/>
                  <a:pt x="18455" y="14461"/>
                </a:cubicBezTo>
              </a:path>
              <a:path w="13792" h="2655">
                <a:moveTo>
                  <a:pt x="18976" y="13593"/>
                </a:moveTo>
                <a:cubicBezTo>
                  <a:pt x="19114" y="13578"/>
                  <a:pt x="19188" y="13589"/>
                  <a:pt x="19323" y="13618"/>
                </a:cubicBezTo>
              </a:path>
              <a:path w="13792" h="2655">
                <a:moveTo>
                  <a:pt x="18951" y="13866"/>
                </a:moveTo>
                <a:cubicBezTo>
                  <a:pt x="19157" y="13938"/>
                  <a:pt x="19217" y="13902"/>
                  <a:pt x="19422" y="13816"/>
                </a:cubicBezTo>
              </a:path>
              <a:path w="13792" h="2655">
                <a:moveTo>
                  <a:pt x="19645" y="13022"/>
                </a:moveTo>
                <a:cubicBezTo>
                  <a:pt x="19677" y="13172"/>
                  <a:pt x="19670" y="13314"/>
                  <a:pt x="19670" y="13469"/>
                </a:cubicBezTo>
                <a:cubicBezTo>
                  <a:pt x="19670" y="13519"/>
                  <a:pt x="19670" y="13568"/>
                  <a:pt x="19670" y="13618"/>
                </a:cubicBezTo>
                <a:cubicBezTo>
                  <a:pt x="19628" y="13507"/>
                  <a:pt x="19667" y="13392"/>
                  <a:pt x="19670" y="13271"/>
                </a:cubicBezTo>
                <a:cubicBezTo>
                  <a:pt x="19674" y="13118"/>
                  <a:pt x="19680" y="12974"/>
                  <a:pt x="19695" y="12824"/>
                </a:cubicBezTo>
                <a:cubicBezTo>
                  <a:pt x="19704" y="12739"/>
                  <a:pt x="19720" y="12652"/>
                  <a:pt x="19769" y="12576"/>
                </a:cubicBezTo>
                <a:cubicBezTo>
                  <a:pt x="19844" y="12459"/>
                  <a:pt x="19952" y="12464"/>
                  <a:pt x="20092" y="12477"/>
                </a:cubicBezTo>
                <a:cubicBezTo>
                  <a:pt x="20186" y="12485"/>
                  <a:pt x="20287" y="12532"/>
                  <a:pt x="20365" y="12576"/>
                </a:cubicBezTo>
                <a:cubicBezTo>
                  <a:pt x="20447" y="12623"/>
                  <a:pt x="20394" y="12596"/>
                  <a:pt x="20414" y="12675"/>
                </a:cubicBezTo>
              </a:path>
              <a:path w="13792" h="2655">
                <a:moveTo>
                  <a:pt x="20092" y="12898"/>
                </a:moveTo>
                <a:cubicBezTo>
                  <a:pt x="20024" y="12866"/>
                  <a:pt x="20145" y="12841"/>
                  <a:pt x="20216" y="12824"/>
                </a:cubicBezTo>
                <a:cubicBezTo>
                  <a:pt x="20281" y="12809"/>
                  <a:pt x="20351" y="12815"/>
                  <a:pt x="20389" y="12874"/>
                </a:cubicBezTo>
                <a:cubicBezTo>
                  <a:pt x="20442" y="12956"/>
                  <a:pt x="20405" y="13020"/>
                  <a:pt x="20340" y="13072"/>
                </a:cubicBezTo>
                <a:cubicBezTo>
                  <a:pt x="20291" y="13111"/>
                  <a:pt x="20198" y="13114"/>
                  <a:pt x="20141" y="13122"/>
                </a:cubicBezTo>
                <a:cubicBezTo>
                  <a:pt x="20223" y="13162"/>
                  <a:pt x="20306" y="13199"/>
                  <a:pt x="20365" y="13271"/>
                </a:cubicBezTo>
                <a:cubicBezTo>
                  <a:pt x="20422" y="13340"/>
                  <a:pt x="20468" y="13420"/>
                  <a:pt x="20389" y="13494"/>
                </a:cubicBezTo>
                <a:cubicBezTo>
                  <a:pt x="20311" y="13567"/>
                  <a:pt x="20154" y="13504"/>
                  <a:pt x="20067" y="13494"/>
                </a:cubicBezTo>
                <a:cubicBezTo>
                  <a:pt x="20010" y="13487"/>
                  <a:pt x="19980" y="13445"/>
                  <a:pt x="19968" y="13469"/>
                </a:cubicBezTo>
              </a:path>
              <a:path w="13792" h="2655">
                <a:moveTo>
                  <a:pt x="20762" y="13568"/>
                </a:moveTo>
                <a:cubicBezTo>
                  <a:pt x="20560" y="13650"/>
                  <a:pt x="20397" y="13690"/>
                  <a:pt x="20191" y="13742"/>
                </a:cubicBezTo>
                <a:cubicBezTo>
                  <a:pt x="20053" y="13777"/>
                  <a:pt x="19926" y="13814"/>
                  <a:pt x="19794" y="13866"/>
                </a:cubicBezTo>
                <a:cubicBezTo>
                  <a:pt x="19723" y="13894"/>
                  <a:pt x="19652" y="13876"/>
                  <a:pt x="19621" y="13940"/>
                </a:cubicBezTo>
              </a:path>
              <a:path w="13792" h="2655">
                <a:moveTo>
                  <a:pt x="20340" y="14089"/>
                </a:moveTo>
                <a:cubicBezTo>
                  <a:pt x="20431" y="14079"/>
                  <a:pt x="20479" y="14078"/>
                  <a:pt x="20563" y="14089"/>
                </a:cubicBezTo>
                <a:cubicBezTo>
                  <a:pt x="20679" y="14104"/>
                  <a:pt x="20726" y="14104"/>
                  <a:pt x="20786" y="14213"/>
                </a:cubicBezTo>
                <a:cubicBezTo>
                  <a:pt x="20821" y="14277"/>
                  <a:pt x="20795" y="14366"/>
                  <a:pt x="20737" y="14412"/>
                </a:cubicBezTo>
                <a:cubicBezTo>
                  <a:pt x="20670" y="14466"/>
                  <a:pt x="20524" y="14481"/>
                  <a:pt x="20439" y="14486"/>
                </a:cubicBezTo>
                <a:cubicBezTo>
                  <a:pt x="20320" y="14492"/>
                  <a:pt x="20599" y="14496"/>
                  <a:pt x="20662" y="14536"/>
                </a:cubicBezTo>
                <a:cubicBezTo>
                  <a:pt x="20750" y="14591"/>
                  <a:pt x="20786" y="14709"/>
                  <a:pt x="20762" y="14808"/>
                </a:cubicBezTo>
                <a:cubicBezTo>
                  <a:pt x="20748" y="14867"/>
                  <a:pt x="20668" y="14914"/>
                  <a:pt x="20613" y="14908"/>
                </a:cubicBezTo>
                <a:cubicBezTo>
                  <a:pt x="20516" y="14897"/>
                  <a:pt x="20416" y="14838"/>
                  <a:pt x="20340" y="14784"/>
                </a:cubicBezTo>
                <a:cubicBezTo>
                  <a:pt x="20268" y="14736"/>
                  <a:pt x="20247" y="14721"/>
                  <a:pt x="20191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Ink 9"/>
          <p:cNvSpPr/>
          <p:nvPr/>
        </p:nvSpPr>
        <p:spPr>
          <a:xfrm>
            <a:off x="5510160" y="1795320"/>
            <a:ext cx="1133640" cy="1911600"/>
          </a:xfrm>
          <a:custGeom>
            <a:avLst/>
            <a:gdLst/>
            <a:ahLst/>
            <a:rect l="l" t="t" r="r" b="b"/>
            <a:pathLst>
              <a:path w="3152" h="5309">
                <a:moveTo>
                  <a:pt x="15304" y="4986"/>
                </a:moveTo>
                <a:cubicBezTo>
                  <a:pt x="15337" y="5072"/>
                  <a:pt x="15351" y="5139"/>
                  <a:pt x="15354" y="5234"/>
                </a:cubicBezTo>
                <a:cubicBezTo>
                  <a:pt x="15360" y="5427"/>
                  <a:pt x="15337" y="5615"/>
                  <a:pt x="15329" y="5804"/>
                </a:cubicBezTo>
                <a:cubicBezTo>
                  <a:pt x="15319" y="6046"/>
                  <a:pt x="15354" y="6282"/>
                  <a:pt x="15354" y="6524"/>
                </a:cubicBezTo>
                <a:cubicBezTo>
                  <a:pt x="15354" y="6715"/>
                  <a:pt x="15379" y="6901"/>
                  <a:pt x="15379" y="7094"/>
                </a:cubicBezTo>
                <a:cubicBezTo>
                  <a:pt x="15379" y="7193"/>
                  <a:pt x="15379" y="7293"/>
                  <a:pt x="15379" y="7392"/>
                </a:cubicBezTo>
                <a:cubicBezTo>
                  <a:pt x="15393" y="7336"/>
                  <a:pt x="15416" y="7259"/>
                  <a:pt x="15429" y="7193"/>
                </a:cubicBezTo>
              </a:path>
              <a:path w="3152" h="5309">
                <a:moveTo>
                  <a:pt x="16197" y="5556"/>
                </a:moveTo>
                <a:cubicBezTo>
                  <a:pt x="16205" y="5573"/>
                  <a:pt x="16214" y="5589"/>
                  <a:pt x="16222" y="5606"/>
                </a:cubicBezTo>
              </a:path>
              <a:path w="3152" h="5309">
                <a:moveTo>
                  <a:pt x="16272" y="6648"/>
                </a:moveTo>
                <a:cubicBezTo>
                  <a:pt x="16272" y="6747"/>
                  <a:pt x="16272" y="6763"/>
                  <a:pt x="16272" y="6821"/>
                </a:cubicBezTo>
              </a:path>
              <a:path w="3152" h="5309">
                <a:moveTo>
                  <a:pt x="15925" y="6226"/>
                </a:moveTo>
                <a:cubicBezTo>
                  <a:pt x="16054" y="6204"/>
                  <a:pt x="16192" y="6184"/>
                  <a:pt x="16321" y="6176"/>
                </a:cubicBezTo>
                <a:cubicBezTo>
                  <a:pt x="16455" y="6176"/>
                  <a:pt x="16489" y="6180"/>
                  <a:pt x="16570" y="6152"/>
                </a:cubicBezTo>
              </a:path>
              <a:path w="3152" h="5309">
                <a:moveTo>
                  <a:pt x="17884" y="5358"/>
                </a:moveTo>
                <a:cubicBezTo>
                  <a:pt x="17884" y="5556"/>
                  <a:pt x="17889" y="5717"/>
                  <a:pt x="17909" y="5904"/>
                </a:cubicBezTo>
                <a:cubicBezTo>
                  <a:pt x="17919" y="6000"/>
                  <a:pt x="17943" y="6063"/>
                  <a:pt x="17909" y="6152"/>
                </a:cubicBezTo>
              </a:path>
              <a:path w="3152" h="5309">
                <a:moveTo>
                  <a:pt x="17388" y="6276"/>
                </a:moveTo>
                <a:cubicBezTo>
                  <a:pt x="17514" y="6247"/>
                  <a:pt x="17654" y="6215"/>
                  <a:pt x="17785" y="6201"/>
                </a:cubicBezTo>
                <a:cubicBezTo>
                  <a:pt x="17926" y="6186"/>
                  <a:pt x="18066" y="6162"/>
                  <a:pt x="18207" y="6152"/>
                </a:cubicBezTo>
              </a:path>
              <a:path w="3152" h="5309">
                <a:moveTo>
                  <a:pt x="17711" y="6424"/>
                </a:moveTo>
                <a:cubicBezTo>
                  <a:pt x="17797" y="6401"/>
                  <a:pt x="17900" y="6370"/>
                  <a:pt x="17983" y="6424"/>
                </a:cubicBezTo>
                <a:cubicBezTo>
                  <a:pt x="18075" y="6484"/>
                  <a:pt x="18182" y="6599"/>
                  <a:pt x="18132" y="6722"/>
                </a:cubicBezTo>
                <a:cubicBezTo>
                  <a:pt x="18102" y="6794"/>
                  <a:pt x="18011" y="6910"/>
                  <a:pt x="17959" y="6970"/>
                </a:cubicBezTo>
                <a:cubicBezTo>
                  <a:pt x="17925" y="7010"/>
                  <a:pt x="17874" y="7030"/>
                  <a:pt x="17835" y="7069"/>
                </a:cubicBezTo>
                <a:cubicBezTo>
                  <a:pt x="17904" y="7153"/>
                  <a:pt x="17970" y="7097"/>
                  <a:pt x="18083" y="7094"/>
                </a:cubicBezTo>
                <a:cubicBezTo>
                  <a:pt x="18207" y="7090"/>
                  <a:pt x="18331" y="7094"/>
                  <a:pt x="18455" y="7094"/>
                </a:cubicBezTo>
              </a:path>
              <a:path w="3152" h="5309">
                <a:moveTo>
                  <a:pt x="15875" y="8062"/>
                </a:moveTo>
                <a:cubicBezTo>
                  <a:pt x="15875" y="8141"/>
                  <a:pt x="15858" y="8213"/>
                  <a:pt x="15850" y="8285"/>
                </a:cubicBezTo>
                <a:cubicBezTo>
                  <a:pt x="15835" y="8425"/>
                  <a:pt x="15839" y="8566"/>
                  <a:pt x="15825" y="8706"/>
                </a:cubicBezTo>
                <a:cubicBezTo>
                  <a:pt x="15808" y="8875"/>
                  <a:pt x="15801" y="9033"/>
                  <a:pt x="15801" y="9203"/>
                </a:cubicBezTo>
                <a:cubicBezTo>
                  <a:pt x="15801" y="9289"/>
                  <a:pt x="15825" y="9364"/>
                  <a:pt x="15825" y="9451"/>
                </a:cubicBezTo>
                <a:cubicBezTo>
                  <a:pt x="15825" y="9518"/>
                  <a:pt x="15848" y="9551"/>
                  <a:pt x="15900" y="9525"/>
                </a:cubicBezTo>
              </a:path>
              <a:path w="3152" h="5309">
                <a:moveTo>
                  <a:pt x="16520" y="9054"/>
                </a:moveTo>
                <a:cubicBezTo>
                  <a:pt x="16499" y="9122"/>
                  <a:pt x="16480" y="9256"/>
                  <a:pt x="16545" y="9128"/>
                </a:cubicBezTo>
                <a:cubicBezTo>
                  <a:pt x="16584" y="9052"/>
                  <a:pt x="16468" y="9102"/>
                  <a:pt x="16520" y="9128"/>
                </a:cubicBezTo>
              </a:path>
              <a:path w="3152" h="5309">
                <a:moveTo>
                  <a:pt x="17363" y="8310"/>
                </a:moveTo>
                <a:cubicBezTo>
                  <a:pt x="17441" y="8223"/>
                  <a:pt x="17496" y="8108"/>
                  <a:pt x="17636" y="8136"/>
                </a:cubicBezTo>
                <a:cubicBezTo>
                  <a:pt x="17716" y="8152"/>
                  <a:pt x="17793" y="8250"/>
                  <a:pt x="17810" y="8310"/>
                </a:cubicBezTo>
                <a:cubicBezTo>
                  <a:pt x="17859" y="8479"/>
                  <a:pt x="17845" y="8624"/>
                  <a:pt x="17760" y="8781"/>
                </a:cubicBezTo>
                <a:cubicBezTo>
                  <a:pt x="17746" y="8806"/>
                  <a:pt x="17637" y="8945"/>
                  <a:pt x="17611" y="8954"/>
                </a:cubicBezTo>
                <a:cubicBezTo>
                  <a:pt x="17530" y="8983"/>
                  <a:pt x="17497" y="8940"/>
                  <a:pt x="17462" y="8880"/>
                </a:cubicBezTo>
                <a:cubicBezTo>
                  <a:pt x="17578" y="8779"/>
                  <a:pt x="17602" y="8835"/>
                  <a:pt x="17735" y="8855"/>
                </a:cubicBezTo>
                <a:cubicBezTo>
                  <a:pt x="17839" y="8871"/>
                  <a:pt x="17918" y="8938"/>
                  <a:pt x="18033" y="8954"/>
                </a:cubicBezTo>
                <a:cubicBezTo>
                  <a:pt x="18058" y="8954"/>
                  <a:pt x="18082" y="8954"/>
                  <a:pt x="18107" y="8954"/>
                </a:cubicBezTo>
              </a:path>
              <a:path w="3152" h="5309">
                <a:moveTo>
                  <a:pt x="17413" y="9128"/>
                </a:moveTo>
                <a:cubicBezTo>
                  <a:pt x="17549" y="9160"/>
                  <a:pt x="17692" y="9153"/>
                  <a:pt x="17835" y="9153"/>
                </a:cubicBezTo>
                <a:cubicBezTo>
                  <a:pt x="17935" y="9153"/>
                  <a:pt x="17969" y="9153"/>
                  <a:pt x="18033" y="9128"/>
                </a:cubicBezTo>
              </a:path>
              <a:path w="3152" h="5309">
                <a:moveTo>
                  <a:pt x="17983" y="9525"/>
                </a:moveTo>
                <a:cubicBezTo>
                  <a:pt x="17962" y="9704"/>
                  <a:pt x="17965" y="9848"/>
                  <a:pt x="17983" y="10021"/>
                </a:cubicBezTo>
                <a:cubicBezTo>
                  <a:pt x="17993" y="10115"/>
                  <a:pt x="18008" y="10198"/>
                  <a:pt x="18008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Ink 10"/>
          <p:cNvSpPr/>
          <p:nvPr/>
        </p:nvSpPr>
        <p:spPr>
          <a:xfrm>
            <a:off x="2276640" y="5126040"/>
            <a:ext cx="287280" cy="534960"/>
          </a:xfrm>
          <a:custGeom>
            <a:avLst/>
            <a:gdLst/>
            <a:ahLst/>
            <a:rect l="l" t="t" r="r" b="b"/>
            <a:pathLst>
              <a:path w="795" h="1489">
                <a:moveTo>
                  <a:pt x="6400" y="14908"/>
                </a:moveTo>
                <a:cubicBezTo>
                  <a:pt x="6541" y="14894"/>
                  <a:pt x="6536" y="14894"/>
                  <a:pt x="6648" y="14908"/>
                </a:cubicBezTo>
              </a:path>
              <a:path w="795" h="1489">
                <a:moveTo>
                  <a:pt x="6325" y="15255"/>
                </a:moveTo>
                <a:cubicBezTo>
                  <a:pt x="6464" y="15314"/>
                  <a:pt x="6483" y="15339"/>
                  <a:pt x="6573" y="15329"/>
                </a:cubicBezTo>
              </a:path>
              <a:path w="795" h="1489">
                <a:moveTo>
                  <a:pt x="6995" y="14238"/>
                </a:moveTo>
                <a:cubicBezTo>
                  <a:pt x="6995" y="14359"/>
                  <a:pt x="7011" y="14466"/>
                  <a:pt x="7020" y="14585"/>
                </a:cubicBezTo>
                <a:cubicBezTo>
                  <a:pt x="7038" y="14817"/>
                  <a:pt x="7040" y="15047"/>
                  <a:pt x="7069" y="15280"/>
                </a:cubicBezTo>
                <a:cubicBezTo>
                  <a:pt x="7088" y="15433"/>
                  <a:pt x="7113" y="15572"/>
                  <a:pt x="7119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lculating radians or degrees on a graphing calculato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in 45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Tan 100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in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os 1.5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Tan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Page 300</a:t>
            </a:r>
            <a:br>
              <a:rPr sz="6500"/>
            </a:b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#5-11, 29-33,         43 &amp; 47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Ink 4"/>
          <p:cNvSpPr/>
          <p:nvPr/>
        </p:nvSpPr>
        <p:spPr>
          <a:xfrm>
            <a:off x="392040" y="1438200"/>
            <a:ext cx="4162320" cy="892080"/>
          </a:xfrm>
          <a:custGeom>
            <a:avLst/>
            <a:gdLst/>
            <a:ahLst/>
            <a:rect l="l" t="t" r="r" b="b"/>
            <a:pathLst>
              <a:path w="11560" h="2481">
                <a:moveTo>
                  <a:pt x="1091" y="4738"/>
                </a:moveTo>
                <a:cubicBezTo>
                  <a:pt x="1131" y="4682"/>
                  <a:pt x="1179" y="4650"/>
                  <a:pt x="1215" y="4589"/>
                </a:cubicBezTo>
                <a:cubicBezTo>
                  <a:pt x="1275" y="4488"/>
                  <a:pt x="1370" y="4499"/>
                  <a:pt x="1439" y="4589"/>
                </a:cubicBezTo>
                <a:cubicBezTo>
                  <a:pt x="1486" y="4651"/>
                  <a:pt x="1464" y="4747"/>
                  <a:pt x="1439" y="4812"/>
                </a:cubicBezTo>
                <a:cubicBezTo>
                  <a:pt x="1401" y="4912"/>
                  <a:pt x="1341" y="4921"/>
                  <a:pt x="1265" y="4986"/>
                </a:cubicBezTo>
                <a:cubicBezTo>
                  <a:pt x="1218" y="5027"/>
                  <a:pt x="1230" y="5026"/>
                  <a:pt x="1166" y="5035"/>
                </a:cubicBezTo>
                <a:cubicBezTo>
                  <a:pt x="1217" y="5005"/>
                  <a:pt x="1300" y="4995"/>
                  <a:pt x="1364" y="5011"/>
                </a:cubicBezTo>
                <a:cubicBezTo>
                  <a:pt x="1394" y="5019"/>
                  <a:pt x="1478" y="5075"/>
                  <a:pt x="1488" y="5110"/>
                </a:cubicBezTo>
                <a:cubicBezTo>
                  <a:pt x="1507" y="5176"/>
                  <a:pt x="1482" y="5216"/>
                  <a:pt x="1439" y="5259"/>
                </a:cubicBezTo>
                <a:cubicBezTo>
                  <a:pt x="1379" y="5319"/>
                  <a:pt x="1307" y="5304"/>
                  <a:pt x="1240" y="5333"/>
                </a:cubicBezTo>
                <a:cubicBezTo>
                  <a:pt x="1181" y="5358"/>
                  <a:pt x="1133" y="5375"/>
                  <a:pt x="1091" y="5333"/>
                </a:cubicBezTo>
              </a:path>
              <a:path w="11560" h="2481">
                <a:moveTo>
                  <a:pt x="1588" y="5308"/>
                </a:moveTo>
                <a:cubicBezTo>
                  <a:pt x="1588" y="5292"/>
                  <a:pt x="1588" y="5275"/>
                  <a:pt x="1588" y="5259"/>
                </a:cubicBezTo>
              </a:path>
              <a:path w="11560" h="2481">
                <a:moveTo>
                  <a:pt x="2332" y="4341"/>
                </a:moveTo>
                <a:cubicBezTo>
                  <a:pt x="2418" y="4293"/>
                  <a:pt x="2503" y="4275"/>
                  <a:pt x="2604" y="4266"/>
                </a:cubicBezTo>
                <a:cubicBezTo>
                  <a:pt x="2719" y="4255"/>
                  <a:pt x="2837" y="4246"/>
                  <a:pt x="2952" y="4242"/>
                </a:cubicBezTo>
                <a:cubicBezTo>
                  <a:pt x="3061" y="4239"/>
                  <a:pt x="3180" y="4257"/>
                  <a:pt x="3274" y="4217"/>
                </a:cubicBezTo>
              </a:path>
              <a:path w="11560" h="2481">
                <a:moveTo>
                  <a:pt x="2729" y="4192"/>
                </a:moveTo>
                <a:cubicBezTo>
                  <a:pt x="2703" y="4443"/>
                  <a:pt x="2679" y="4547"/>
                  <a:pt x="2604" y="4762"/>
                </a:cubicBezTo>
                <a:cubicBezTo>
                  <a:pt x="2572" y="4854"/>
                  <a:pt x="2545" y="4968"/>
                  <a:pt x="2530" y="5060"/>
                </a:cubicBezTo>
                <a:cubicBezTo>
                  <a:pt x="2521" y="5119"/>
                  <a:pt x="2512" y="5139"/>
                  <a:pt x="2530" y="5184"/>
                </a:cubicBezTo>
                <a:cubicBezTo>
                  <a:pt x="2530" y="5074"/>
                  <a:pt x="2576" y="5017"/>
                  <a:pt x="2629" y="4911"/>
                </a:cubicBezTo>
              </a:path>
              <a:path w="11560" h="2481">
                <a:moveTo>
                  <a:pt x="2927" y="4192"/>
                </a:moveTo>
                <a:cubicBezTo>
                  <a:pt x="2927" y="4385"/>
                  <a:pt x="2908" y="4572"/>
                  <a:pt x="2902" y="4762"/>
                </a:cubicBezTo>
                <a:cubicBezTo>
                  <a:pt x="2898" y="4896"/>
                  <a:pt x="2895" y="5041"/>
                  <a:pt x="2927" y="5159"/>
                </a:cubicBezTo>
                <a:cubicBezTo>
                  <a:pt x="2953" y="5255"/>
                  <a:pt x="2956" y="5222"/>
                  <a:pt x="3051" y="5184"/>
                </a:cubicBezTo>
              </a:path>
              <a:path w="11560" h="2481">
                <a:moveTo>
                  <a:pt x="3522" y="4911"/>
                </a:moveTo>
                <a:cubicBezTo>
                  <a:pt x="3584" y="4942"/>
                  <a:pt x="3647" y="4936"/>
                  <a:pt x="3721" y="4936"/>
                </a:cubicBezTo>
                <a:cubicBezTo>
                  <a:pt x="3787" y="4936"/>
                  <a:pt x="3832" y="4924"/>
                  <a:pt x="3894" y="4911"/>
                </a:cubicBezTo>
              </a:path>
              <a:path w="11560" h="2481">
                <a:moveTo>
                  <a:pt x="4465" y="4217"/>
                </a:moveTo>
                <a:cubicBezTo>
                  <a:pt x="4515" y="4135"/>
                  <a:pt x="4567" y="3955"/>
                  <a:pt x="4688" y="4018"/>
                </a:cubicBezTo>
                <a:cubicBezTo>
                  <a:pt x="4814" y="4084"/>
                  <a:pt x="4787" y="4193"/>
                  <a:pt x="4787" y="4316"/>
                </a:cubicBezTo>
                <a:cubicBezTo>
                  <a:pt x="4787" y="4472"/>
                  <a:pt x="4732" y="4576"/>
                  <a:pt x="4663" y="4713"/>
                </a:cubicBezTo>
                <a:cubicBezTo>
                  <a:pt x="4616" y="4806"/>
                  <a:pt x="4569" y="4851"/>
                  <a:pt x="4490" y="4911"/>
                </a:cubicBezTo>
                <a:cubicBezTo>
                  <a:pt x="4446" y="4944"/>
                  <a:pt x="4380" y="5000"/>
                  <a:pt x="4341" y="4911"/>
                </a:cubicBezTo>
                <a:cubicBezTo>
                  <a:pt x="4311" y="4842"/>
                  <a:pt x="4400" y="4777"/>
                  <a:pt x="4440" y="4738"/>
                </a:cubicBezTo>
                <a:cubicBezTo>
                  <a:pt x="4492" y="4686"/>
                  <a:pt x="4560" y="4718"/>
                  <a:pt x="4614" y="4738"/>
                </a:cubicBezTo>
                <a:cubicBezTo>
                  <a:pt x="4668" y="4758"/>
                  <a:pt x="4740" y="4824"/>
                  <a:pt x="4787" y="4837"/>
                </a:cubicBezTo>
                <a:cubicBezTo>
                  <a:pt x="4839" y="4837"/>
                  <a:pt x="4857" y="4836"/>
                  <a:pt x="4887" y="4812"/>
                </a:cubicBezTo>
              </a:path>
              <a:path w="11560" h="2481">
                <a:moveTo>
                  <a:pt x="5159" y="4217"/>
                </a:moveTo>
                <a:cubicBezTo>
                  <a:pt x="5314" y="4187"/>
                  <a:pt x="5496" y="4136"/>
                  <a:pt x="5655" y="4118"/>
                </a:cubicBezTo>
                <a:cubicBezTo>
                  <a:pt x="5751" y="4107"/>
                  <a:pt x="5725" y="4113"/>
                  <a:pt x="5779" y="4043"/>
                </a:cubicBezTo>
              </a:path>
              <a:path w="11560" h="2481">
                <a:moveTo>
                  <a:pt x="5407" y="4167"/>
                </a:moveTo>
                <a:cubicBezTo>
                  <a:pt x="5375" y="4298"/>
                  <a:pt x="5358" y="4530"/>
                  <a:pt x="5308" y="4663"/>
                </a:cubicBezTo>
                <a:cubicBezTo>
                  <a:pt x="5304" y="4675"/>
                  <a:pt x="5249" y="4842"/>
                  <a:pt x="5308" y="4762"/>
                </a:cubicBezTo>
                <a:cubicBezTo>
                  <a:pt x="5333" y="4713"/>
                  <a:pt x="5342" y="4696"/>
                  <a:pt x="5358" y="4663"/>
                </a:cubicBezTo>
              </a:path>
              <a:path w="11560" h="2481">
                <a:moveTo>
                  <a:pt x="5581" y="4192"/>
                </a:moveTo>
                <a:cubicBezTo>
                  <a:pt x="5561" y="4345"/>
                  <a:pt x="5518" y="4510"/>
                  <a:pt x="5507" y="4663"/>
                </a:cubicBezTo>
                <a:cubicBezTo>
                  <a:pt x="5498" y="4777"/>
                  <a:pt x="5538" y="4823"/>
                  <a:pt x="5556" y="4911"/>
                </a:cubicBezTo>
                <a:cubicBezTo>
                  <a:pt x="5556" y="4953"/>
                  <a:pt x="5556" y="4961"/>
                  <a:pt x="5556" y="4986"/>
                </a:cubicBezTo>
              </a:path>
              <a:path w="11560" h="2481">
                <a:moveTo>
                  <a:pt x="4589" y="5159"/>
                </a:moveTo>
                <a:cubicBezTo>
                  <a:pt x="4676" y="5212"/>
                  <a:pt x="4741" y="5145"/>
                  <a:pt x="4837" y="5135"/>
                </a:cubicBezTo>
                <a:cubicBezTo>
                  <a:pt x="4987" y="5120"/>
                  <a:pt x="5134" y="5117"/>
                  <a:pt x="5283" y="5085"/>
                </a:cubicBezTo>
                <a:cubicBezTo>
                  <a:pt x="5389" y="5062"/>
                  <a:pt x="5499" y="5043"/>
                  <a:pt x="5606" y="5035"/>
                </a:cubicBezTo>
                <a:cubicBezTo>
                  <a:pt x="5614" y="5035"/>
                  <a:pt x="5623" y="5035"/>
                  <a:pt x="5631" y="5035"/>
                </a:cubicBezTo>
              </a:path>
              <a:path w="11560" h="2481">
                <a:moveTo>
                  <a:pt x="4986" y="5383"/>
                </a:moveTo>
                <a:cubicBezTo>
                  <a:pt x="5192" y="5383"/>
                  <a:pt x="5254" y="5405"/>
                  <a:pt x="5407" y="5308"/>
                </a:cubicBezTo>
                <a:cubicBezTo>
                  <a:pt x="5424" y="5300"/>
                  <a:pt x="5440" y="5291"/>
                  <a:pt x="5457" y="5283"/>
                </a:cubicBezTo>
              </a:path>
              <a:path w="11560" h="2481">
                <a:moveTo>
                  <a:pt x="5035" y="5358"/>
                </a:moveTo>
                <a:cubicBezTo>
                  <a:pt x="4970" y="5430"/>
                  <a:pt x="4924" y="5467"/>
                  <a:pt x="4911" y="5556"/>
                </a:cubicBezTo>
                <a:cubicBezTo>
                  <a:pt x="4989" y="5603"/>
                  <a:pt x="5047" y="5568"/>
                  <a:pt x="5135" y="5556"/>
                </a:cubicBezTo>
                <a:cubicBezTo>
                  <a:pt x="5212" y="5545"/>
                  <a:pt x="5299" y="5557"/>
                  <a:pt x="5358" y="5606"/>
                </a:cubicBezTo>
                <a:cubicBezTo>
                  <a:pt x="5425" y="5661"/>
                  <a:pt x="5511" y="5759"/>
                  <a:pt x="5507" y="5854"/>
                </a:cubicBezTo>
                <a:cubicBezTo>
                  <a:pt x="5504" y="5922"/>
                  <a:pt x="5386" y="5989"/>
                  <a:pt x="5333" y="6003"/>
                </a:cubicBezTo>
                <a:cubicBezTo>
                  <a:pt x="5213" y="6035"/>
                  <a:pt x="5051" y="5990"/>
                  <a:pt x="4936" y="5978"/>
                </a:cubicBezTo>
                <a:cubicBezTo>
                  <a:pt x="4911" y="5978"/>
                  <a:pt x="4887" y="5978"/>
                  <a:pt x="4862" y="5978"/>
                </a:cubicBezTo>
              </a:path>
              <a:path w="11560" h="2481">
                <a:moveTo>
                  <a:pt x="2282" y="5308"/>
                </a:moveTo>
                <a:cubicBezTo>
                  <a:pt x="2394" y="5308"/>
                  <a:pt x="2495" y="5286"/>
                  <a:pt x="2604" y="5283"/>
                </a:cubicBezTo>
                <a:cubicBezTo>
                  <a:pt x="2752" y="5278"/>
                  <a:pt x="2931" y="5280"/>
                  <a:pt x="3076" y="5259"/>
                </a:cubicBezTo>
                <a:cubicBezTo>
                  <a:pt x="3152" y="5248"/>
                  <a:pt x="3178" y="5215"/>
                  <a:pt x="3249" y="5259"/>
                </a:cubicBezTo>
              </a:path>
              <a:path w="11560" h="2481">
                <a:moveTo>
                  <a:pt x="2704" y="5531"/>
                </a:moveTo>
                <a:cubicBezTo>
                  <a:pt x="2704" y="5742"/>
                  <a:pt x="2789" y="6217"/>
                  <a:pt x="2679" y="6400"/>
                </a:cubicBezTo>
              </a:path>
              <a:path w="11560" h="2481">
                <a:moveTo>
                  <a:pt x="2158" y="6028"/>
                </a:moveTo>
                <a:cubicBezTo>
                  <a:pt x="2175" y="6028"/>
                  <a:pt x="2191" y="6028"/>
                  <a:pt x="2208" y="6028"/>
                </a:cubicBezTo>
              </a:path>
              <a:path w="11560" h="2481">
                <a:moveTo>
                  <a:pt x="1687" y="5829"/>
                </a:moveTo>
                <a:cubicBezTo>
                  <a:pt x="1760" y="5804"/>
                  <a:pt x="1834" y="5770"/>
                  <a:pt x="1910" y="5755"/>
                </a:cubicBezTo>
                <a:cubicBezTo>
                  <a:pt x="1955" y="5755"/>
                  <a:pt x="1968" y="5759"/>
                  <a:pt x="1984" y="5730"/>
                </a:cubicBezTo>
              </a:path>
              <a:path w="11560" h="2481">
                <a:moveTo>
                  <a:pt x="1637" y="5978"/>
                </a:moveTo>
                <a:cubicBezTo>
                  <a:pt x="1637" y="6056"/>
                  <a:pt x="1622" y="6074"/>
                  <a:pt x="1662" y="6102"/>
                </a:cubicBezTo>
                <a:cubicBezTo>
                  <a:pt x="1732" y="6076"/>
                  <a:pt x="1797" y="6050"/>
                  <a:pt x="1860" y="6028"/>
                </a:cubicBezTo>
                <a:cubicBezTo>
                  <a:pt x="1919" y="6007"/>
                  <a:pt x="1987" y="6022"/>
                  <a:pt x="2034" y="6077"/>
                </a:cubicBezTo>
                <a:cubicBezTo>
                  <a:pt x="2086" y="6137"/>
                  <a:pt x="2056" y="6214"/>
                  <a:pt x="2034" y="6276"/>
                </a:cubicBezTo>
                <a:cubicBezTo>
                  <a:pt x="2008" y="6349"/>
                  <a:pt x="1969" y="6425"/>
                  <a:pt x="1885" y="6449"/>
                </a:cubicBezTo>
                <a:cubicBezTo>
                  <a:pt x="1818" y="6468"/>
                  <a:pt x="1786" y="6397"/>
                  <a:pt x="1761" y="6350"/>
                </a:cubicBezTo>
                <a:cubicBezTo>
                  <a:pt x="1753" y="6333"/>
                  <a:pt x="1744" y="6317"/>
                  <a:pt x="1736" y="6300"/>
                </a:cubicBezTo>
              </a:path>
              <a:path w="11560" h="2481">
                <a:moveTo>
                  <a:pt x="2208" y="4887"/>
                </a:moveTo>
                <a:cubicBezTo>
                  <a:pt x="2208" y="4879"/>
                  <a:pt x="2208" y="4870"/>
                  <a:pt x="2208" y="4862"/>
                </a:cubicBezTo>
              </a:path>
              <a:path w="11560" h="2481">
                <a:moveTo>
                  <a:pt x="1984" y="4514"/>
                </a:moveTo>
                <a:cubicBezTo>
                  <a:pt x="2051" y="4466"/>
                  <a:pt x="2163" y="4444"/>
                  <a:pt x="2183" y="4366"/>
                </a:cubicBezTo>
              </a:path>
              <a:path w="11560" h="2481">
                <a:moveTo>
                  <a:pt x="1786" y="4539"/>
                </a:moveTo>
                <a:cubicBezTo>
                  <a:pt x="1764" y="4606"/>
                  <a:pt x="1759" y="4624"/>
                  <a:pt x="1736" y="4663"/>
                </a:cubicBezTo>
                <a:cubicBezTo>
                  <a:pt x="1815" y="4726"/>
                  <a:pt x="1890" y="4706"/>
                  <a:pt x="1984" y="4738"/>
                </a:cubicBezTo>
                <a:cubicBezTo>
                  <a:pt x="2043" y="4758"/>
                  <a:pt x="2137" y="4820"/>
                  <a:pt x="2133" y="4887"/>
                </a:cubicBezTo>
                <a:cubicBezTo>
                  <a:pt x="2128" y="4960"/>
                  <a:pt x="2055" y="5022"/>
                  <a:pt x="2009" y="5060"/>
                </a:cubicBezTo>
                <a:cubicBezTo>
                  <a:pt x="1957" y="5103"/>
                  <a:pt x="1907" y="5125"/>
                  <a:pt x="1836" y="5110"/>
                </a:cubicBezTo>
                <a:cubicBezTo>
                  <a:pt x="1811" y="5102"/>
                  <a:pt x="1786" y="5093"/>
                  <a:pt x="1761" y="5085"/>
                </a:cubicBezTo>
              </a:path>
              <a:path w="11560" h="2481">
                <a:moveTo>
                  <a:pt x="6102" y="5060"/>
                </a:moveTo>
                <a:cubicBezTo>
                  <a:pt x="6171" y="5041"/>
                  <a:pt x="6206" y="5035"/>
                  <a:pt x="6276" y="5035"/>
                </a:cubicBezTo>
              </a:path>
              <a:path w="11560" h="2481">
                <a:moveTo>
                  <a:pt x="6077" y="5283"/>
                </a:moveTo>
                <a:cubicBezTo>
                  <a:pt x="6154" y="5274"/>
                  <a:pt x="6226" y="5259"/>
                  <a:pt x="6300" y="5234"/>
                </a:cubicBezTo>
              </a:path>
              <a:path w="11560" h="2481">
                <a:moveTo>
                  <a:pt x="6945" y="4217"/>
                </a:moveTo>
                <a:cubicBezTo>
                  <a:pt x="7069" y="4195"/>
                  <a:pt x="7193" y="4181"/>
                  <a:pt x="7317" y="4167"/>
                </a:cubicBezTo>
                <a:cubicBezTo>
                  <a:pt x="7359" y="4167"/>
                  <a:pt x="7367" y="4167"/>
                  <a:pt x="7392" y="4167"/>
                </a:cubicBezTo>
              </a:path>
              <a:path w="11560" h="2481">
                <a:moveTo>
                  <a:pt x="6796" y="4390"/>
                </a:moveTo>
                <a:cubicBezTo>
                  <a:pt x="6778" y="4493"/>
                  <a:pt x="6753" y="4573"/>
                  <a:pt x="6796" y="4663"/>
                </a:cubicBezTo>
                <a:cubicBezTo>
                  <a:pt x="6904" y="4648"/>
                  <a:pt x="6826" y="4618"/>
                  <a:pt x="6896" y="4564"/>
                </a:cubicBezTo>
                <a:cubicBezTo>
                  <a:pt x="6958" y="4516"/>
                  <a:pt x="7122" y="4425"/>
                  <a:pt x="7193" y="4490"/>
                </a:cubicBezTo>
                <a:cubicBezTo>
                  <a:pt x="7278" y="4567"/>
                  <a:pt x="7268" y="4711"/>
                  <a:pt x="7268" y="4812"/>
                </a:cubicBezTo>
                <a:cubicBezTo>
                  <a:pt x="7268" y="4922"/>
                  <a:pt x="7206" y="5017"/>
                  <a:pt x="7094" y="5060"/>
                </a:cubicBezTo>
                <a:cubicBezTo>
                  <a:pt x="7013" y="5091"/>
                  <a:pt x="6939" y="5058"/>
                  <a:pt x="6896" y="5011"/>
                </a:cubicBezTo>
                <a:cubicBezTo>
                  <a:pt x="6868" y="4983"/>
                  <a:pt x="6859" y="4969"/>
                  <a:pt x="6871" y="4936"/>
                </a:cubicBezTo>
              </a:path>
              <a:path w="11560" h="2481">
                <a:moveTo>
                  <a:pt x="7466" y="4341"/>
                </a:moveTo>
                <a:cubicBezTo>
                  <a:pt x="7605" y="4325"/>
                  <a:pt x="7751" y="4304"/>
                  <a:pt x="7888" y="4291"/>
                </a:cubicBezTo>
                <a:cubicBezTo>
                  <a:pt x="7985" y="4282"/>
                  <a:pt x="7992" y="4297"/>
                  <a:pt x="8062" y="4242"/>
                </a:cubicBezTo>
              </a:path>
              <a:path w="11560" h="2481">
                <a:moveTo>
                  <a:pt x="7615" y="4514"/>
                </a:moveTo>
                <a:cubicBezTo>
                  <a:pt x="7605" y="4610"/>
                  <a:pt x="7551" y="4809"/>
                  <a:pt x="7615" y="4911"/>
                </a:cubicBezTo>
                <a:cubicBezTo>
                  <a:pt x="7623" y="4919"/>
                  <a:pt x="7632" y="4928"/>
                  <a:pt x="7640" y="4936"/>
                </a:cubicBezTo>
              </a:path>
              <a:path w="11560" h="2481">
                <a:moveTo>
                  <a:pt x="7913" y="4366"/>
                </a:moveTo>
                <a:cubicBezTo>
                  <a:pt x="7933" y="4521"/>
                  <a:pt x="7913" y="4685"/>
                  <a:pt x="7938" y="4837"/>
                </a:cubicBezTo>
                <a:cubicBezTo>
                  <a:pt x="7952" y="4923"/>
                  <a:pt x="8020" y="4978"/>
                  <a:pt x="8037" y="5060"/>
                </a:cubicBezTo>
              </a:path>
              <a:path w="11560" h="2481">
                <a:moveTo>
                  <a:pt x="6871" y="5184"/>
                </a:moveTo>
                <a:cubicBezTo>
                  <a:pt x="6944" y="5221"/>
                  <a:pt x="7031" y="5209"/>
                  <a:pt x="7119" y="5209"/>
                </a:cubicBezTo>
                <a:cubicBezTo>
                  <a:pt x="7369" y="5209"/>
                  <a:pt x="7616" y="5218"/>
                  <a:pt x="7863" y="5184"/>
                </a:cubicBezTo>
              </a:path>
              <a:path w="11560" h="2481">
                <a:moveTo>
                  <a:pt x="7243" y="5482"/>
                </a:moveTo>
                <a:cubicBezTo>
                  <a:pt x="7351" y="5475"/>
                  <a:pt x="7523" y="5491"/>
                  <a:pt x="7615" y="5432"/>
                </a:cubicBezTo>
                <a:cubicBezTo>
                  <a:pt x="7632" y="5416"/>
                  <a:pt x="7648" y="5399"/>
                  <a:pt x="7665" y="5383"/>
                </a:cubicBezTo>
              </a:path>
              <a:path w="11560" h="2481">
                <a:moveTo>
                  <a:pt x="7144" y="5556"/>
                </a:moveTo>
                <a:cubicBezTo>
                  <a:pt x="7094" y="5655"/>
                  <a:pt x="7069" y="5698"/>
                  <a:pt x="7069" y="5804"/>
                </a:cubicBezTo>
                <a:cubicBezTo>
                  <a:pt x="7069" y="5854"/>
                  <a:pt x="7069" y="5871"/>
                  <a:pt x="7069" y="5904"/>
                </a:cubicBezTo>
                <a:cubicBezTo>
                  <a:pt x="7124" y="5849"/>
                  <a:pt x="7152" y="5844"/>
                  <a:pt x="7218" y="5804"/>
                </a:cubicBezTo>
                <a:cubicBezTo>
                  <a:pt x="7274" y="5770"/>
                  <a:pt x="7330" y="5766"/>
                  <a:pt x="7392" y="5804"/>
                </a:cubicBezTo>
                <a:cubicBezTo>
                  <a:pt x="7455" y="5843"/>
                  <a:pt x="7485" y="5915"/>
                  <a:pt x="7516" y="5978"/>
                </a:cubicBezTo>
                <a:cubicBezTo>
                  <a:pt x="7541" y="6028"/>
                  <a:pt x="7587" y="6098"/>
                  <a:pt x="7541" y="6152"/>
                </a:cubicBezTo>
                <a:cubicBezTo>
                  <a:pt x="7519" y="6177"/>
                  <a:pt x="7422" y="6237"/>
                  <a:pt x="7392" y="6251"/>
                </a:cubicBezTo>
                <a:cubicBezTo>
                  <a:pt x="7295" y="6295"/>
                  <a:pt x="7179" y="6285"/>
                  <a:pt x="7094" y="6226"/>
                </a:cubicBezTo>
                <a:cubicBezTo>
                  <a:pt x="7086" y="6218"/>
                  <a:pt x="7077" y="6209"/>
                  <a:pt x="7069" y="6201"/>
                </a:cubicBezTo>
              </a:path>
              <a:path w="11560" h="2481">
                <a:moveTo>
                  <a:pt x="8434" y="5184"/>
                </a:moveTo>
                <a:cubicBezTo>
                  <a:pt x="8577" y="5169"/>
                  <a:pt x="8716" y="5154"/>
                  <a:pt x="8855" y="5135"/>
                </a:cubicBezTo>
                <a:cubicBezTo>
                  <a:pt x="8872" y="5135"/>
                  <a:pt x="8888" y="5135"/>
                  <a:pt x="8905" y="5135"/>
                </a:cubicBezTo>
              </a:path>
              <a:path w="11560" h="2481">
                <a:moveTo>
                  <a:pt x="9128" y="4539"/>
                </a:moveTo>
                <a:cubicBezTo>
                  <a:pt x="9201" y="4528"/>
                  <a:pt x="9434" y="4459"/>
                  <a:pt x="9525" y="4490"/>
                </a:cubicBezTo>
                <a:cubicBezTo>
                  <a:pt x="9599" y="4516"/>
                  <a:pt x="9587" y="4660"/>
                  <a:pt x="9575" y="4713"/>
                </a:cubicBezTo>
                <a:cubicBezTo>
                  <a:pt x="9538" y="4877"/>
                  <a:pt x="9488" y="4915"/>
                  <a:pt x="9401" y="5035"/>
                </a:cubicBezTo>
                <a:cubicBezTo>
                  <a:pt x="9383" y="5060"/>
                  <a:pt x="9299" y="5139"/>
                  <a:pt x="9252" y="5135"/>
                </a:cubicBezTo>
                <a:cubicBezTo>
                  <a:pt x="9240" y="5134"/>
                  <a:pt x="9189" y="5093"/>
                  <a:pt x="9178" y="5085"/>
                </a:cubicBezTo>
                <a:cubicBezTo>
                  <a:pt x="9229" y="5009"/>
                  <a:pt x="9270" y="4931"/>
                  <a:pt x="9376" y="4961"/>
                </a:cubicBezTo>
                <a:cubicBezTo>
                  <a:pt x="9442" y="4980"/>
                  <a:pt x="9513" y="5029"/>
                  <a:pt x="9575" y="5060"/>
                </a:cubicBezTo>
                <a:cubicBezTo>
                  <a:pt x="9623" y="5084"/>
                  <a:pt x="9637" y="5093"/>
                  <a:pt x="9674" y="5085"/>
                </a:cubicBezTo>
              </a:path>
              <a:path w="11560" h="2481">
                <a:moveTo>
                  <a:pt x="9897" y="4490"/>
                </a:moveTo>
                <a:cubicBezTo>
                  <a:pt x="10032" y="4474"/>
                  <a:pt x="10162" y="4455"/>
                  <a:pt x="10294" y="4440"/>
                </a:cubicBezTo>
              </a:path>
              <a:path w="11560" h="2481">
                <a:moveTo>
                  <a:pt x="9922" y="4762"/>
                </a:moveTo>
                <a:cubicBezTo>
                  <a:pt x="9898" y="4891"/>
                  <a:pt x="9791" y="5135"/>
                  <a:pt x="9922" y="5135"/>
                </a:cubicBezTo>
                <a:cubicBezTo>
                  <a:pt x="9930" y="5127"/>
                  <a:pt x="9939" y="5118"/>
                  <a:pt x="9947" y="5110"/>
                </a:cubicBezTo>
              </a:path>
              <a:path w="11560" h="2481">
                <a:moveTo>
                  <a:pt x="10220" y="4514"/>
                </a:moveTo>
                <a:cubicBezTo>
                  <a:pt x="10200" y="4651"/>
                  <a:pt x="10195" y="4773"/>
                  <a:pt x="10195" y="4911"/>
                </a:cubicBezTo>
                <a:cubicBezTo>
                  <a:pt x="10195" y="5038"/>
                  <a:pt x="10218" y="5144"/>
                  <a:pt x="10269" y="5259"/>
                </a:cubicBezTo>
              </a:path>
              <a:path w="11560" h="2481">
                <a:moveTo>
                  <a:pt x="9451" y="5407"/>
                </a:moveTo>
                <a:cubicBezTo>
                  <a:pt x="9644" y="5407"/>
                  <a:pt x="9830" y="5400"/>
                  <a:pt x="10021" y="5383"/>
                </a:cubicBezTo>
                <a:cubicBezTo>
                  <a:pt x="10105" y="5376"/>
                  <a:pt x="10163" y="5360"/>
                  <a:pt x="10244" y="5333"/>
                </a:cubicBezTo>
              </a:path>
              <a:path w="11560" h="2481">
                <a:moveTo>
                  <a:pt x="9798" y="5655"/>
                </a:moveTo>
                <a:cubicBezTo>
                  <a:pt x="10000" y="5646"/>
                  <a:pt x="9993" y="5656"/>
                  <a:pt x="10145" y="5531"/>
                </a:cubicBezTo>
              </a:path>
              <a:path w="11560" h="2481">
                <a:moveTo>
                  <a:pt x="9748" y="5606"/>
                </a:moveTo>
                <a:cubicBezTo>
                  <a:pt x="9701" y="5668"/>
                  <a:pt x="9522" y="5808"/>
                  <a:pt x="9599" y="5904"/>
                </a:cubicBezTo>
                <a:cubicBezTo>
                  <a:pt x="9646" y="5962"/>
                  <a:pt x="9686" y="5916"/>
                  <a:pt x="9723" y="5879"/>
                </a:cubicBezTo>
                <a:cubicBezTo>
                  <a:pt x="9757" y="5845"/>
                  <a:pt x="9825" y="5832"/>
                  <a:pt x="9872" y="5804"/>
                </a:cubicBezTo>
                <a:cubicBezTo>
                  <a:pt x="9967" y="5747"/>
                  <a:pt x="10055" y="5799"/>
                  <a:pt x="10096" y="5904"/>
                </a:cubicBezTo>
                <a:cubicBezTo>
                  <a:pt x="10127" y="5982"/>
                  <a:pt x="10118" y="6121"/>
                  <a:pt x="10096" y="6201"/>
                </a:cubicBezTo>
                <a:cubicBezTo>
                  <a:pt x="10067" y="6308"/>
                  <a:pt x="10003" y="6324"/>
                  <a:pt x="9922" y="6375"/>
                </a:cubicBezTo>
                <a:cubicBezTo>
                  <a:pt x="9858" y="6415"/>
                  <a:pt x="9773" y="6410"/>
                  <a:pt x="9699" y="6375"/>
                </a:cubicBezTo>
                <a:cubicBezTo>
                  <a:pt x="9642" y="6348"/>
                  <a:pt x="9639" y="6275"/>
                  <a:pt x="9624" y="6226"/>
                </a:cubicBezTo>
              </a:path>
              <a:path w="11560" h="2481">
                <a:moveTo>
                  <a:pt x="10716" y="5432"/>
                </a:moveTo>
                <a:cubicBezTo>
                  <a:pt x="10804" y="5417"/>
                  <a:pt x="10883" y="5409"/>
                  <a:pt x="10964" y="5383"/>
                </a:cubicBezTo>
              </a:path>
              <a:path w="11560" h="2481">
                <a:moveTo>
                  <a:pt x="10740" y="5680"/>
                </a:moveTo>
                <a:cubicBezTo>
                  <a:pt x="10894" y="5673"/>
                  <a:pt x="10951" y="5679"/>
                  <a:pt x="11063" y="5581"/>
                </a:cubicBezTo>
              </a:path>
              <a:path w="11560" h="2481">
                <a:moveTo>
                  <a:pt x="11410" y="4688"/>
                </a:moveTo>
                <a:cubicBezTo>
                  <a:pt x="11427" y="4647"/>
                  <a:pt x="11443" y="4605"/>
                  <a:pt x="11460" y="4564"/>
                </a:cubicBezTo>
              </a:path>
              <a:path w="11560" h="2481">
                <a:moveTo>
                  <a:pt x="11807" y="4638"/>
                </a:moveTo>
                <a:cubicBezTo>
                  <a:pt x="11751" y="4831"/>
                  <a:pt x="11769" y="4841"/>
                  <a:pt x="11633" y="4936"/>
                </a:cubicBezTo>
                <a:cubicBezTo>
                  <a:pt x="11604" y="4966"/>
                  <a:pt x="11590" y="4978"/>
                  <a:pt x="11559" y="4986"/>
                </a:cubicBezTo>
                <a:cubicBezTo>
                  <a:pt x="11637" y="4957"/>
                  <a:pt x="11679" y="4951"/>
                  <a:pt x="11757" y="4986"/>
                </a:cubicBezTo>
                <a:cubicBezTo>
                  <a:pt x="11827" y="5017"/>
                  <a:pt x="11895" y="5074"/>
                  <a:pt x="11881" y="5159"/>
                </a:cubicBezTo>
                <a:cubicBezTo>
                  <a:pt x="11866" y="5250"/>
                  <a:pt x="11811" y="5297"/>
                  <a:pt x="11757" y="5358"/>
                </a:cubicBezTo>
                <a:cubicBezTo>
                  <a:pt x="11692" y="5431"/>
                  <a:pt x="11556" y="5473"/>
                  <a:pt x="11485" y="5383"/>
                </a:cubicBezTo>
                <a:cubicBezTo>
                  <a:pt x="11465" y="5342"/>
                  <a:pt x="11456" y="5336"/>
                  <a:pt x="11460" y="5308"/>
                </a:cubicBezTo>
              </a:path>
              <a:path w="11560" h="2481">
                <a:moveTo>
                  <a:pt x="12105" y="4663"/>
                </a:moveTo>
                <a:cubicBezTo>
                  <a:pt x="12246" y="4603"/>
                  <a:pt x="12328" y="4569"/>
                  <a:pt x="12477" y="4564"/>
                </a:cubicBezTo>
                <a:cubicBezTo>
                  <a:pt x="12544" y="4562"/>
                  <a:pt x="12587" y="4547"/>
                  <a:pt x="12650" y="4539"/>
                </a:cubicBezTo>
              </a:path>
              <a:path w="11560" h="2481">
                <a:moveTo>
                  <a:pt x="12179" y="4936"/>
                </a:moveTo>
                <a:cubicBezTo>
                  <a:pt x="12153" y="5007"/>
                  <a:pt x="12037" y="5215"/>
                  <a:pt x="12105" y="5308"/>
                </a:cubicBezTo>
                <a:cubicBezTo>
                  <a:pt x="12113" y="5308"/>
                  <a:pt x="12121" y="5308"/>
                  <a:pt x="12129" y="5308"/>
                </a:cubicBezTo>
              </a:path>
              <a:path w="11560" h="2481">
                <a:moveTo>
                  <a:pt x="12353" y="4589"/>
                </a:moveTo>
                <a:cubicBezTo>
                  <a:pt x="12392" y="4654"/>
                  <a:pt x="12378" y="4732"/>
                  <a:pt x="12378" y="4812"/>
                </a:cubicBezTo>
                <a:cubicBezTo>
                  <a:pt x="12378" y="4941"/>
                  <a:pt x="12372" y="5060"/>
                  <a:pt x="12402" y="5184"/>
                </a:cubicBezTo>
                <a:cubicBezTo>
                  <a:pt x="12428" y="5290"/>
                  <a:pt x="12486" y="5350"/>
                  <a:pt x="12551" y="5432"/>
                </a:cubicBezTo>
              </a:path>
              <a:path w="11560" h="2481">
                <a:moveTo>
                  <a:pt x="11509" y="5507"/>
                </a:moveTo>
                <a:cubicBezTo>
                  <a:pt x="11652" y="5484"/>
                  <a:pt x="11787" y="5461"/>
                  <a:pt x="11931" y="5457"/>
                </a:cubicBezTo>
                <a:cubicBezTo>
                  <a:pt x="12075" y="5453"/>
                  <a:pt x="12211" y="5436"/>
                  <a:pt x="12353" y="5432"/>
                </a:cubicBezTo>
                <a:cubicBezTo>
                  <a:pt x="12478" y="5429"/>
                  <a:pt x="12534" y="5413"/>
                  <a:pt x="12626" y="5333"/>
                </a:cubicBezTo>
              </a:path>
              <a:path w="11560" h="2481">
                <a:moveTo>
                  <a:pt x="11956" y="5804"/>
                </a:moveTo>
                <a:cubicBezTo>
                  <a:pt x="12089" y="5779"/>
                  <a:pt x="12226" y="5755"/>
                  <a:pt x="12353" y="5705"/>
                </a:cubicBezTo>
                <a:cubicBezTo>
                  <a:pt x="12412" y="5675"/>
                  <a:pt x="12438" y="5660"/>
                  <a:pt x="12477" y="5631"/>
                </a:cubicBezTo>
              </a:path>
              <a:path w="11560" h="2481">
                <a:moveTo>
                  <a:pt x="11931" y="6003"/>
                </a:moveTo>
                <a:cubicBezTo>
                  <a:pt x="11923" y="6011"/>
                  <a:pt x="11914" y="6020"/>
                  <a:pt x="11906" y="6028"/>
                </a:cubicBezTo>
                <a:cubicBezTo>
                  <a:pt x="11961" y="6082"/>
                  <a:pt x="12028" y="6079"/>
                  <a:pt x="12105" y="6052"/>
                </a:cubicBezTo>
                <a:cubicBezTo>
                  <a:pt x="12173" y="6028"/>
                  <a:pt x="12215" y="5933"/>
                  <a:pt x="12303" y="5953"/>
                </a:cubicBezTo>
                <a:cubicBezTo>
                  <a:pt x="12394" y="5973"/>
                  <a:pt x="12399" y="6052"/>
                  <a:pt x="12402" y="6127"/>
                </a:cubicBezTo>
                <a:cubicBezTo>
                  <a:pt x="12405" y="6199"/>
                  <a:pt x="12405" y="6316"/>
                  <a:pt x="12353" y="6375"/>
                </a:cubicBezTo>
                <a:cubicBezTo>
                  <a:pt x="12299" y="6437"/>
                  <a:pt x="12124" y="6466"/>
                  <a:pt x="12055" y="6474"/>
                </a:cubicBezTo>
                <a:cubicBezTo>
                  <a:pt x="11970" y="6484"/>
                  <a:pt x="11861" y="6432"/>
                  <a:pt x="11782" y="6400"/>
                </a:cubicBezTo>
                <a:cubicBezTo>
                  <a:pt x="11766" y="6392"/>
                  <a:pt x="11749" y="6383"/>
                  <a:pt x="11733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Ink 5"/>
          <p:cNvSpPr/>
          <p:nvPr/>
        </p:nvSpPr>
        <p:spPr>
          <a:xfrm>
            <a:off x="231840" y="2589120"/>
            <a:ext cx="3036960" cy="831960"/>
          </a:xfrm>
          <a:custGeom>
            <a:avLst/>
            <a:gdLst/>
            <a:ahLst/>
            <a:rect l="l" t="t" r="r" b="b"/>
            <a:pathLst>
              <a:path w="8435" h="2308">
                <a:moveTo>
                  <a:pt x="645" y="7665"/>
                </a:moveTo>
                <a:cubicBezTo>
                  <a:pt x="645" y="7871"/>
                  <a:pt x="599" y="8120"/>
                  <a:pt x="670" y="8310"/>
                </a:cubicBezTo>
                <a:cubicBezTo>
                  <a:pt x="716" y="8264"/>
                  <a:pt x="740" y="8219"/>
                  <a:pt x="769" y="8161"/>
                </a:cubicBezTo>
                <a:cubicBezTo>
                  <a:pt x="786" y="8127"/>
                  <a:pt x="821" y="8022"/>
                  <a:pt x="868" y="8012"/>
                </a:cubicBezTo>
                <a:cubicBezTo>
                  <a:pt x="1008" y="7982"/>
                  <a:pt x="1044" y="8127"/>
                  <a:pt x="1067" y="8235"/>
                </a:cubicBezTo>
                <a:cubicBezTo>
                  <a:pt x="1076" y="8275"/>
                  <a:pt x="1035" y="8387"/>
                  <a:pt x="992" y="8409"/>
                </a:cubicBezTo>
                <a:cubicBezTo>
                  <a:pt x="930" y="8441"/>
                  <a:pt x="871" y="8419"/>
                  <a:pt x="819" y="8409"/>
                </a:cubicBezTo>
                <a:cubicBezTo>
                  <a:pt x="802" y="8409"/>
                  <a:pt x="786" y="8409"/>
                  <a:pt x="769" y="8409"/>
                </a:cubicBezTo>
              </a:path>
              <a:path w="8435" h="2308">
                <a:moveTo>
                  <a:pt x="1191" y="8409"/>
                </a:moveTo>
                <a:cubicBezTo>
                  <a:pt x="1191" y="8417"/>
                  <a:pt x="1191" y="8426"/>
                  <a:pt x="1191" y="8434"/>
                </a:cubicBezTo>
              </a:path>
              <a:path w="8435" h="2308">
                <a:moveTo>
                  <a:pt x="2381" y="7293"/>
                </a:moveTo>
                <a:cubicBezTo>
                  <a:pt x="2504" y="7274"/>
                  <a:pt x="2632" y="7265"/>
                  <a:pt x="2753" y="7243"/>
                </a:cubicBezTo>
                <a:cubicBezTo>
                  <a:pt x="2852" y="7225"/>
                  <a:pt x="2951" y="7198"/>
                  <a:pt x="3051" y="7193"/>
                </a:cubicBezTo>
                <a:cubicBezTo>
                  <a:pt x="3068" y="7193"/>
                  <a:pt x="3084" y="7193"/>
                  <a:pt x="3101" y="7193"/>
                </a:cubicBezTo>
              </a:path>
              <a:path w="8435" h="2308">
                <a:moveTo>
                  <a:pt x="2704" y="7218"/>
                </a:moveTo>
                <a:cubicBezTo>
                  <a:pt x="2675" y="7385"/>
                  <a:pt x="2654" y="7544"/>
                  <a:pt x="2654" y="7714"/>
                </a:cubicBezTo>
                <a:cubicBezTo>
                  <a:pt x="2654" y="7808"/>
                  <a:pt x="2674" y="7858"/>
                  <a:pt x="2679" y="7938"/>
                </a:cubicBezTo>
                <a:cubicBezTo>
                  <a:pt x="2679" y="7979"/>
                  <a:pt x="2671" y="7995"/>
                  <a:pt x="2704" y="7987"/>
                </a:cubicBezTo>
              </a:path>
              <a:path w="8435" h="2308">
                <a:moveTo>
                  <a:pt x="2877" y="7293"/>
                </a:moveTo>
                <a:cubicBezTo>
                  <a:pt x="2859" y="7438"/>
                  <a:pt x="2853" y="7569"/>
                  <a:pt x="2853" y="7714"/>
                </a:cubicBezTo>
                <a:cubicBezTo>
                  <a:pt x="2853" y="7817"/>
                  <a:pt x="2868" y="7893"/>
                  <a:pt x="2952" y="7962"/>
                </a:cubicBezTo>
                <a:cubicBezTo>
                  <a:pt x="3015" y="8014"/>
                  <a:pt x="3075" y="8035"/>
                  <a:pt x="3150" y="8062"/>
                </a:cubicBezTo>
              </a:path>
              <a:path w="8435" h="2308">
                <a:moveTo>
                  <a:pt x="3621" y="8062"/>
                </a:moveTo>
                <a:cubicBezTo>
                  <a:pt x="3757" y="8062"/>
                  <a:pt x="3883" y="8077"/>
                  <a:pt x="4018" y="8086"/>
                </a:cubicBezTo>
                <a:cubicBezTo>
                  <a:pt x="4130" y="8093"/>
                  <a:pt x="4234" y="8090"/>
                  <a:pt x="4341" y="8062"/>
                </a:cubicBezTo>
              </a:path>
              <a:path w="8435" h="2308">
                <a:moveTo>
                  <a:pt x="4415" y="7293"/>
                </a:moveTo>
                <a:cubicBezTo>
                  <a:pt x="4632" y="7199"/>
                  <a:pt x="4708" y="7193"/>
                  <a:pt x="4936" y="7193"/>
                </a:cubicBezTo>
                <a:cubicBezTo>
                  <a:pt x="5038" y="7193"/>
                  <a:pt x="5132" y="7212"/>
                  <a:pt x="5234" y="7218"/>
                </a:cubicBezTo>
              </a:path>
              <a:path w="8435" h="2308">
                <a:moveTo>
                  <a:pt x="4787" y="7417"/>
                </a:moveTo>
                <a:cubicBezTo>
                  <a:pt x="4728" y="7674"/>
                  <a:pt x="4705" y="7706"/>
                  <a:pt x="4738" y="7913"/>
                </a:cubicBezTo>
                <a:cubicBezTo>
                  <a:pt x="4745" y="7957"/>
                  <a:pt x="4754" y="7994"/>
                  <a:pt x="4762" y="8037"/>
                </a:cubicBezTo>
              </a:path>
              <a:path w="8435" h="2308">
                <a:moveTo>
                  <a:pt x="4986" y="7367"/>
                </a:moveTo>
                <a:cubicBezTo>
                  <a:pt x="5048" y="7515"/>
                  <a:pt x="5087" y="7658"/>
                  <a:pt x="5135" y="7813"/>
                </a:cubicBezTo>
                <a:cubicBezTo>
                  <a:pt x="5162" y="7901"/>
                  <a:pt x="5182" y="8001"/>
                  <a:pt x="5209" y="8086"/>
                </a:cubicBezTo>
                <a:cubicBezTo>
                  <a:pt x="5217" y="8103"/>
                  <a:pt x="5226" y="8119"/>
                  <a:pt x="5234" y="8136"/>
                </a:cubicBezTo>
              </a:path>
              <a:path w="8435" h="2308">
                <a:moveTo>
                  <a:pt x="4614" y="8186"/>
                </a:moveTo>
                <a:cubicBezTo>
                  <a:pt x="4789" y="8186"/>
                  <a:pt x="4963" y="8198"/>
                  <a:pt x="5135" y="8210"/>
                </a:cubicBezTo>
                <a:cubicBezTo>
                  <a:pt x="5230" y="8217"/>
                  <a:pt x="5297" y="8195"/>
                  <a:pt x="5383" y="8161"/>
                </a:cubicBezTo>
              </a:path>
              <a:path w="8435" h="2308">
                <a:moveTo>
                  <a:pt x="4961" y="8582"/>
                </a:moveTo>
                <a:cubicBezTo>
                  <a:pt x="4954" y="8718"/>
                  <a:pt x="4936" y="8842"/>
                  <a:pt x="4936" y="8979"/>
                </a:cubicBezTo>
                <a:cubicBezTo>
                  <a:pt x="4936" y="9092"/>
                  <a:pt x="4922" y="9199"/>
                  <a:pt x="4961" y="9302"/>
                </a:cubicBezTo>
              </a:path>
              <a:path w="8435" h="2308">
                <a:moveTo>
                  <a:pt x="5333" y="8607"/>
                </a:moveTo>
                <a:cubicBezTo>
                  <a:pt x="5450" y="8590"/>
                  <a:pt x="5618" y="8612"/>
                  <a:pt x="5730" y="8582"/>
                </a:cubicBezTo>
                <a:cubicBezTo>
                  <a:pt x="5768" y="8545"/>
                  <a:pt x="5792" y="8527"/>
                  <a:pt x="5829" y="8508"/>
                </a:cubicBezTo>
              </a:path>
              <a:path w="8435" h="2308">
                <a:moveTo>
                  <a:pt x="5333" y="8632"/>
                </a:moveTo>
                <a:cubicBezTo>
                  <a:pt x="5313" y="8707"/>
                  <a:pt x="5244" y="8845"/>
                  <a:pt x="5383" y="8880"/>
                </a:cubicBezTo>
                <a:cubicBezTo>
                  <a:pt x="5462" y="8900"/>
                  <a:pt x="5547" y="8905"/>
                  <a:pt x="5631" y="8905"/>
                </a:cubicBezTo>
                <a:cubicBezTo>
                  <a:pt x="5724" y="8905"/>
                  <a:pt x="5824" y="8895"/>
                  <a:pt x="5904" y="8954"/>
                </a:cubicBezTo>
                <a:cubicBezTo>
                  <a:pt x="6013" y="9035"/>
                  <a:pt x="6004" y="9188"/>
                  <a:pt x="5978" y="9302"/>
                </a:cubicBezTo>
                <a:cubicBezTo>
                  <a:pt x="5963" y="9366"/>
                  <a:pt x="5861" y="9414"/>
                  <a:pt x="5804" y="9426"/>
                </a:cubicBezTo>
                <a:cubicBezTo>
                  <a:pt x="5724" y="9442"/>
                  <a:pt x="5631" y="9423"/>
                  <a:pt x="5556" y="9401"/>
                </a:cubicBezTo>
                <a:cubicBezTo>
                  <a:pt x="5481" y="9379"/>
                  <a:pt x="5407" y="9351"/>
                  <a:pt x="5333" y="9327"/>
                </a:cubicBezTo>
              </a:path>
              <a:path w="8435" h="2308">
                <a:moveTo>
                  <a:pt x="2183" y="7888"/>
                </a:moveTo>
                <a:lnTo>
                  <a:pt x="2183" y="7888"/>
                </a:lnTo>
              </a:path>
              <a:path w="8435" h="2308">
                <a:moveTo>
                  <a:pt x="1414" y="7342"/>
                </a:moveTo>
                <a:cubicBezTo>
                  <a:pt x="1414" y="7536"/>
                  <a:pt x="1437" y="7584"/>
                  <a:pt x="1463" y="7739"/>
                </a:cubicBezTo>
                <a:cubicBezTo>
                  <a:pt x="1475" y="7812"/>
                  <a:pt x="1509" y="7863"/>
                  <a:pt x="1513" y="7938"/>
                </a:cubicBezTo>
                <a:cubicBezTo>
                  <a:pt x="1513" y="7979"/>
                  <a:pt x="1513" y="8003"/>
                  <a:pt x="1513" y="7962"/>
                </a:cubicBezTo>
              </a:path>
              <a:path w="8435" h="2308">
                <a:moveTo>
                  <a:pt x="1761" y="7367"/>
                </a:moveTo>
                <a:cubicBezTo>
                  <a:pt x="1844" y="7330"/>
                  <a:pt x="1964" y="7310"/>
                  <a:pt x="2034" y="7268"/>
                </a:cubicBezTo>
              </a:path>
              <a:path w="8435" h="2308">
                <a:moveTo>
                  <a:pt x="1761" y="7417"/>
                </a:moveTo>
                <a:cubicBezTo>
                  <a:pt x="1729" y="7463"/>
                  <a:pt x="1634" y="7537"/>
                  <a:pt x="1687" y="7590"/>
                </a:cubicBezTo>
                <a:cubicBezTo>
                  <a:pt x="1752" y="7655"/>
                  <a:pt x="1854" y="7660"/>
                  <a:pt x="1935" y="7689"/>
                </a:cubicBezTo>
                <a:cubicBezTo>
                  <a:pt x="2014" y="7718"/>
                  <a:pt x="2130" y="7753"/>
                  <a:pt x="2108" y="7863"/>
                </a:cubicBezTo>
                <a:cubicBezTo>
                  <a:pt x="2100" y="7904"/>
                  <a:pt x="1964" y="7950"/>
                  <a:pt x="1935" y="7962"/>
                </a:cubicBezTo>
                <a:cubicBezTo>
                  <a:pt x="1872" y="7989"/>
                  <a:pt x="1800" y="7997"/>
                  <a:pt x="1736" y="8012"/>
                </a:cubicBezTo>
                <a:cubicBezTo>
                  <a:pt x="1703" y="8020"/>
                  <a:pt x="1670" y="8029"/>
                  <a:pt x="1637" y="8037"/>
                </a:cubicBezTo>
              </a:path>
              <a:path w="8435" h="2308">
                <a:moveTo>
                  <a:pt x="1538" y="8260"/>
                </a:moveTo>
                <a:cubicBezTo>
                  <a:pt x="1739" y="8260"/>
                  <a:pt x="1936" y="8248"/>
                  <a:pt x="2133" y="8235"/>
                </a:cubicBezTo>
                <a:cubicBezTo>
                  <a:pt x="2289" y="8225"/>
                  <a:pt x="2448" y="8214"/>
                  <a:pt x="2604" y="8210"/>
                </a:cubicBezTo>
                <a:cubicBezTo>
                  <a:pt x="2645" y="8209"/>
                  <a:pt x="2876" y="8226"/>
                  <a:pt x="2902" y="8186"/>
                </a:cubicBezTo>
                <a:cubicBezTo>
                  <a:pt x="2880" y="8164"/>
                  <a:pt x="2875" y="8155"/>
                  <a:pt x="2853" y="8161"/>
                </a:cubicBezTo>
              </a:path>
              <a:path w="8435" h="2308">
                <a:moveTo>
                  <a:pt x="2257" y="8582"/>
                </a:moveTo>
                <a:cubicBezTo>
                  <a:pt x="2272" y="8708"/>
                  <a:pt x="2302" y="8832"/>
                  <a:pt x="2307" y="8954"/>
                </a:cubicBezTo>
                <a:cubicBezTo>
                  <a:pt x="2310" y="9031"/>
                  <a:pt x="2306" y="9059"/>
                  <a:pt x="2332" y="9128"/>
                </a:cubicBezTo>
              </a:path>
              <a:path w="8435" h="2308">
                <a:moveTo>
                  <a:pt x="2555" y="8582"/>
                </a:moveTo>
                <a:cubicBezTo>
                  <a:pt x="2712" y="8537"/>
                  <a:pt x="2881" y="8438"/>
                  <a:pt x="3026" y="8409"/>
                </a:cubicBezTo>
              </a:path>
              <a:path w="8435" h="2308">
                <a:moveTo>
                  <a:pt x="2604" y="8582"/>
                </a:moveTo>
                <a:cubicBezTo>
                  <a:pt x="2568" y="8644"/>
                  <a:pt x="2579" y="8656"/>
                  <a:pt x="2629" y="8706"/>
                </a:cubicBezTo>
                <a:cubicBezTo>
                  <a:pt x="2673" y="8749"/>
                  <a:pt x="2725" y="8773"/>
                  <a:pt x="2778" y="8781"/>
                </a:cubicBezTo>
                <a:cubicBezTo>
                  <a:pt x="2919" y="8801"/>
                  <a:pt x="2938" y="8824"/>
                  <a:pt x="3051" y="8930"/>
                </a:cubicBezTo>
                <a:cubicBezTo>
                  <a:pt x="3100" y="8976"/>
                  <a:pt x="3125" y="9062"/>
                  <a:pt x="3101" y="9128"/>
                </a:cubicBezTo>
                <a:cubicBezTo>
                  <a:pt x="3083" y="9178"/>
                  <a:pt x="2994" y="9219"/>
                  <a:pt x="2952" y="9227"/>
                </a:cubicBezTo>
                <a:cubicBezTo>
                  <a:pt x="2874" y="9242"/>
                  <a:pt x="2788" y="9268"/>
                  <a:pt x="2704" y="9252"/>
                </a:cubicBezTo>
                <a:cubicBezTo>
                  <a:pt x="2612" y="9235"/>
                  <a:pt x="2523" y="9222"/>
                  <a:pt x="2431" y="9203"/>
                </a:cubicBezTo>
              </a:path>
              <a:path w="8435" h="2308">
                <a:moveTo>
                  <a:pt x="6375" y="8210"/>
                </a:moveTo>
                <a:cubicBezTo>
                  <a:pt x="6479" y="8195"/>
                  <a:pt x="6496" y="8196"/>
                  <a:pt x="6623" y="8210"/>
                </a:cubicBezTo>
                <a:cubicBezTo>
                  <a:pt x="6639" y="8210"/>
                  <a:pt x="6656" y="8210"/>
                  <a:pt x="6672" y="8210"/>
                </a:cubicBezTo>
              </a:path>
              <a:path w="8435" h="2308">
                <a:moveTo>
                  <a:pt x="6449" y="8409"/>
                </a:moveTo>
                <a:cubicBezTo>
                  <a:pt x="6568" y="8409"/>
                  <a:pt x="6656" y="8390"/>
                  <a:pt x="6772" y="8359"/>
                </a:cubicBezTo>
              </a:path>
              <a:path w="8435" h="2308">
                <a:moveTo>
                  <a:pt x="7417" y="7317"/>
                </a:moveTo>
                <a:cubicBezTo>
                  <a:pt x="7449" y="7495"/>
                  <a:pt x="7429" y="7631"/>
                  <a:pt x="7417" y="7813"/>
                </a:cubicBezTo>
                <a:cubicBezTo>
                  <a:pt x="7412" y="7891"/>
                  <a:pt x="7391" y="8101"/>
                  <a:pt x="7441" y="8136"/>
                </a:cubicBezTo>
              </a:path>
              <a:path w="8435" h="2308">
                <a:moveTo>
                  <a:pt x="7665" y="7441"/>
                </a:moveTo>
                <a:cubicBezTo>
                  <a:pt x="7644" y="7529"/>
                  <a:pt x="7595" y="7626"/>
                  <a:pt x="7590" y="7714"/>
                </a:cubicBezTo>
                <a:cubicBezTo>
                  <a:pt x="7586" y="7791"/>
                  <a:pt x="7641" y="7823"/>
                  <a:pt x="7714" y="7838"/>
                </a:cubicBezTo>
                <a:cubicBezTo>
                  <a:pt x="7765" y="7848"/>
                  <a:pt x="7838" y="7838"/>
                  <a:pt x="7888" y="7838"/>
                </a:cubicBezTo>
              </a:path>
              <a:path w="8435" h="2308">
                <a:moveTo>
                  <a:pt x="7987" y="7243"/>
                </a:moveTo>
                <a:cubicBezTo>
                  <a:pt x="7953" y="7447"/>
                  <a:pt x="7938" y="7610"/>
                  <a:pt x="7938" y="7813"/>
                </a:cubicBezTo>
                <a:cubicBezTo>
                  <a:pt x="7938" y="7930"/>
                  <a:pt x="7962" y="8043"/>
                  <a:pt x="7962" y="8161"/>
                </a:cubicBezTo>
                <a:cubicBezTo>
                  <a:pt x="7962" y="8212"/>
                  <a:pt x="7963" y="8231"/>
                  <a:pt x="7987" y="8260"/>
                </a:cubicBezTo>
              </a:path>
              <a:path w="8435" h="2308">
                <a:moveTo>
                  <a:pt x="8136" y="7441"/>
                </a:moveTo>
                <a:cubicBezTo>
                  <a:pt x="8339" y="7353"/>
                  <a:pt x="8355" y="7347"/>
                  <a:pt x="8558" y="7367"/>
                </a:cubicBezTo>
                <a:cubicBezTo>
                  <a:pt x="8637" y="7375"/>
                  <a:pt x="8702" y="7342"/>
                  <a:pt x="8781" y="7342"/>
                </a:cubicBezTo>
              </a:path>
              <a:path w="8435" h="2308">
                <a:moveTo>
                  <a:pt x="8310" y="7417"/>
                </a:moveTo>
                <a:cubicBezTo>
                  <a:pt x="8215" y="7682"/>
                  <a:pt x="8186" y="7714"/>
                  <a:pt x="8186" y="7938"/>
                </a:cubicBezTo>
                <a:cubicBezTo>
                  <a:pt x="8186" y="8015"/>
                  <a:pt x="8210" y="8029"/>
                  <a:pt x="8260" y="8086"/>
                </a:cubicBezTo>
              </a:path>
              <a:path w="8435" h="2308">
                <a:moveTo>
                  <a:pt x="8582" y="7367"/>
                </a:moveTo>
                <a:cubicBezTo>
                  <a:pt x="8563" y="7535"/>
                  <a:pt x="8539" y="7718"/>
                  <a:pt x="8558" y="7888"/>
                </a:cubicBezTo>
                <a:cubicBezTo>
                  <a:pt x="8576" y="8047"/>
                  <a:pt x="8645" y="8051"/>
                  <a:pt x="8731" y="8161"/>
                </a:cubicBezTo>
                <a:cubicBezTo>
                  <a:pt x="8777" y="8219"/>
                  <a:pt x="8763" y="8221"/>
                  <a:pt x="8830" y="8260"/>
                </a:cubicBezTo>
              </a:path>
              <a:path w="8435" h="2308">
                <a:moveTo>
                  <a:pt x="7466" y="8235"/>
                </a:moveTo>
                <a:cubicBezTo>
                  <a:pt x="7766" y="8235"/>
                  <a:pt x="8062" y="8243"/>
                  <a:pt x="8359" y="8260"/>
                </a:cubicBezTo>
                <a:cubicBezTo>
                  <a:pt x="8513" y="8269"/>
                  <a:pt x="8658" y="8250"/>
                  <a:pt x="8806" y="8235"/>
                </a:cubicBezTo>
                <a:cubicBezTo>
                  <a:pt x="8892" y="8226"/>
                  <a:pt x="8875" y="8239"/>
                  <a:pt x="8930" y="8186"/>
                </a:cubicBezTo>
              </a:path>
              <a:path w="8435" h="2308">
                <a:moveTo>
                  <a:pt x="8086" y="8558"/>
                </a:moveTo>
                <a:cubicBezTo>
                  <a:pt x="8062" y="8707"/>
                  <a:pt x="8037" y="8830"/>
                  <a:pt x="8037" y="8979"/>
                </a:cubicBezTo>
                <a:cubicBezTo>
                  <a:pt x="8037" y="9103"/>
                  <a:pt x="8037" y="9227"/>
                  <a:pt x="8037" y="9351"/>
                </a:cubicBezTo>
              </a:path>
              <a:path w="8435" h="2308">
                <a:moveTo>
                  <a:pt x="8409" y="8657"/>
                </a:moveTo>
                <a:cubicBezTo>
                  <a:pt x="8577" y="8611"/>
                  <a:pt x="8730" y="8598"/>
                  <a:pt x="8905" y="8582"/>
                </a:cubicBezTo>
                <a:cubicBezTo>
                  <a:pt x="8949" y="8582"/>
                  <a:pt x="8962" y="8585"/>
                  <a:pt x="8979" y="8558"/>
                </a:cubicBezTo>
              </a:path>
              <a:path w="8435" h="2308">
                <a:moveTo>
                  <a:pt x="8458" y="8682"/>
                </a:moveTo>
                <a:cubicBezTo>
                  <a:pt x="8377" y="8803"/>
                  <a:pt x="8334" y="8821"/>
                  <a:pt x="8384" y="8905"/>
                </a:cubicBezTo>
                <a:cubicBezTo>
                  <a:pt x="8461" y="8956"/>
                  <a:pt x="8502" y="8960"/>
                  <a:pt x="8582" y="8930"/>
                </a:cubicBezTo>
                <a:cubicBezTo>
                  <a:pt x="8688" y="8890"/>
                  <a:pt x="8743" y="8864"/>
                  <a:pt x="8855" y="8905"/>
                </a:cubicBezTo>
                <a:cubicBezTo>
                  <a:pt x="8982" y="8951"/>
                  <a:pt x="8971" y="9058"/>
                  <a:pt x="9029" y="9153"/>
                </a:cubicBezTo>
                <a:cubicBezTo>
                  <a:pt x="9084" y="9244"/>
                  <a:pt x="9112" y="9306"/>
                  <a:pt x="9004" y="9376"/>
                </a:cubicBezTo>
                <a:cubicBezTo>
                  <a:pt x="8924" y="9427"/>
                  <a:pt x="8856" y="9485"/>
                  <a:pt x="8756" y="9500"/>
                </a:cubicBezTo>
                <a:cubicBezTo>
                  <a:pt x="8573" y="9527"/>
                  <a:pt x="8428" y="9442"/>
                  <a:pt x="8260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Ink 6"/>
          <p:cNvSpPr/>
          <p:nvPr/>
        </p:nvSpPr>
        <p:spPr>
          <a:xfrm>
            <a:off x="268200" y="3759120"/>
            <a:ext cx="258840" cy="295200"/>
          </a:xfrm>
          <a:custGeom>
            <a:avLst/>
            <a:gdLst/>
            <a:ahLst/>
            <a:rect l="l" t="t" r="r" b="b"/>
            <a:pathLst>
              <a:path w="720" h="819">
                <a:moveTo>
                  <a:pt x="1191" y="10790"/>
                </a:moveTo>
                <a:cubicBezTo>
                  <a:pt x="1201" y="10682"/>
                  <a:pt x="1227" y="10567"/>
                  <a:pt x="1166" y="10468"/>
                </a:cubicBezTo>
                <a:cubicBezTo>
                  <a:pt x="1127" y="10406"/>
                  <a:pt x="1011" y="10460"/>
                  <a:pt x="967" y="10492"/>
                </a:cubicBezTo>
                <a:cubicBezTo>
                  <a:pt x="874" y="10561"/>
                  <a:pt x="806" y="10666"/>
                  <a:pt x="769" y="10765"/>
                </a:cubicBezTo>
                <a:cubicBezTo>
                  <a:pt x="741" y="10839"/>
                  <a:pt x="723" y="10959"/>
                  <a:pt x="744" y="11038"/>
                </a:cubicBezTo>
                <a:cubicBezTo>
                  <a:pt x="772" y="11144"/>
                  <a:pt x="831" y="11182"/>
                  <a:pt x="918" y="11237"/>
                </a:cubicBezTo>
                <a:cubicBezTo>
                  <a:pt x="1010" y="11295"/>
                  <a:pt x="1072" y="11243"/>
                  <a:pt x="1166" y="11212"/>
                </a:cubicBezTo>
              </a:path>
              <a:path w="720" h="819">
                <a:moveTo>
                  <a:pt x="1463" y="11137"/>
                </a:moveTo>
                <a:lnTo>
                  <a:pt x="1463" y="1113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Ink 7"/>
          <p:cNvSpPr/>
          <p:nvPr/>
        </p:nvSpPr>
        <p:spPr>
          <a:xfrm>
            <a:off x="812880" y="3687840"/>
            <a:ext cx="2116080" cy="544320"/>
          </a:xfrm>
          <a:custGeom>
            <a:avLst/>
            <a:gdLst/>
            <a:ahLst/>
            <a:rect l="l" t="t" r="r" b="b"/>
            <a:pathLst>
              <a:path w="5880" h="1514">
                <a:moveTo>
                  <a:pt x="2282" y="10244"/>
                </a:moveTo>
                <a:cubicBezTo>
                  <a:pt x="2282" y="10486"/>
                  <a:pt x="2285" y="10725"/>
                  <a:pt x="2257" y="10964"/>
                </a:cubicBezTo>
                <a:cubicBezTo>
                  <a:pt x="2248" y="11044"/>
                  <a:pt x="2243" y="11198"/>
                  <a:pt x="2282" y="11237"/>
                </a:cubicBezTo>
              </a:path>
              <a:path w="5880" h="1514">
                <a:moveTo>
                  <a:pt x="2877" y="10492"/>
                </a:moveTo>
                <a:cubicBezTo>
                  <a:pt x="2768" y="10434"/>
                  <a:pt x="2685" y="10388"/>
                  <a:pt x="2555" y="10418"/>
                </a:cubicBezTo>
                <a:cubicBezTo>
                  <a:pt x="2505" y="10443"/>
                  <a:pt x="2489" y="10451"/>
                  <a:pt x="2456" y="10468"/>
                </a:cubicBezTo>
                <a:cubicBezTo>
                  <a:pt x="2499" y="10621"/>
                  <a:pt x="2551" y="10666"/>
                  <a:pt x="2654" y="10790"/>
                </a:cubicBezTo>
                <a:cubicBezTo>
                  <a:pt x="2765" y="10923"/>
                  <a:pt x="2886" y="11041"/>
                  <a:pt x="2853" y="11212"/>
                </a:cubicBezTo>
                <a:cubicBezTo>
                  <a:pt x="2789" y="11236"/>
                  <a:pt x="2692" y="11249"/>
                  <a:pt x="2629" y="11212"/>
                </a:cubicBezTo>
                <a:cubicBezTo>
                  <a:pt x="2535" y="11157"/>
                  <a:pt x="2486" y="11128"/>
                  <a:pt x="2480" y="11013"/>
                </a:cubicBezTo>
                <a:cubicBezTo>
                  <a:pt x="2473" y="10878"/>
                  <a:pt x="2582" y="10815"/>
                  <a:pt x="2679" y="10740"/>
                </a:cubicBezTo>
                <a:cubicBezTo>
                  <a:pt x="2787" y="10657"/>
                  <a:pt x="2909" y="10606"/>
                  <a:pt x="3026" y="10542"/>
                </a:cubicBezTo>
                <a:cubicBezTo>
                  <a:pt x="3085" y="10510"/>
                  <a:pt x="3135" y="10517"/>
                  <a:pt x="3200" y="10517"/>
                </a:cubicBezTo>
                <a:cubicBezTo>
                  <a:pt x="3185" y="10652"/>
                  <a:pt x="3099" y="10750"/>
                  <a:pt x="3051" y="10864"/>
                </a:cubicBezTo>
                <a:cubicBezTo>
                  <a:pt x="3006" y="10969"/>
                  <a:pt x="3017" y="11085"/>
                  <a:pt x="3026" y="11187"/>
                </a:cubicBezTo>
                <a:cubicBezTo>
                  <a:pt x="3036" y="11299"/>
                  <a:pt x="3079" y="11335"/>
                  <a:pt x="3175" y="11385"/>
                </a:cubicBezTo>
                <a:cubicBezTo>
                  <a:pt x="3239" y="11419"/>
                  <a:pt x="3339" y="11413"/>
                  <a:pt x="3398" y="11361"/>
                </a:cubicBezTo>
                <a:cubicBezTo>
                  <a:pt x="3448" y="11317"/>
                  <a:pt x="3520" y="11049"/>
                  <a:pt x="3522" y="11013"/>
                </a:cubicBezTo>
                <a:cubicBezTo>
                  <a:pt x="3526" y="10912"/>
                  <a:pt x="3462" y="10744"/>
                  <a:pt x="3398" y="10666"/>
                </a:cubicBezTo>
                <a:cubicBezTo>
                  <a:pt x="3378" y="10642"/>
                  <a:pt x="3243" y="10488"/>
                  <a:pt x="3200" y="10492"/>
                </a:cubicBezTo>
                <a:cubicBezTo>
                  <a:pt x="3110" y="10501"/>
                  <a:pt x="3218" y="10586"/>
                  <a:pt x="3225" y="10592"/>
                </a:cubicBezTo>
              </a:path>
              <a:path w="5880" h="1514">
                <a:moveTo>
                  <a:pt x="3696" y="11038"/>
                </a:moveTo>
                <a:cubicBezTo>
                  <a:pt x="3848" y="11014"/>
                  <a:pt x="3996" y="10999"/>
                  <a:pt x="4142" y="10964"/>
                </a:cubicBezTo>
              </a:path>
              <a:path w="5880" h="1514">
                <a:moveTo>
                  <a:pt x="4366" y="10492"/>
                </a:moveTo>
                <a:cubicBezTo>
                  <a:pt x="4342" y="10681"/>
                  <a:pt x="4305" y="10875"/>
                  <a:pt x="4291" y="11063"/>
                </a:cubicBezTo>
                <a:cubicBezTo>
                  <a:pt x="4282" y="11192"/>
                  <a:pt x="4301" y="11315"/>
                  <a:pt x="4316" y="11435"/>
                </a:cubicBezTo>
                <a:cubicBezTo>
                  <a:pt x="4320" y="11467"/>
                  <a:pt x="4311" y="11630"/>
                  <a:pt x="4341" y="11509"/>
                </a:cubicBezTo>
              </a:path>
              <a:path w="5880" h="1514">
                <a:moveTo>
                  <a:pt x="4539" y="10691"/>
                </a:moveTo>
                <a:cubicBezTo>
                  <a:pt x="4599" y="10615"/>
                  <a:pt x="4658" y="10515"/>
                  <a:pt x="4762" y="10492"/>
                </a:cubicBezTo>
                <a:cubicBezTo>
                  <a:pt x="4856" y="10471"/>
                  <a:pt x="4942" y="10519"/>
                  <a:pt x="4986" y="10592"/>
                </a:cubicBezTo>
                <a:cubicBezTo>
                  <a:pt x="5036" y="10675"/>
                  <a:pt x="5031" y="10676"/>
                  <a:pt x="4986" y="10765"/>
                </a:cubicBezTo>
                <a:cubicBezTo>
                  <a:pt x="4933" y="10870"/>
                  <a:pt x="4861" y="10823"/>
                  <a:pt x="4762" y="10864"/>
                </a:cubicBezTo>
                <a:cubicBezTo>
                  <a:pt x="4754" y="10872"/>
                  <a:pt x="4746" y="10881"/>
                  <a:pt x="4738" y="10889"/>
                </a:cubicBezTo>
                <a:cubicBezTo>
                  <a:pt x="4843" y="10935"/>
                  <a:pt x="4954" y="10954"/>
                  <a:pt x="5060" y="11038"/>
                </a:cubicBezTo>
                <a:cubicBezTo>
                  <a:pt x="5137" y="11100"/>
                  <a:pt x="5126" y="11227"/>
                  <a:pt x="5085" y="11311"/>
                </a:cubicBezTo>
                <a:cubicBezTo>
                  <a:pt x="5042" y="11400"/>
                  <a:pt x="4908" y="11502"/>
                  <a:pt x="4812" y="11534"/>
                </a:cubicBezTo>
                <a:cubicBezTo>
                  <a:pt x="4717" y="11565"/>
                  <a:pt x="4652" y="11478"/>
                  <a:pt x="4614" y="11410"/>
                </a:cubicBezTo>
                <a:cubicBezTo>
                  <a:pt x="4572" y="11335"/>
                  <a:pt x="4591" y="11287"/>
                  <a:pt x="4614" y="11212"/>
                </a:cubicBezTo>
              </a:path>
              <a:path w="5880" h="1514">
                <a:moveTo>
                  <a:pt x="5333" y="10691"/>
                </a:moveTo>
                <a:cubicBezTo>
                  <a:pt x="5273" y="10871"/>
                  <a:pt x="5219" y="11035"/>
                  <a:pt x="5159" y="11212"/>
                </a:cubicBezTo>
                <a:cubicBezTo>
                  <a:pt x="5111" y="11353"/>
                  <a:pt x="5181" y="11370"/>
                  <a:pt x="5259" y="11460"/>
                </a:cubicBezTo>
                <a:cubicBezTo>
                  <a:pt x="5309" y="11517"/>
                  <a:pt x="5408" y="11626"/>
                  <a:pt x="5507" y="11559"/>
                </a:cubicBezTo>
                <a:cubicBezTo>
                  <a:pt x="5609" y="11490"/>
                  <a:pt x="5670" y="11342"/>
                  <a:pt x="5705" y="11237"/>
                </a:cubicBezTo>
                <a:cubicBezTo>
                  <a:pt x="5755" y="11088"/>
                  <a:pt x="5778" y="10935"/>
                  <a:pt x="5705" y="10790"/>
                </a:cubicBezTo>
                <a:cubicBezTo>
                  <a:pt x="5663" y="10706"/>
                  <a:pt x="5572" y="10614"/>
                  <a:pt x="5482" y="10592"/>
                </a:cubicBezTo>
                <a:cubicBezTo>
                  <a:pt x="5440" y="10592"/>
                  <a:pt x="5432" y="10592"/>
                  <a:pt x="5407" y="10592"/>
                </a:cubicBezTo>
              </a:path>
              <a:path w="5880" h="1514">
                <a:moveTo>
                  <a:pt x="6102" y="10914"/>
                </a:moveTo>
                <a:cubicBezTo>
                  <a:pt x="6314" y="10933"/>
                  <a:pt x="6354" y="10976"/>
                  <a:pt x="6449" y="10889"/>
                </a:cubicBezTo>
              </a:path>
              <a:path w="5880" h="1514">
                <a:moveTo>
                  <a:pt x="6077" y="11063"/>
                </a:moveTo>
                <a:cubicBezTo>
                  <a:pt x="6233" y="11117"/>
                  <a:pt x="6292" y="11149"/>
                  <a:pt x="6449" y="11112"/>
                </a:cubicBezTo>
              </a:path>
              <a:path w="5880" h="1514">
                <a:moveTo>
                  <a:pt x="6871" y="10740"/>
                </a:moveTo>
                <a:cubicBezTo>
                  <a:pt x="7042" y="10704"/>
                  <a:pt x="7197" y="10695"/>
                  <a:pt x="7367" y="10666"/>
                </a:cubicBezTo>
              </a:path>
              <a:path w="5880" h="1514">
                <a:moveTo>
                  <a:pt x="6871" y="10691"/>
                </a:moveTo>
                <a:cubicBezTo>
                  <a:pt x="6859" y="10780"/>
                  <a:pt x="6798" y="10955"/>
                  <a:pt x="6921" y="11013"/>
                </a:cubicBezTo>
                <a:cubicBezTo>
                  <a:pt x="7054" y="11075"/>
                  <a:pt x="7249" y="10971"/>
                  <a:pt x="7392" y="11038"/>
                </a:cubicBezTo>
                <a:cubicBezTo>
                  <a:pt x="7461" y="11071"/>
                  <a:pt x="7450" y="11203"/>
                  <a:pt x="7441" y="11261"/>
                </a:cubicBezTo>
                <a:cubicBezTo>
                  <a:pt x="7418" y="11417"/>
                  <a:pt x="7331" y="11495"/>
                  <a:pt x="7218" y="11584"/>
                </a:cubicBezTo>
                <a:cubicBezTo>
                  <a:pt x="7156" y="11633"/>
                  <a:pt x="7116" y="11653"/>
                  <a:pt x="7045" y="11609"/>
                </a:cubicBezTo>
                <a:cubicBezTo>
                  <a:pt x="6940" y="11544"/>
                  <a:pt x="6919" y="11467"/>
                  <a:pt x="6871" y="11361"/>
                </a:cubicBezTo>
              </a:path>
              <a:path w="5880" h="1514">
                <a:moveTo>
                  <a:pt x="7640" y="10815"/>
                </a:moveTo>
                <a:cubicBezTo>
                  <a:pt x="7604" y="10930"/>
                  <a:pt x="7573" y="11046"/>
                  <a:pt x="7541" y="11162"/>
                </a:cubicBezTo>
                <a:cubicBezTo>
                  <a:pt x="7485" y="11362"/>
                  <a:pt x="7479" y="11405"/>
                  <a:pt x="7565" y="11584"/>
                </a:cubicBezTo>
                <a:cubicBezTo>
                  <a:pt x="7595" y="11647"/>
                  <a:pt x="7685" y="11757"/>
                  <a:pt x="7764" y="11757"/>
                </a:cubicBezTo>
                <a:cubicBezTo>
                  <a:pt x="7810" y="11757"/>
                  <a:pt x="7941" y="11594"/>
                  <a:pt x="7962" y="11559"/>
                </a:cubicBezTo>
                <a:cubicBezTo>
                  <a:pt x="8033" y="11444"/>
                  <a:pt x="8079" y="11273"/>
                  <a:pt x="8062" y="11137"/>
                </a:cubicBezTo>
                <a:cubicBezTo>
                  <a:pt x="8043" y="10987"/>
                  <a:pt x="7926" y="10878"/>
                  <a:pt x="7813" y="10790"/>
                </a:cubicBezTo>
                <a:cubicBezTo>
                  <a:pt x="7777" y="10762"/>
                  <a:pt x="7747" y="10748"/>
                  <a:pt x="7714" y="10716"/>
                </a:cubicBezTo>
              </a:path>
              <a:path w="5880" h="1514">
                <a:moveTo>
                  <a:pt x="7938" y="10517"/>
                </a:moveTo>
                <a:cubicBezTo>
                  <a:pt x="7915" y="10633"/>
                  <a:pt x="7928" y="10617"/>
                  <a:pt x="8012" y="10666"/>
                </a:cubicBezTo>
                <a:cubicBezTo>
                  <a:pt x="8081" y="10707"/>
                  <a:pt x="8189" y="10648"/>
                  <a:pt x="8136" y="10542"/>
                </a:cubicBezTo>
                <a:cubicBezTo>
                  <a:pt x="8114" y="10497"/>
                  <a:pt x="7981" y="10461"/>
                  <a:pt x="7938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Ink 8"/>
          <p:cNvSpPr/>
          <p:nvPr/>
        </p:nvSpPr>
        <p:spPr>
          <a:xfrm>
            <a:off x="4714920" y="2571840"/>
            <a:ext cx="3340080" cy="884160"/>
          </a:xfrm>
          <a:custGeom>
            <a:avLst/>
            <a:gdLst/>
            <a:ahLst/>
            <a:rect l="l" t="t" r="r" b="b"/>
            <a:pathLst>
              <a:path w="9278" h="2456">
                <a:moveTo>
                  <a:pt x="13122" y="7293"/>
                </a:moveTo>
                <a:cubicBezTo>
                  <a:pt x="13218" y="7267"/>
                  <a:pt x="13300" y="7288"/>
                  <a:pt x="13395" y="7268"/>
                </a:cubicBezTo>
                <a:cubicBezTo>
                  <a:pt x="13475" y="7251"/>
                  <a:pt x="13562" y="7260"/>
                  <a:pt x="13643" y="7243"/>
                </a:cubicBezTo>
                <a:cubicBezTo>
                  <a:pt x="13668" y="7235"/>
                  <a:pt x="13692" y="7226"/>
                  <a:pt x="13717" y="7218"/>
                </a:cubicBezTo>
              </a:path>
              <a:path w="9278" h="2456">
                <a:moveTo>
                  <a:pt x="13271" y="7268"/>
                </a:moveTo>
                <a:cubicBezTo>
                  <a:pt x="13249" y="7349"/>
                  <a:pt x="13234" y="7436"/>
                  <a:pt x="13221" y="7516"/>
                </a:cubicBezTo>
                <a:cubicBezTo>
                  <a:pt x="13214" y="7562"/>
                  <a:pt x="13221" y="7618"/>
                  <a:pt x="13221" y="7665"/>
                </a:cubicBezTo>
                <a:cubicBezTo>
                  <a:pt x="13261" y="7684"/>
                  <a:pt x="13306" y="7665"/>
                  <a:pt x="13370" y="7665"/>
                </a:cubicBezTo>
                <a:cubicBezTo>
                  <a:pt x="13468" y="7665"/>
                  <a:pt x="13517" y="7710"/>
                  <a:pt x="13568" y="7789"/>
                </a:cubicBezTo>
                <a:cubicBezTo>
                  <a:pt x="13642" y="7903"/>
                  <a:pt x="13606" y="7942"/>
                  <a:pt x="13519" y="8037"/>
                </a:cubicBezTo>
                <a:cubicBezTo>
                  <a:pt x="13433" y="8131"/>
                  <a:pt x="13307" y="8161"/>
                  <a:pt x="13196" y="8111"/>
                </a:cubicBezTo>
                <a:cubicBezTo>
                  <a:pt x="13150" y="8091"/>
                  <a:pt x="13131" y="8071"/>
                  <a:pt x="13097" y="8037"/>
                </a:cubicBezTo>
              </a:path>
              <a:path w="9278" h="2456">
                <a:moveTo>
                  <a:pt x="14015" y="7392"/>
                </a:moveTo>
                <a:cubicBezTo>
                  <a:pt x="14157" y="7378"/>
                  <a:pt x="14343" y="7394"/>
                  <a:pt x="14486" y="7367"/>
                </a:cubicBezTo>
                <a:cubicBezTo>
                  <a:pt x="14541" y="7357"/>
                  <a:pt x="14592" y="7343"/>
                  <a:pt x="14635" y="7317"/>
                </a:cubicBezTo>
              </a:path>
              <a:path w="9278" h="2456">
                <a:moveTo>
                  <a:pt x="14238" y="7342"/>
                </a:moveTo>
                <a:cubicBezTo>
                  <a:pt x="14200" y="7500"/>
                  <a:pt x="14136" y="7675"/>
                  <a:pt x="14114" y="7838"/>
                </a:cubicBezTo>
                <a:cubicBezTo>
                  <a:pt x="14100" y="7941"/>
                  <a:pt x="14113" y="8049"/>
                  <a:pt x="14139" y="8136"/>
                </a:cubicBezTo>
                <a:cubicBezTo>
                  <a:pt x="14139" y="8144"/>
                  <a:pt x="14139" y="8153"/>
                  <a:pt x="14139" y="8161"/>
                </a:cubicBezTo>
              </a:path>
              <a:path w="9278" h="2456">
                <a:moveTo>
                  <a:pt x="14436" y="7441"/>
                </a:moveTo>
                <a:cubicBezTo>
                  <a:pt x="14404" y="7698"/>
                  <a:pt x="14348" y="7805"/>
                  <a:pt x="14436" y="8012"/>
                </a:cubicBezTo>
                <a:cubicBezTo>
                  <a:pt x="14469" y="8091"/>
                  <a:pt x="14561" y="8174"/>
                  <a:pt x="14635" y="8210"/>
                </a:cubicBezTo>
                <a:cubicBezTo>
                  <a:pt x="14643" y="8210"/>
                  <a:pt x="14652" y="8210"/>
                  <a:pt x="14660" y="8210"/>
                </a:cubicBezTo>
              </a:path>
              <a:path w="9278" h="2456">
                <a:moveTo>
                  <a:pt x="13196" y="8310"/>
                </a:moveTo>
                <a:cubicBezTo>
                  <a:pt x="13407" y="8388"/>
                  <a:pt x="13554" y="8345"/>
                  <a:pt x="13791" y="8334"/>
                </a:cubicBezTo>
                <a:cubicBezTo>
                  <a:pt x="13948" y="8327"/>
                  <a:pt x="14106" y="8314"/>
                  <a:pt x="14263" y="8310"/>
                </a:cubicBezTo>
                <a:cubicBezTo>
                  <a:pt x="14358" y="8308"/>
                  <a:pt x="14421" y="8285"/>
                  <a:pt x="14511" y="8285"/>
                </a:cubicBezTo>
              </a:path>
              <a:path w="9278" h="2456">
                <a:moveTo>
                  <a:pt x="13742" y="8607"/>
                </a:moveTo>
                <a:cubicBezTo>
                  <a:pt x="13702" y="8817"/>
                  <a:pt x="13664" y="9020"/>
                  <a:pt x="13643" y="9227"/>
                </a:cubicBezTo>
                <a:cubicBezTo>
                  <a:pt x="13637" y="9283"/>
                  <a:pt x="13643" y="9345"/>
                  <a:pt x="13643" y="9401"/>
                </a:cubicBezTo>
              </a:path>
              <a:path w="9278" h="2456">
                <a:moveTo>
                  <a:pt x="14039" y="8756"/>
                </a:moveTo>
                <a:cubicBezTo>
                  <a:pt x="14184" y="8735"/>
                  <a:pt x="14158" y="8733"/>
                  <a:pt x="14238" y="8830"/>
                </a:cubicBezTo>
                <a:cubicBezTo>
                  <a:pt x="14310" y="8916"/>
                  <a:pt x="14338" y="9037"/>
                  <a:pt x="14312" y="9153"/>
                </a:cubicBezTo>
                <a:cubicBezTo>
                  <a:pt x="14285" y="9274"/>
                  <a:pt x="14247" y="9369"/>
                  <a:pt x="14139" y="9426"/>
                </a:cubicBezTo>
                <a:cubicBezTo>
                  <a:pt x="14071" y="9462"/>
                  <a:pt x="14025" y="9458"/>
                  <a:pt x="13965" y="9426"/>
                </a:cubicBezTo>
                <a:cubicBezTo>
                  <a:pt x="13902" y="9392"/>
                  <a:pt x="13903" y="9400"/>
                  <a:pt x="13940" y="9351"/>
                </a:cubicBezTo>
                <a:cubicBezTo>
                  <a:pt x="14016" y="9307"/>
                  <a:pt x="14098" y="9347"/>
                  <a:pt x="14188" y="9351"/>
                </a:cubicBezTo>
                <a:cubicBezTo>
                  <a:pt x="14274" y="9355"/>
                  <a:pt x="14326" y="9400"/>
                  <a:pt x="14412" y="9351"/>
                </a:cubicBezTo>
                <a:cubicBezTo>
                  <a:pt x="14445" y="9318"/>
                  <a:pt x="14461" y="9302"/>
                  <a:pt x="14486" y="9277"/>
                </a:cubicBezTo>
              </a:path>
              <a:path w="9278" h="2456">
                <a:moveTo>
                  <a:pt x="15056" y="8409"/>
                </a:moveTo>
                <a:cubicBezTo>
                  <a:pt x="15032" y="8434"/>
                  <a:pt x="15024" y="8442"/>
                  <a:pt x="15056" y="8409"/>
                </a:cubicBezTo>
              </a:path>
              <a:path w="9278" h="2456">
                <a:moveTo>
                  <a:pt x="15751" y="7342"/>
                </a:moveTo>
                <a:cubicBezTo>
                  <a:pt x="15751" y="7510"/>
                  <a:pt x="15731" y="7671"/>
                  <a:pt x="15726" y="7838"/>
                </a:cubicBezTo>
                <a:cubicBezTo>
                  <a:pt x="15722" y="7959"/>
                  <a:pt x="15723" y="8080"/>
                  <a:pt x="15701" y="8186"/>
                </a:cubicBezTo>
                <a:cubicBezTo>
                  <a:pt x="15701" y="8227"/>
                  <a:pt x="15693" y="8243"/>
                  <a:pt x="15726" y="8235"/>
                </a:cubicBezTo>
              </a:path>
              <a:path w="9278" h="2456">
                <a:moveTo>
                  <a:pt x="16346" y="7491"/>
                </a:moveTo>
                <a:cubicBezTo>
                  <a:pt x="16264" y="7496"/>
                  <a:pt x="16120" y="7490"/>
                  <a:pt x="16073" y="7590"/>
                </a:cubicBezTo>
                <a:cubicBezTo>
                  <a:pt x="16036" y="7667"/>
                  <a:pt x="16092" y="7792"/>
                  <a:pt x="16123" y="7863"/>
                </a:cubicBezTo>
                <a:cubicBezTo>
                  <a:pt x="16152" y="7931"/>
                  <a:pt x="16195" y="8008"/>
                  <a:pt x="16173" y="8086"/>
                </a:cubicBezTo>
                <a:cubicBezTo>
                  <a:pt x="16151" y="8130"/>
                  <a:pt x="16148" y="8142"/>
                  <a:pt x="16123" y="8161"/>
                </a:cubicBezTo>
                <a:cubicBezTo>
                  <a:pt x="16041" y="8094"/>
                  <a:pt x="16019" y="8101"/>
                  <a:pt x="16049" y="7987"/>
                </a:cubicBezTo>
                <a:cubicBezTo>
                  <a:pt x="16072" y="7898"/>
                  <a:pt x="16151" y="7798"/>
                  <a:pt x="16222" y="7739"/>
                </a:cubicBezTo>
                <a:cubicBezTo>
                  <a:pt x="16316" y="7660"/>
                  <a:pt x="16403" y="7577"/>
                  <a:pt x="16495" y="7491"/>
                </a:cubicBezTo>
                <a:cubicBezTo>
                  <a:pt x="16520" y="7466"/>
                  <a:pt x="16528" y="7458"/>
                  <a:pt x="16545" y="7441"/>
                </a:cubicBezTo>
                <a:cubicBezTo>
                  <a:pt x="16641" y="7523"/>
                  <a:pt x="16576" y="7640"/>
                  <a:pt x="16545" y="7764"/>
                </a:cubicBezTo>
                <a:cubicBezTo>
                  <a:pt x="16518" y="7873"/>
                  <a:pt x="16485" y="7953"/>
                  <a:pt x="16520" y="8062"/>
                </a:cubicBezTo>
                <a:cubicBezTo>
                  <a:pt x="16544" y="8138"/>
                  <a:pt x="16642" y="8161"/>
                  <a:pt x="16694" y="8136"/>
                </a:cubicBezTo>
                <a:cubicBezTo>
                  <a:pt x="16886" y="8045"/>
                  <a:pt x="16860" y="8082"/>
                  <a:pt x="16966" y="7863"/>
                </a:cubicBezTo>
                <a:cubicBezTo>
                  <a:pt x="17016" y="7759"/>
                  <a:pt x="16990" y="7729"/>
                  <a:pt x="16917" y="7665"/>
                </a:cubicBezTo>
                <a:cubicBezTo>
                  <a:pt x="16831" y="7589"/>
                  <a:pt x="16734" y="7615"/>
                  <a:pt x="16619" y="7615"/>
                </a:cubicBezTo>
              </a:path>
              <a:path w="9278" h="2456">
                <a:moveTo>
                  <a:pt x="15453" y="8310"/>
                </a:moveTo>
                <a:cubicBezTo>
                  <a:pt x="15851" y="8310"/>
                  <a:pt x="16250" y="8317"/>
                  <a:pt x="16644" y="8285"/>
                </a:cubicBezTo>
                <a:cubicBezTo>
                  <a:pt x="16726" y="8278"/>
                  <a:pt x="16790" y="8283"/>
                  <a:pt x="16867" y="8260"/>
                </a:cubicBezTo>
              </a:path>
              <a:path w="9278" h="2456">
                <a:moveTo>
                  <a:pt x="15726" y="8657"/>
                </a:moveTo>
                <a:cubicBezTo>
                  <a:pt x="15919" y="8681"/>
                  <a:pt x="16080" y="8678"/>
                  <a:pt x="16272" y="8657"/>
                </a:cubicBezTo>
                <a:cubicBezTo>
                  <a:pt x="16321" y="8657"/>
                  <a:pt x="16338" y="8657"/>
                  <a:pt x="16371" y="8657"/>
                </a:cubicBezTo>
              </a:path>
              <a:path w="9278" h="2456">
                <a:moveTo>
                  <a:pt x="15949" y="8607"/>
                </a:moveTo>
                <a:cubicBezTo>
                  <a:pt x="15923" y="8775"/>
                  <a:pt x="15922" y="8938"/>
                  <a:pt x="15900" y="9103"/>
                </a:cubicBezTo>
                <a:cubicBezTo>
                  <a:pt x="15891" y="9166"/>
                  <a:pt x="15834" y="9336"/>
                  <a:pt x="15875" y="9401"/>
                </a:cubicBezTo>
                <a:cubicBezTo>
                  <a:pt x="15883" y="9401"/>
                  <a:pt x="15892" y="9401"/>
                  <a:pt x="15900" y="9401"/>
                </a:cubicBezTo>
              </a:path>
              <a:path w="9278" h="2456">
                <a:moveTo>
                  <a:pt x="16123" y="8582"/>
                </a:moveTo>
                <a:cubicBezTo>
                  <a:pt x="16195" y="8732"/>
                  <a:pt x="16253" y="8847"/>
                  <a:pt x="16272" y="9004"/>
                </a:cubicBezTo>
                <a:cubicBezTo>
                  <a:pt x="16283" y="9093"/>
                  <a:pt x="16281" y="9139"/>
                  <a:pt x="16346" y="9203"/>
                </a:cubicBezTo>
                <a:cubicBezTo>
                  <a:pt x="16371" y="9228"/>
                  <a:pt x="16396" y="9252"/>
                  <a:pt x="16421" y="9277"/>
                </a:cubicBezTo>
              </a:path>
              <a:path w="9278" h="2456">
                <a:moveTo>
                  <a:pt x="14114" y="8260"/>
                </a:moveTo>
                <a:cubicBezTo>
                  <a:pt x="14148" y="8193"/>
                  <a:pt x="14166" y="8094"/>
                  <a:pt x="14188" y="8012"/>
                </a:cubicBezTo>
                <a:cubicBezTo>
                  <a:pt x="14227" y="7865"/>
                  <a:pt x="14316" y="7700"/>
                  <a:pt x="14387" y="7565"/>
                </a:cubicBezTo>
                <a:cubicBezTo>
                  <a:pt x="14437" y="7469"/>
                  <a:pt x="14505" y="7381"/>
                  <a:pt x="14560" y="7293"/>
                </a:cubicBezTo>
                <a:cubicBezTo>
                  <a:pt x="14612" y="7211"/>
                  <a:pt x="14619" y="7189"/>
                  <a:pt x="14709" y="7144"/>
                </a:cubicBezTo>
              </a:path>
              <a:path w="9278" h="2456">
                <a:moveTo>
                  <a:pt x="15453" y="9451"/>
                </a:moveTo>
                <a:cubicBezTo>
                  <a:pt x="15511" y="9444"/>
                  <a:pt x="15608" y="9423"/>
                  <a:pt x="15652" y="9376"/>
                </a:cubicBezTo>
                <a:cubicBezTo>
                  <a:pt x="15716" y="9308"/>
                  <a:pt x="15789" y="9223"/>
                  <a:pt x="15850" y="9153"/>
                </a:cubicBezTo>
                <a:cubicBezTo>
                  <a:pt x="15936" y="9055"/>
                  <a:pt x="16002" y="8972"/>
                  <a:pt x="16098" y="8880"/>
                </a:cubicBezTo>
                <a:cubicBezTo>
                  <a:pt x="16166" y="8815"/>
                  <a:pt x="16242" y="8753"/>
                  <a:pt x="16321" y="8706"/>
                </a:cubicBezTo>
                <a:cubicBezTo>
                  <a:pt x="16365" y="8685"/>
                  <a:pt x="16377" y="8682"/>
                  <a:pt x="16396" y="8657"/>
                </a:cubicBezTo>
                <a:cubicBezTo>
                  <a:pt x="16341" y="8665"/>
                  <a:pt x="16346" y="8682"/>
                  <a:pt x="16297" y="8657"/>
                </a:cubicBezTo>
              </a:path>
              <a:path w="9278" h="2456">
                <a:moveTo>
                  <a:pt x="17239" y="8285"/>
                </a:moveTo>
                <a:cubicBezTo>
                  <a:pt x="17268" y="8335"/>
                  <a:pt x="17300" y="8394"/>
                  <a:pt x="17363" y="8409"/>
                </a:cubicBezTo>
                <a:cubicBezTo>
                  <a:pt x="17430" y="8425"/>
                  <a:pt x="17459" y="8435"/>
                  <a:pt x="17537" y="8458"/>
                </a:cubicBezTo>
              </a:path>
              <a:path w="9278" h="2456">
                <a:moveTo>
                  <a:pt x="17338" y="8781"/>
                </a:moveTo>
                <a:cubicBezTo>
                  <a:pt x="17398" y="8817"/>
                  <a:pt x="17463" y="8806"/>
                  <a:pt x="17537" y="8806"/>
                </a:cubicBezTo>
                <a:cubicBezTo>
                  <a:pt x="17600" y="8806"/>
                  <a:pt x="17633" y="8817"/>
                  <a:pt x="17686" y="8830"/>
                </a:cubicBezTo>
              </a:path>
              <a:path w="9278" h="2456">
                <a:moveTo>
                  <a:pt x="18678" y="7293"/>
                </a:moveTo>
                <a:cubicBezTo>
                  <a:pt x="18645" y="7252"/>
                  <a:pt x="18607" y="7162"/>
                  <a:pt x="18554" y="7144"/>
                </a:cubicBezTo>
                <a:cubicBezTo>
                  <a:pt x="18474" y="7118"/>
                  <a:pt x="18419" y="7199"/>
                  <a:pt x="18380" y="7243"/>
                </a:cubicBezTo>
                <a:cubicBezTo>
                  <a:pt x="18305" y="7329"/>
                  <a:pt x="18291" y="7408"/>
                  <a:pt x="18256" y="7516"/>
                </a:cubicBezTo>
                <a:cubicBezTo>
                  <a:pt x="18231" y="7589"/>
                  <a:pt x="18223" y="7613"/>
                  <a:pt x="18231" y="7665"/>
                </a:cubicBezTo>
                <a:cubicBezTo>
                  <a:pt x="18317" y="7653"/>
                  <a:pt x="18305" y="7632"/>
                  <a:pt x="18355" y="7565"/>
                </a:cubicBezTo>
                <a:cubicBezTo>
                  <a:pt x="18391" y="7518"/>
                  <a:pt x="18419" y="7463"/>
                  <a:pt x="18455" y="7417"/>
                </a:cubicBezTo>
                <a:cubicBezTo>
                  <a:pt x="18471" y="7400"/>
                  <a:pt x="18488" y="7384"/>
                  <a:pt x="18504" y="7367"/>
                </a:cubicBezTo>
                <a:cubicBezTo>
                  <a:pt x="18557" y="7473"/>
                  <a:pt x="18554" y="7569"/>
                  <a:pt x="18554" y="7689"/>
                </a:cubicBezTo>
                <a:cubicBezTo>
                  <a:pt x="18554" y="7789"/>
                  <a:pt x="18543" y="7867"/>
                  <a:pt x="18529" y="7962"/>
                </a:cubicBezTo>
                <a:cubicBezTo>
                  <a:pt x="18519" y="8028"/>
                  <a:pt x="18513" y="8075"/>
                  <a:pt x="18504" y="8136"/>
                </a:cubicBezTo>
              </a:path>
              <a:path w="9278" h="2456">
                <a:moveTo>
                  <a:pt x="18728" y="7441"/>
                </a:moveTo>
                <a:cubicBezTo>
                  <a:pt x="18728" y="7609"/>
                  <a:pt x="18718" y="7753"/>
                  <a:pt x="18703" y="7913"/>
                </a:cubicBezTo>
                <a:cubicBezTo>
                  <a:pt x="18694" y="8012"/>
                  <a:pt x="18718" y="8086"/>
                  <a:pt x="18777" y="8161"/>
                </a:cubicBezTo>
                <a:cubicBezTo>
                  <a:pt x="18889" y="8091"/>
                  <a:pt x="18903" y="8032"/>
                  <a:pt x="18951" y="7913"/>
                </a:cubicBezTo>
                <a:cubicBezTo>
                  <a:pt x="18995" y="7805"/>
                  <a:pt x="19046" y="7734"/>
                  <a:pt x="19050" y="7615"/>
                </a:cubicBezTo>
                <a:cubicBezTo>
                  <a:pt x="19053" y="7529"/>
                  <a:pt x="19058" y="7499"/>
                  <a:pt x="19000" y="7441"/>
                </a:cubicBezTo>
                <a:cubicBezTo>
                  <a:pt x="18970" y="7411"/>
                  <a:pt x="18934" y="7393"/>
                  <a:pt x="18901" y="7367"/>
                </a:cubicBezTo>
              </a:path>
              <a:path w="9278" h="2456">
                <a:moveTo>
                  <a:pt x="19224" y="7417"/>
                </a:moveTo>
                <a:cubicBezTo>
                  <a:pt x="19228" y="7622"/>
                  <a:pt x="19162" y="7777"/>
                  <a:pt x="19298" y="7913"/>
                </a:cubicBezTo>
                <a:cubicBezTo>
                  <a:pt x="19337" y="7952"/>
                  <a:pt x="19442" y="7912"/>
                  <a:pt x="19472" y="7863"/>
                </a:cubicBezTo>
                <a:cubicBezTo>
                  <a:pt x="19526" y="7775"/>
                  <a:pt x="19544" y="7637"/>
                  <a:pt x="19571" y="7541"/>
                </a:cubicBezTo>
                <a:cubicBezTo>
                  <a:pt x="19600" y="7437"/>
                  <a:pt x="19611" y="7360"/>
                  <a:pt x="19546" y="7268"/>
                </a:cubicBezTo>
                <a:cubicBezTo>
                  <a:pt x="19500" y="7202"/>
                  <a:pt x="19449" y="7173"/>
                  <a:pt x="19372" y="7169"/>
                </a:cubicBezTo>
                <a:cubicBezTo>
                  <a:pt x="19309" y="7169"/>
                  <a:pt x="19282" y="7176"/>
                  <a:pt x="19248" y="7218"/>
                </a:cubicBezTo>
              </a:path>
              <a:path w="9278" h="2456">
                <a:moveTo>
                  <a:pt x="18107" y="8285"/>
                </a:moveTo>
                <a:cubicBezTo>
                  <a:pt x="18238" y="8285"/>
                  <a:pt x="18351" y="8262"/>
                  <a:pt x="18479" y="8260"/>
                </a:cubicBezTo>
                <a:cubicBezTo>
                  <a:pt x="18652" y="8257"/>
                  <a:pt x="18809" y="8225"/>
                  <a:pt x="18976" y="8210"/>
                </a:cubicBezTo>
                <a:cubicBezTo>
                  <a:pt x="19074" y="8201"/>
                  <a:pt x="19176" y="8191"/>
                  <a:pt x="19273" y="8186"/>
                </a:cubicBezTo>
                <a:cubicBezTo>
                  <a:pt x="19339" y="8183"/>
                  <a:pt x="19385" y="8173"/>
                  <a:pt x="19447" y="8161"/>
                </a:cubicBezTo>
              </a:path>
              <a:path w="9278" h="2456">
                <a:moveTo>
                  <a:pt x="18554" y="8806"/>
                </a:moveTo>
                <a:cubicBezTo>
                  <a:pt x="18577" y="8968"/>
                  <a:pt x="18604" y="9115"/>
                  <a:pt x="18604" y="9277"/>
                </a:cubicBezTo>
                <a:cubicBezTo>
                  <a:pt x="18604" y="9361"/>
                  <a:pt x="18589" y="9421"/>
                  <a:pt x="18579" y="9500"/>
                </a:cubicBezTo>
              </a:path>
              <a:path w="9278" h="2456">
                <a:moveTo>
                  <a:pt x="18703" y="8954"/>
                </a:moveTo>
                <a:cubicBezTo>
                  <a:pt x="18740" y="8864"/>
                  <a:pt x="18775" y="8746"/>
                  <a:pt x="18876" y="8706"/>
                </a:cubicBezTo>
                <a:cubicBezTo>
                  <a:pt x="18926" y="8686"/>
                  <a:pt x="19016" y="8717"/>
                  <a:pt x="19050" y="8756"/>
                </a:cubicBezTo>
                <a:cubicBezTo>
                  <a:pt x="19093" y="8806"/>
                  <a:pt x="19088" y="8945"/>
                  <a:pt x="19075" y="9004"/>
                </a:cubicBezTo>
                <a:cubicBezTo>
                  <a:pt x="19048" y="9130"/>
                  <a:pt x="18976" y="9252"/>
                  <a:pt x="18951" y="9376"/>
                </a:cubicBezTo>
                <a:cubicBezTo>
                  <a:pt x="18941" y="9425"/>
                  <a:pt x="18936" y="9552"/>
                  <a:pt x="19000" y="9575"/>
                </a:cubicBezTo>
                <a:cubicBezTo>
                  <a:pt x="19057" y="9595"/>
                  <a:pt x="19170" y="9596"/>
                  <a:pt x="19224" y="9550"/>
                </a:cubicBezTo>
                <a:cubicBezTo>
                  <a:pt x="19305" y="9449"/>
                  <a:pt x="19317" y="9429"/>
                  <a:pt x="19372" y="9376"/>
                </a:cubicBezTo>
              </a:path>
              <a:path w="9278" h="2456">
                <a:moveTo>
                  <a:pt x="19695" y="8458"/>
                </a:moveTo>
                <a:cubicBezTo>
                  <a:pt x="19801" y="8443"/>
                  <a:pt x="19867" y="8434"/>
                  <a:pt x="19968" y="8434"/>
                </a:cubicBezTo>
              </a:path>
              <a:path w="9278" h="2456">
                <a:moveTo>
                  <a:pt x="19844" y="8706"/>
                </a:moveTo>
                <a:cubicBezTo>
                  <a:pt x="19928" y="8698"/>
                  <a:pt x="20022" y="8687"/>
                  <a:pt x="20092" y="8632"/>
                </a:cubicBezTo>
                <a:cubicBezTo>
                  <a:pt x="20108" y="8615"/>
                  <a:pt x="20125" y="8599"/>
                  <a:pt x="20141" y="8582"/>
                </a:cubicBezTo>
              </a:path>
              <a:path w="9278" h="2456">
                <a:moveTo>
                  <a:pt x="20389" y="7987"/>
                </a:moveTo>
                <a:cubicBezTo>
                  <a:pt x="20445" y="7943"/>
                  <a:pt x="20516" y="7902"/>
                  <a:pt x="20588" y="7888"/>
                </a:cubicBezTo>
                <a:cubicBezTo>
                  <a:pt x="20689" y="7869"/>
                  <a:pt x="20790" y="7846"/>
                  <a:pt x="20886" y="7813"/>
                </a:cubicBezTo>
                <a:cubicBezTo>
                  <a:pt x="20961" y="7787"/>
                  <a:pt x="21006" y="7789"/>
                  <a:pt x="21084" y="7789"/>
                </a:cubicBezTo>
                <a:cubicBezTo>
                  <a:pt x="21130" y="7910"/>
                  <a:pt x="21087" y="8008"/>
                  <a:pt x="21059" y="8136"/>
                </a:cubicBezTo>
                <a:cubicBezTo>
                  <a:pt x="21023" y="8297"/>
                  <a:pt x="21014" y="8468"/>
                  <a:pt x="21010" y="8632"/>
                </a:cubicBezTo>
                <a:cubicBezTo>
                  <a:pt x="21009" y="8663"/>
                  <a:pt x="20983" y="8886"/>
                  <a:pt x="21034" y="8905"/>
                </a:cubicBezTo>
                <a:cubicBezTo>
                  <a:pt x="21042" y="8897"/>
                  <a:pt x="21051" y="8888"/>
                  <a:pt x="21059" y="8880"/>
                </a:cubicBezTo>
              </a:path>
              <a:path w="9278" h="2456">
                <a:moveTo>
                  <a:pt x="21258" y="7938"/>
                </a:moveTo>
                <a:cubicBezTo>
                  <a:pt x="21381" y="7884"/>
                  <a:pt x="21523" y="7837"/>
                  <a:pt x="21654" y="7813"/>
                </a:cubicBezTo>
                <a:cubicBezTo>
                  <a:pt x="21743" y="7797"/>
                  <a:pt x="21794" y="7781"/>
                  <a:pt x="21878" y="7739"/>
                </a:cubicBezTo>
                <a:cubicBezTo>
                  <a:pt x="21921" y="7717"/>
                  <a:pt x="21933" y="7713"/>
                  <a:pt x="21952" y="7689"/>
                </a:cubicBezTo>
              </a:path>
              <a:path w="9278" h="2456">
                <a:moveTo>
                  <a:pt x="21382" y="7962"/>
                </a:moveTo>
                <a:cubicBezTo>
                  <a:pt x="21358" y="8063"/>
                  <a:pt x="21313" y="8147"/>
                  <a:pt x="21357" y="8235"/>
                </a:cubicBezTo>
                <a:cubicBezTo>
                  <a:pt x="21395" y="8188"/>
                  <a:pt x="21414" y="8127"/>
                  <a:pt x="21481" y="8111"/>
                </a:cubicBezTo>
                <a:cubicBezTo>
                  <a:pt x="21567" y="8091"/>
                  <a:pt x="21648" y="8157"/>
                  <a:pt x="21704" y="8210"/>
                </a:cubicBezTo>
                <a:cubicBezTo>
                  <a:pt x="21769" y="8271"/>
                  <a:pt x="21816" y="8371"/>
                  <a:pt x="21828" y="8458"/>
                </a:cubicBezTo>
                <a:cubicBezTo>
                  <a:pt x="21842" y="8567"/>
                  <a:pt x="21821" y="8637"/>
                  <a:pt x="21779" y="8731"/>
                </a:cubicBezTo>
                <a:cubicBezTo>
                  <a:pt x="21726" y="8849"/>
                  <a:pt x="21474" y="8896"/>
                  <a:pt x="21357" y="8880"/>
                </a:cubicBezTo>
                <a:cubicBezTo>
                  <a:pt x="21332" y="8855"/>
                  <a:pt x="21324" y="8847"/>
                  <a:pt x="21307" y="8830"/>
                </a:cubicBezTo>
              </a:path>
              <a:path w="9278" h="2456">
                <a:moveTo>
                  <a:pt x="22225" y="7491"/>
                </a:moveTo>
                <a:cubicBezTo>
                  <a:pt x="22212" y="7580"/>
                  <a:pt x="22185" y="7601"/>
                  <a:pt x="22275" y="7640"/>
                </a:cubicBezTo>
                <a:cubicBezTo>
                  <a:pt x="22321" y="7593"/>
                  <a:pt x="22364" y="7563"/>
                  <a:pt x="22374" y="7491"/>
                </a:cubicBezTo>
                <a:cubicBezTo>
                  <a:pt x="22374" y="7408"/>
                  <a:pt x="22374" y="7392"/>
                  <a:pt x="22374" y="7342"/>
                </a:cubicBezTo>
                <a:cubicBezTo>
                  <a:pt x="22282" y="7383"/>
                  <a:pt x="22226" y="7403"/>
                  <a:pt x="22151" y="74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Ink 9"/>
          <p:cNvSpPr/>
          <p:nvPr/>
        </p:nvSpPr>
        <p:spPr>
          <a:xfrm>
            <a:off x="4633920" y="3786120"/>
            <a:ext cx="1697040" cy="723960"/>
          </a:xfrm>
          <a:custGeom>
            <a:avLst/>
            <a:gdLst/>
            <a:ahLst/>
            <a:rect l="l" t="t" r="r" b="b"/>
            <a:pathLst>
              <a:path w="4714" h="2010">
                <a:moveTo>
                  <a:pt x="13122" y="10790"/>
                </a:moveTo>
                <a:cubicBezTo>
                  <a:pt x="13161" y="10750"/>
                  <a:pt x="13185" y="10706"/>
                  <a:pt x="13221" y="10666"/>
                </a:cubicBezTo>
                <a:cubicBezTo>
                  <a:pt x="13258" y="10625"/>
                  <a:pt x="13367" y="10627"/>
                  <a:pt x="13419" y="10641"/>
                </a:cubicBezTo>
                <a:cubicBezTo>
                  <a:pt x="13491" y="10660"/>
                  <a:pt x="13594" y="10719"/>
                  <a:pt x="13618" y="10790"/>
                </a:cubicBezTo>
                <a:cubicBezTo>
                  <a:pt x="13641" y="10860"/>
                  <a:pt x="13599" y="10978"/>
                  <a:pt x="13568" y="11038"/>
                </a:cubicBezTo>
                <a:cubicBezTo>
                  <a:pt x="13491" y="11188"/>
                  <a:pt x="13366" y="11284"/>
                  <a:pt x="13271" y="11410"/>
                </a:cubicBezTo>
                <a:cubicBezTo>
                  <a:pt x="13197" y="11508"/>
                  <a:pt x="13123" y="11635"/>
                  <a:pt x="13022" y="11708"/>
                </a:cubicBezTo>
                <a:cubicBezTo>
                  <a:pt x="12989" y="11724"/>
                  <a:pt x="12956" y="11741"/>
                  <a:pt x="12923" y="11757"/>
                </a:cubicBezTo>
                <a:cubicBezTo>
                  <a:pt x="12861" y="11696"/>
                  <a:pt x="12885" y="11680"/>
                  <a:pt x="12898" y="11609"/>
                </a:cubicBezTo>
                <a:cubicBezTo>
                  <a:pt x="12912" y="11529"/>
                  <a:pt x="12954" y="11440"/>
                  <a:pt x="13022" y="11385"/>
                </a:cubicBezTo>
                <a:cubicBezTo>
                  <a:pt x="13084" y="11335"/>
                  <a:pt x="13154" y="11282"/>
                  <a:pt x="13221" y="11336"/>
                </a:cubicBezTo>
                <a:cubicBezTo>
                  <a:pt x="13270" y="11375"/>
                  <a:pt x="13292" y="11399"/>
                  <a:pt x="13295" y="11460"/>
                </a:cubicBezTo>
                <a:cubicBezTo>
                  <a:pt x="13298" y="11517"/>
                  <a:pt x="13295" y="11576"/>
                  <a:pt x="13295" y="11633"/>
                </a:cubicBezTo>
              </a:path>
              <a:path w="4714" h="2010">
                <a:moveTo>
                  <a:pt x="13593" y="11460"/>
                </a:moveTo>
                <a:lnTo>
                  <a:pt x="13593" y="11460"/>
                </a:lnTo>
              </a:path>
              <a:path w="4714" h="2010">
                <a:moveTo>
                  <a:pt x="14163" y="10592"/>
                </a:moveTo>
                <a:cubicBezTo>
                  <a:pt x="14240" y="10566"/>
                  <a:pt x="14313" y="10575"/>
                  <a:pt x="14387" y="10542"/>
                </a:cubicBezTo>
                <a:cubicBezTo>
                  <a:pt x="14403" y="10534"/>
                  <a:pt x="14420" y="10525"/>
                  <a:pt x="14436" y="10517"/>
                </a:cubicBezTo>
              </a:path>
              <a:path w="4714" h="2010">
                <a:moveTo>
                  <a:pt x="13965" y="10790"/>
                </a:moveTo>
                <a:cubicBezTo>
                  <a:pt x="13912" y="10861"/>
                  <a:pt x="13853" y="10936"/>
                  <a:pt x="13891" y="11038"/>
                </a:cubicBezTo>
                <a:cubicBezTo>
                  <a:pt x="13899" y="11046"/>
                  <a:pt x="13907" y="11055"/>
                  <a:pt x="13915" y="11063"/>
                </a:cubicBezTo>
                <a:cubicBezTo>
                  <a:pt x="13984" y="11053"/>
                  <a:pt x="14000" y="11022"/>
                  <a:pt x="14064" y="10988"/>
                </a:cubicBezTo>
                <a:cubicBezTo>
                  <a:pt x="14104" y="10967"/>
                  <a:pt x="14174" y="10897"/>
                  <a:pt x="14213" y="10889"/>
                </a:cubicBezTo>
                <a:cubicBezTo>
                  <a:pt x="14285" y="10875"/>
                  <a:pt x="14336" y="10919"/>
                  <a:pt x="14387" y="10964"/>
                </a:cubicBezTo>
                <a:cubicBezTo>
                  <a:pt x="14436" y="11007"/>
                  <a:pt x="14498" y="11010"/>
                  <a:pt x="14486" y="11088"/>
                </a:cubicBezTo>
                <a:cubicBezTo>
                  <a:pt x="14469" y="11200"/>
                  <a:pt x="14410" y="11212"/>
                  <a:pt x="14337" y="11286"/>
                </a:cubicBezTo>
                <a:cubicBezTo>
                  <a:pt x="14290" y="11334"/>
                  <a:pt x="14202" y="11442"/>
                  <a:pt x="14139" y="11460"/>
                </a:cubicBezTo>
                <a:cubicBezTo>
                  <a:pt x="14101" y="11471"/>
                  <a:pt x="14017" y="11530"/>
                  <a:pt x="14064" y="11485"/>
                </a:cubicBezTo>
              </a:path>
              <a:path w="4714" h="2010">
                <a:moveTo>
                  <a:pt x="14883" y="11212"/>
                </a:moveTo>
                <a:cubicBezTo>
                  <a:pt x="14969" y="11273"/>
                  <a:pt x="15033" y="11325"/>
                  <a:pt x="15106" y="11385"/>
                </a:cubicBezTo>
                <a:cubicBezTo>
                  <a:pt x="15134" y="11413"/>
                  <a:pt x="15147" y="11422"/>
                  <a:pt x="15180" y="11410"/>
                </a:cubicBezTo>
              </a:path>
              <a:path w="4714" h="2010">
                <a:moveTo>
                  <a:pt x="15131" y="10988"/>
                </a:moveTo>
                <a:cubicBezTo>
                  <a:pt x="15026" y="11118"/>
                  <a:pt x="14968" y="11226"/>
                  <a:pt x="14883" y="11361"/>
                </a:cubicBezTo>
                <a:cubicBezTo>
                  <a:pt x="14833" y="11435"/>
                  <a:pt x="14817" y="11459"/>
                  <a:pt x="14784" y="11509"/>
                </a:cubicBezTo>
              </a:path>
              <a:path w="4714" h="2010">
                <a:moveTo>
                  <a:pt x="15726" y="10542"/>
                </a:moveTo>
                <a:cubicBezTo>
                  <a:pt x="15750" y="10710"/>
                  <a:pt x="15744" y="10780"/>
                  <a:pt x="15701" y="10939"/>
                </a:cubicBezTo>
                <a:cubicBezTo>
                  <a:pt x="15668" y="11060"/>
                  <a:pt x="15627" y="11156"/>
                  <a:pt x="15577" y="11261"/>
                </a:cubicBezTo>
                <a:cubicBezTo>
                  <a:pt x="15546" y="11327"/>
                  <a:pt x="15553" y="11390"/>
                  <a:pt x="15553" y="11460"/>
                </a:cubicBezTo>
              </a:path>
              <a:path w="4714" h="2010">
                <a:moveTo>
                  <a:pt x="16297" y="10517"/>
                </a:moveTo>
                <a:cubicBezTo>
                  <a:pt x="16223" y="10578"/>
                  <a:pt x="16096" y="10638"/>
                  <a:pt x="16049" y="10716"/>
                </a:cubicBezTo>
                <a:cubicBezTo>
                  <a:pt x="16015" y="10773"/>
                  <a:pt x="15968" y="10861"/>
                  <a:pt x="15999" y="10914"/>
                </a:cubicBezTo>
                <a:cubicBezTo>
                  <a:pt x="16023" y="10956"/>
                  <a:pt x="16074" y="11025"/>
                  <a:pt x="16123" y="11038"/>
                </a:cubicBezTo>
                <a:cubicBezTo>
                  <a:pt x="16179" y="11053"/>
                  <a:pt x="16216" y="11060"/>
                  <a:pt x="16272" y="11088"/>
                </a:cubicBezTo>
                <a:cubicBezTo>
                  <a:pt x="16253" y="11192"/>
                  <a:pt x="16219" y="11243"/>
                  <a:pt x="16098" y="11261"/>
                </a:cubicBezTo>
                <a:cubicBezTo>
                  <a:pt x="16025" y="11272"/>
                  <a:pt x="16000" y="11252"/>
                  <a:pt x="15949" y="11212"/>
                </a:cubicBezTo>
                <a:cubicBezTo>
                  <a:pt x="15991" y="11117"/>
                  <a:pt x="16036" y="11022"/>
                  <a:pt x="16098" y="10939"/>
                </a:cubicBezTo>
                <a:cubicBezTo>
                  <a:pt x="16173" y="10839"/>
                  <a:pt x="16259" y="10704"/>
                  <a:pt x="16371" y="10641"/>
                </a:cubicBezTo>
                <a:cubicBezTo>
                  <a:pt x="16419" y="10617"/>
                  <a:pt x="16433" y="10609"/>
                  <a:pt x="16470" y="10616"/>
                </a:cubicBezTo>
                <a:cubicBezTo>
                  <a:pt x="16501" y="10709"/>
                  <a:pt x="16453" y="10793"/>
                  <a:pt x="16421" y="10889"/>
                </a:cubicBezTo>
                <a:cubicBezTo>
                  <a:pt x="16389" y="10986"/>
                  <a:pt x="16336" y="11114"/>
                  <a:pt x="16396" y="11212"/>
                </a:cubicBezTo>
                <a:cubicBezTo>
                  <a:pt x="16431" y="11269"/>
                  <a:pt x="16525" y="11232"/>
                  <a:pt x="16570" y="11212"/>
                </a:cubicBezTo>
                <a:cubicBezTo>
                  <a:pt x="16661" y="11171"/>
                  <a:pt x="16698" y="11026"/>
                  <a:pt x="16718" y="10939"/>
                </a:cubicBezTo>
                <a:cubicBezTo>
                  <a:pt x="16733" y="10876"/>
                  <a:pt x="16696" y="10724"/>
                  <a:pt x="16669" y="10666"/>
                </a:cubicBezTo>
                <a:cubicBezTo>
                  <a:pt x="16642" y="10610"/>
                  <a:pt x="16584" y="10556"/>
                  <a:pt x="16520" y="10542"/>
                </a:cubicBezTo>
                <a:cubicBezTo>
                  <a:pt x="16479" y="10542"/>
                  <a:pt x="16471" y="10542"/>
                  <a:pt x="16446" y="10542"/>
                </a:cubicBezTo>
              </a:path>
              <a:path w="4714" h="2010">
                <a:moveTo>
                  <a:pt x="15553" y="11336"/>
                </a:moveTo>
                <a:cubicBezTo>
                  <a:pt x="15678" y="11364"/>
                  <a:pt x="15843" y="11272"/>
                  <a:pt x="15974" y="11237"/>
                </a:cubicBezTo>
                <a:cubicBezTo>
                  <a:pt x="16121" y="11197"/>
                  <a:pt x="16274" y="11176"/>
                  <a:pt x="16421" y="11137"/>
                </a:cubicBezTo>
                <a:cubicBezTo>
                  <a:pt x="16522" y="11110"/>
                  <a:pt x="16613" y="11112"/>
                  <a:pt x="16718" y="11112"/>
                </a:cubicBezTo>
                <a:cubicBezTo>
                  <a:pt x="16760" y="11112"/>
                  <a:pt x="16768" y="11112"/>
                  <a:pt x="16793" y="11112"/>
                </a:cubicBezTo>
              </a:path>
              <a:path w="4714" h="2010">
                <a:moveTo>
                  <a:pt x="15701" y="11683"/>
                </a:moveTo>
                <a:cubicBezTo>
                  <a:pt x="15810" y="11639"/>
                  <a:pt x="15912" y="11639"/>
                  <a:pt x="16024" y="11609"/>
                </a:cubicBezTo>
                <a:cubicBezTo>
                  <a:pt x="16062" y="11599"/>
                  <a:pt x="16222" y="11555"/>
                  <a:pt x="16247" y="11534"/>
                </a:cubicBezTo>
                <a:cubicBezTo>
                  <a:pt x="16255" y="11518"/>
                  <a:pt x="16264" y="11501"/>
                  <a:pt x="16272" y="11485"/>
                </a:cubicBezTo>
              </a:path>
              <a:path w="4714" h="2010">
                <a:moveTo>
                  <a:pt x="15974" y="11733"/>
                </a:moveTo>
                <a:cubicBezTo>
                  <a:pt x="15923" y="11912"/>
                  <a:pt x="15897" y="12153"/>
                  <a:pt x="15825" y="12328"/>
                </a:cubicBezTo>
                <a:cubicBezTo>
                  <a:pt x="15788" y="12418"/>
                  <a:pt x="15776" y="12429"/>
                  <a:pt x="15776" y="12526"/>
                </a:cubicBezTo>
              </a:path>
              <a:path w="4714" h="2010">
                <a:moveTo>
                  <a:pt x="16123" y="11757"/>
                </a:moveTo>
                <a:cubicBezTo>
                  <a:pt x="16116" y="11909"/>
                  <a:pt x="16098" y="12051"/>
                  <a:pt x="16098" y="12204"/>
                </a:cubicBezTo>
                <a:cubicBezTo>
                  <a:pt x="16098" y="12274"/>
                  <a:pt x="16082" y="12355"/>
                  <a:pt x="16148" y="12402"/>
                </a:cubicBezTo>
                <a:cubicBezTo>
                  <a:pt x="16196" y="12426"/>
                  <a:pt x="16210" y="12435"/>
                  <a:pt x="16247" y="12427"/>
                </a:cubicBezTo>
              </a:path>
              <a:path w="4714" h="2010">
                <a:moveTo>
                  <a:pt x="17165" y="11286"/>
                </a:moveTo>
                <a:cubicBezTo>
                  <a:pt x="17256" y="11278"/>
                  <a:pt x="17343" y="11247"/>
                  <a:pt x="17438" y="11261"/>
                </a:cubicBezTo>
                <a:cubicBezTo>
                  <a:pt x="17479" y="11269"/>
                  <a:pt x="17521" y="11278"/>
                  <a:pt x="17562" y="11286"/>
                </a:cubicBezTo>
              </a:path>
              <a:path w="4714" h="2010">
                <a:moveTo>
                  <a:pt x="17165" y="11807"/>
                </a:moveTo>
                <a:cubicBezTo>
                  <a:pt x="17254" y="11783"/>
                  <a:pt x="17348" y="11737"/>
                  <a:pt x="17438" y="11733"/>
                </a:cubicBezTo>
                <a:cubicBezTo>
                  <a:pt x="17514" y="11733"/>
                  <a:pt x="17540" y="11732"/>
                  <a:pt x="17587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Ink 10"/>
          <p:cNvSpPr/>
          <p:nvPr/>
        </p:nvSpPr>
        <p:spPr>
          <a:xfrm>
            <a:off x="6697800" y="3776760"/>
            <a:ext cx="642960" cy="536400"/>
          </a:xfrm>
          <a:custGeom>
            <a:avLst/>
            <a:gdLst/>
            <a:ahLst/>
            <a:rect l="l" t="t" r="r" b="b"/>
            <a:pathLst>
              <a:path w="1786" h="1490">
                <a:moveTo>
                  <a:pt x="18852" y="10592"/>
                </a:moveTo>
                <a:cubicBezTo>
                  <a:pt x="18760" y="10710"/>
                  <a:pt x="18752" y="10764"/>
                  <a:pt x="18752" y="10914"/>
                </a:cubicBezTo>
                <a:cubicBezTo>
                  <a:pt x="18752" y="11042"/>
                  <a:pt x="18740" y="11162"/>
                  <a:pt x="18728" y="11286"/>
                </a:cubicBezTo>
                <a:cubicBezTo>
                  <a:pt x="18717" y="11398"/>
                  <a:pt x="18715" y="11475"/>
                  <a:pt x="18678" y="11584"/>
                </a:cubicBezTo>
                <a:cubicBezTo>
                  <a:pt x="18657" y="11647"/>
                  <a:pt x="18634" y="11706"/>
                  <a:pt x="18604" y="11757"/>
                </a:cubicBezTo>
              </a:path>
              <a:path w="1786" h="1490">
                <a:moveTo>
                  <a:pt x="19025" y="10889"/>
                </a:moveTo>
                <a:cubicBezTo>
                  <a:pt x="19007" y="11005"/>
                  <a:pt x="19000" y="11097"/>
                  <a:pt x="19000" y="11212"/>
                </a:cubicBezTo>
                <a:cubicBezTo>
                  <a:pt x="19000" y="11258"/>
                  <a:pt x="18994" y="11387"/>
                  <a:pt x="19050" y="11410"/>
                </a:cubicBezTo>
                <a:cubicBezTo>
                  <a:pt x="19130" y="11444"/>
                  <a:pt x="19223" y="11358"/>
                  <a:pt x="19273" y="11311"/>
                </a:cubicBezTo>
                <a:cubicBezTo>
                  <a:pt x="19281" y="11303"/>
                  <a:pt x="19290" y="11294"/>
                  <a:pt x="19298" y="11286"/>
                </a:cubicBezTo>
              </a:path>
              <a:path w="1786" h="1490">
                <a:moveTo>
                  <a:pt x="19298" y="10864"/>
                </a:moveTo>
                <a:cubicBezTo>
                  <a:pt x="19284" y="10976"/>
                  <a:pt x="19275" y="11121"/>
                  <a:pt x="19298" y="11237"/>
                </a:cubicBezTo>
                <a:cubicBezTo>
                  <a:pt x="19320" y="11344"/>
                  <a:pt x="19323" y="11445"/>
                  <a:pt x="19323" y="11559"/>
                </a:cubicBezTo>
                <a:cubicBezTo>
                  <a:pt x="19323" y="11650"/>
                  <a:pt x="19323" y="11741"/>
                  <a:pt x="19323" y="11832"/>
                </a:cubicBezTo>
              </a:path>
              <a:path w="1786" h="1490">
                <a:moveTo>
                  <a:pt x="19645" y="10815"/>
                </a:moveTo>
                <a:cubicBezTo>
                  <a:pt x="19637" y="10775"/>
                  <a:pt x="19615" y="10679"/>
                  <a:pt x="19695" y="10666"/>
                </a:cubicBezTo>
                <a:cubicBezTo>
                  <a:pt x="19763" y="10655"/>
                  <a:pt x="19872" y="10652"/>
                  <a:pt x="19918" y="10716"/>
                </a:cubicBezTo>
                <a:cubicBezTo>
                  <a:pt x="19968" y="10785"/>
                  <a:pt x="19934" y="10867"/>
                  <a:pt x="19918" y="10939"/>
                </a:cubicBezTo>
                <a:cubicBezTo>
                  <a:pt x="19888" y="11079"/>
                  <a:pt x="19788" y="11183"/>
                  <a:pt x="19695" y="11286"/>
                </a:cubicBezTo>
                <a:cubicBezTo>
                  <a:pt x="19687" y="11294"/>
                  <a:pt x="19678" y="11303"/>
                  <a:pt x="19670" y="11311"/>
                </a:cubicBezTo>
                <a:cubicBezTo>
                  <a:pt x="19752" y="11301"/>
                  <a:pt x="19788" y="11275"/>
                  <a:pt x="19869" y="11311"/>
                </a:cubicBezTo>
                <a:cubicBezTo>
                  <a:pt x="19916" y="11332"/>
                  <a:pt x="19979" y="11384"/>
                  <a:pt x="19993" y="11435"/>
                </a:cubicBezTo>
                <a:cubicBezTo>
                  <a:pt x="20009" y="11495"/>
                  <a:pt x="20002" y="11608"/>
                  <a:pt x="19968" y="11658"/>
                </a:cubicBezTo>
                <a:cubicBezTo>
                  <a:pt x="19895" y="11764"/>
                  <a:pt x="19808" y="11813"/>
                  <a:pt x="19720" y="11906"/>
                </a:cubicBezTo>
                <a:cubicBezTo>
                  <a:pt x="19680" y="11949"/>
                  <a:pt x="19596" y="12015"/>
                  <a:pt x="19596" y="11956"/>
                </a:cubicBezTo>
                <a:cubicBezTo>
                  <a:pt x="19604" y="11939"/>
                  <a:pt x="19613" y="11923"/>
                  <a:pt x="19621" y="11906"/>
                </a:cubicBezTo>
              </a:path>
              <a:path w="1786" h="1490">
                <a:moveTo>
                  <a:pt x="20290" y="10517"/>
                </a:moveTo>
                <a:cubicBezTo>
                  <a:pt x="20207" y="10545"/>
                  <a:pt x="20246" y="10625"/>
                  <a:pt x="20191" y="10716"/>
                </a:cubicBezTo>
                <a:cubicBezTo>
                  <a:pt x="20161" y="10745"/>
                  <a:pt x="20156" y="10759"/>
                  <a:pt x="20191" y="10790"/>
                </a:cubicBezTo>
                <a:cubicBezTo>
                  <a:pt x="20272" y="10709"/>
                  <a:pt x="20332" y="10662"/>
                  <a:pt x="20365" y="10567"/>
                </a:cubicBezTo>
                <a:cubicBezTo>
                  <a:pt x="20403" y="10457"/>
                  <a:pt x="20334" y="10496"/>
                  <a:pt x="20265" y="105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Ink 11"/>
          <p:cNvSpPr/>
          <p:nvPr/>
        </p:nvSpPr>
        <p:spPr>
          <a:xfrm>
            <a:off x="4884840" y="4643280"/>
            <a:ext cx="1143000" cy="1214640"/>
          </a:xfrm>
          <a:custGeom>
            <a:avLst/>
            <a:gdLst/>
            <a:ahLst/>
            <a:rect l="l" t="t" r="r" b="b"/>
            <a:pathLst>
              <a:path w="3176" h="3375">
                <a:moveTo>
                  <a:pt x="13643" y="13742"/>
                </a:moveTo>
                <a:cubicBezTo>
                  <a:pt x="13704" y="13711"/>
                  <a:pt x="13774" y="13701"/>
                  <a:pt x="13841" y="13742"/>
                </a:cubicBezTo>
                <a:cubicBezTo>
                  <a:pt x="13914" y="13787"/>
                  <a:pt x="13894" y="13848"/>
                  <a:pt x="13866" y="13915"/>
                </a:cubicBezTo>
                <a:cubicBezTo>
                  <a:pt x="13835" y="13988"/>
                  <a:pt x="13777" y="14046"/>
                  <a:pt x="13717" y="14089"/>
                </a:cubicBezTo>
                <a:cubicBezTo>
                  <a:pt x="13784" y="14035"/>
                  <a:pt x="13830" y="14039"/>
                  <a:pt x="13915" y="14039"/>
                </a:cubicBezTo>
                <a:cubicBezTo>
                  <a:pt x="13902" y="14156"/>
                  <a:pt x="13845" y="14232"/>
                  <a:pt x="13791" y="14337"/>
                </a:cubicBezTo>
                <a:cubicBezTo>
                  <a:pt x="13742" y="14433"/>
                  <a:pt x="13653" y="14676"/>
                  <a:pt x="13593" y="14734"/>
                </a:cubicBezTo>
                <a:cubicBezTo>
                  <a:pt x="13585" y="14726"/>
                  <a:pt x="13576" y="14717"/>
                  <a:pt x="13568" y="14709"/>
                </a:cubicBezTo>
              </a:path>
              <a:path w="3176" h="3375">
                <a:moveTo>
                  <a:pt x="14263" y="13494"/>
                </a:moveTo>
                <a:cubicBezTo>
                  <a:pt x="14394" y="13417"/>
                  <a:pt x="14457" y="13421"/>
                  <a:pt x="14585" y="13370"/>
                </a:cubicBezTo>
                <a:cubicBezTo>
                  <a:pt x="14655" y="13342"/>
                  <a:pt x="14735" y="13305"/>
                  <a:pt x="14808" y="13295"/>
                </a:cubicBezTo>
                <a:cubicBezTo>
                  <a:pt x="14865" y="13288"/>
                  <a:pt x="14904" y="13281"/>
                  <a:pt x="14957" y="13271"/>
                </a:cubicBezTo>
              </a:path>
              <a:path w="3176" h="3375">
                <a:moveTo>
                  <a:pt x="14635" y="13295"/>
                </a:moveTo>
                <a:cubicBezTo>
                  <a:pt x="14550" y="13405"/>
                  <a:pt x="14431" y="13531"/>
                  <a:pt x="14387" y="13667"/>
                </a:cubicBezTo>
                <a:cubicBezTo>
                  <a:pt x="14344" y="13800"/>
                  <a:pt x="14319" y="13952"/>
                  <a:pt x="14288" y="14089"/>
                </a:cubicBezTo>
                <a:cubicBezTo>
                  <a:pt x="14261" y="14204"/>
                  <a:pt x="14263" y="14294"/>
                  <a:pt x="14263" y="14412"/>
                </a:cubicBezTo>
              </a:path>
              <a:path w="3176" h="3375">
                <a:moveTo>
                  <a:pt x="14585" y="13593"/>
                </a:moveTo>
                <a:cubicBezTo>
                  <a:pt x="14525" y="13668"/>
                  <a:pt x="14514" y="13749"/>
                  <a:pt x="14486" y="13841"/>
                </a:cubicBezTo>
                <a:cubicBezTo>
                  <a:pt x="14431" y="14024"/>
                  <a:pt x="14416" y="14169"/>
                  <a:pt x="14412" y="14362"/>
                </a:cubicBezTo>
                <a:cubicBezTo>
                  <a:pt x="14409" y="14495"/>
                  <a:pt x="14445" y="14556"/>
                  <a:pt x="14511" y="14660"/>
                </a:cubicBezTo>
                <a:cubicBezTo>
                  <a:pt x="14519" y="14676"/>
                  <a:pt x="14528" y="14693"/>
                  <a:pt x="14536" y="14709"/>
                </a:cubicBezTo>
              </a:path>
              <a:path w="3176" h="3375">
                <a:moveTo>
                  <a:pt x="13593" y="14883"/>
                </a:moveTo>
                <a:cubicBezTo>
                  <a:pt x="13706" y="14807"/>
                  <a:pt x="13822" y="14754"/>
                  <a:pt x="13940" y="14684"/>
                </a:cubicBezTo>
                <a:cubicBezTo>
                  <a:pt x="14055" y="14616"/>
                  <a:pt x="14185" y="14578"/>
                  <a:pt x="14312" y="14536"/>
                </a:cubicBezTo>
                <a:cubicBezTo>
                  <a:pt x="14400" y="14507"/>
                  <a:pt x="14497" y="14472"/>
                  <a:pt x="14585" y="14461"/>
                </a:cubicBezTo>
                <a:cubicBezTo>
                  <a:pt x="14610" y="14461"/>
                  <a:pt x="14635" y="14461"/>
                  <a:pt x="14660" y="14461"/>
                </a:cubicBezTo>
              </a:path>
              <a:path w="3176" h="3375">
                <a:moveTo>
                  <a:pt x="13990" y="15007"/>
                </a:moveTo>
                <a:cubicBezTo>
                  <a:pt x="14039" y="14978"/>
                  <a:pt x="14117" y="14985"/>
                  <a:pt x="14163" y="14957"/>
                </a:cubicBezTo>
                <a:cubicBezTo>
                  <a:pt x="14228" y="14918"/>
                  <a:pt x="14259" y="14874"/>
                  <a:pt x="14337" y="14858"/>
                </a:cubicBezTo>
              </a:path>
              <a:path w="3176" h="3375">
                <a:moveTo>
                  <a:pt x="14089" y="15032"/>
                </a:moveTo>
                <a:cubicBezTo>
                  <a:pt x="14000" y="15142"/>
                  <a:pt x="13974" y="15163"/>
                  <a:pt x="13940" y="15280"/>
                </a:cubicBezTo>
                <a:cubicBezTo>
                  <a:pt x="13937" y="15292"/>
                  <a:pt x="13864" y="15466"/>
                  <a:pt x="13866" y="15478"/>
                </a:cubicBezTo>
                <a:cubicBezTo>
                  <a:pt x="13874" y="15486"/>
                  <a:pt x="13883" y="15495"/>
                  <a:pt x="13891" y="15503"/>
                </a:cubicBezTo>
                <a:cubicBezTo>
                  <a:pt x="13957" y="15453"/>
                  <a:pt x="13995" y="15378"/>
                  <a:pt x="14064" y="15329"/>
                </a:cubicBezTo>
                <a:cubicBezTo>
                  <a:pt x="14114" y="15293"/>
                  <a:pt x="14192" y="15208"/>
                  <a:pt x="14263" y="15230"/>
                </a:cubicBezTo>
                <a:cubicBezTo>
                  <a:pt x="14341" y="15254"/>
                  <a:pt x="14345" y="15315"/>
                  <a:pt x="14362" y="15379"/>
                </a:cubicBezTo>
                <a:cubicBezTo>
                  <a:pt x="14397" y="15513"/>
                  <a:pt x="14361" y="15647"/>
                  <a:pt x="14312" y="15776"/>
                </a:cubicBezTo>
                <a:cubicBezTo>
                  <a:pt x="14249" y="15944"/>
                  <a:pt x="14183" y="16096"/>
                  <a:pt x="14163" y="16272"/>
                </a:cubicBezTo>
              </a:path>
              <a:path w="3176" h="3375">
                <a:moveTo>
                  <a:pt x="14957" y="14412"/>
                </a:moveTo>
                <a:cubicBezTo>
                  <a:pt x="14935" y="14470"/>
                  <a:pt x="14913" y="14481"/>
                  <a:pt x="14957" y="14511"/>
                </a:cubicBezTo>
              </a:path>
              <a:path w="3176" h="3375">
                <a:moveTo>
                  <a:pt x="15900" y="13370"/>
                </a:moveTo>
                <a:cubicBezTo>
                  <a:pt x="15872" y="13628"/>
                  <a:pt x="15828" y="13735"/>
                  <a:pt x="15751" y="13965"/>
                </a:cubicBezTo>
                <a:cubicBezTo>
                  <a:pt x="15711" y="14084"/>
                  <a:pt x="15687" y="14214"/>
                  <a:pt x="15677" y="14337"/>
                </a:cubicBezTo>
              </a:path>
              <a:path w="3176" h="3375">
                <a:moveTo>
                  <a:pt x="16321" y="13494"/>
                </a:moveTo>
                <a:cubicBezTo>
                  <a:pt x="16329" y="13453"/>
                  <a:pt x="16338" y="13411"/>
                  <a:pt x="16346" y="13370"/>
                </a:cubicBezTo>
                <a:cubicBezTo>
                  <a:pt x="16269" y="13429"/>
                  <a:pt x="16198" y="13479"/>
                  <a:pt x="16123" y="13543"/>
                </a:cubicBezTo>
                <a:cubicBezTo>
                  <a:pt x="16074" y="13585"/>
                  <a:pt x="16053" y="13655"/>
                  <a:pt x="16123" y="13692"/>
                </a:cubicBezTo>
                <a:cubicBezTo>
                  <a:pt x="16186" y="13725"/>
                  <a:pt x="16274" y="13731"/>
                  <a:pt x="16321" y="13791"/>
                </a:cubicBezTo>
                <a:cubicBezTo>
                  <a:pt x="16401" y="13893"/>
                  <a:pt x="16376" y="13924"/>
                  <a:pt x="16321" y="14015"/>
                </a:cubicBezTo>
                <a:cubicBezTo>
                  <a:pt x="16276" y="14089"/>
                  <a:pt x="16263" y="14074"/>
                  <a:pt x="16197" y="14114"/>
                </a:cubicBezTo>
                <a:cubicBezTo>
                  <a:pt x="16152" y="14036"/>
                  <a:pt x="16196" y="13977"/>
                  <a:pt x="16222" y="13891"/>
                </a:cubicBezTo>
                <a:cubicBezTo>
                  <a:pt x="16250" y="13797"/>
                  <a:pt x="16288" y="13609"/>
                  <a:pt x="16346" y="13519"/>
                </a:cubicBezTo>
                <a:cubicBezTo>
                  <a:pt x="16367" y="13486"/>
                  <a:pt x="16416" y="13449"/>
                  <a:pt x="16446" y="13419"/>
                </a:cubicBezTo>
                <a:cubicBezTo>
                  <a:pt x="16475" y="13480"/>
                  <a:pt x="16471" y="13556"/>
                  <a:pt x="16520" y="13618"/>
                </a:cubicBezTo>
                <a:cubicBezTo>
                  <a:pt x="16561" y="13670"/>
                  <a:pt x="16671" y="13704"/>
                  <a:pt x="16718" y="13643"/>
                </a:cubicBezTo>
                <a:cubicBezTo>
                  <a:pt x="16768" y="13577"/>
                  <a:pt x="16741" y="13542"/>
                  <a:pt x="16694" y="13494"/>
                </a:cubicBezTo>
                <a:cubicBezTo>
                  <a:pt x="16655" y="13454"/>
                  <a:pt x="16613" y="13429"/>
                  <a:pt x="16570" y="13395"/>
                </a:cubicBezTo>
              </a:path>
              <a:path w="3176" h="3375">
                <a:moveTo>
                  <a:pt x="15602" y="14362"/>
                </a:moveTo>
                <a:cubicBezTo>
                  <a:pt x="15790" y="14283"/>
                  <a:pt x="15909" y="14248"/>
                  <a:pt x="16098" y="14213"/>
                </a:cubicBezTo>
                <a:cubicBezTo>
                  <a:pt x="16225" y="14190"/>
                  <a:pt x="16340" y="14188"/>
                  <a:pt x="16470" y="14188"/>
                </a:cubicBezTo>
                <a:cubicBezTo>
                  <a:pt x="16552" y="14188"/>
                  <a:pt x="16618" y="14198"/>
                  <a:pt x="16694" y="14213"/>
                </a:cubicBezTo>
              </a:path>
              <a:path w="3176" h="3375">
                <a:moveTo>
                  <a:pt x="15850" y="14660"/>
                </a:moveTo>
                <a:cubicBezTo>
                  <a:pt x="15984" y="14611"/>
                  <a:pt x="16107" y="14578"/>
                  <a:pt x="16247" y="14536"/>
                </a:cubicBezTo>
                <a:cubicBezTo>
                  <a:pt x="16280" y="14528"/>
                  <a:pt x="16313" y="14519"/>
                  <a:pt x="16346" y="14511"/>
                </a:cubicBezTo>
              </a:path>
              <a:path w="3176" h="3375">
                <a:moveTo>
                  <a:pt x="16123" y="14560"/>
                </a:moveTo>
                <a:cubicBezTo>
                  <a:pt x="16074" y="14713"/>
                  <a:pt x="15996" y="14857"/>
                  <a:pt x="15949" y="15007"/>
                </a:cubicBezTo>
                <a:cubicBezTo>
                  <a:pt x="15894" y="15183"/>
                  <a:pt x="15820" y="15372"/>
                  <a:pt x="15801" y="15553"/>
                </a:cubicBezTo>
                <a:cubicBezTo>
                  <a:pt x="15801" y="15594"/>
                  <a:pt x="15793" y="15610"/>
                  <a:pt x="15825" y="15602"/>
                </a:cubicBezTo>
              </a:path>
              <a:path w="3176" h="3375">
                <a:moveTo>
                  <a:pt x="16222" y="14635"/>
                </a:moveTo>
                <a:cubicBezTo>
                  <a:pt x="16172" y="14766"/>
                  <a:pt x="16125" y="14894"/>
                  <a:pt x="16098" y="15032"/>
                </a:cubicBezTo>
                <a:cubicBezTo>
                  <a:pt x="16053" y="15259"/>
                  <a:pt x="15979" y="15497"/>
                  <a:pt x="16024" y="15726"/>
                </a:cubicBezTo>
                <a:cubicBezTo>
                  <a:pt x="16032" y="15743"/>
                  <a:pt x="16041" y="15759"/>
                  <a:pt x="16049" y="15776"/>
                </a:cubicBezTo>
              </a:path>
              <a:path w="3176" h="3375">
                <a:moveTo>
                  <a:pt x="15528" y="15478"/>
                </a:moveTo>
                <a:cubicBezTo>
                  <a:pt x="15575" y="15373"/>
                  <a:pt x="15621" y="15267"/>
                  <a:pt x="15701" y="15180"/>
                </a:cubicBezTo>
                <a:cubicBezTo>
                  <a:pt x="15826" y="15044"/>
                  <a:pt x="15953" y="14898"/>
                  <a:pt x="16098" y="14784"/>
                </a:cubicBezTo>
                <a:cubicBezTo>
                  <a:pt x="16178" y="14722"/>
                  <a:pt x="16250" y="14648"/>
                  <a:pt x="16346" y="14610"/>
                </a:cubicBezTo>
                <a:cubicBezTo>
                  <a:pt x="16371" y="14602"/>
                  <a:pt x="16396" y="14593"/>
                  <a:pt x="16421" y="14585"/>
                </a:cubicBezTo>
              </a:path>
              <a:path w="3176" h="3375">
                <a:moveTo>
                  <a:pt x="14213" y="14114"/>
                </a:moveTo>
                <a:cubicBezTo>
                  <a:pt x="14273" y="13832"/>
                  <a:pt x="14409" y="13668"/>
                  <a:pt x="14610" y="13444"/>
                </a:cubicBezTo>
                <a:cubicBezTo>
                  <a:pt x="14763" y="13274"/>
                  <a:pt x="14969" y="13129"/>
                  <a:pt x="15156" y="12998"/>
                </a:cubicBezTo>
                <a:cubicBezTo>
                  <a:pt x="15205" y="12965"/>
                  <a:pt x="15255" y="12931"/>
                  <a:pt x="15304" y="128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Ink 12"/>
          <p:cNvSpPr/>
          <p:nvPr/>
        </p:nvSpPr>
        <p:spPr>
          <a:xfrm>
            <a:off x="6599160" y="4768920"/>
            <a:ext cx="911160" cy="660240"/>
          </a:xfrm>
          <a:custGeom>
            <a:avLst/>
            <a:gdLst/>
            <a:ahLst/>
            <a:rect l="l" t="t" r="r" b="b"/>
            <a:pathLst>
              <a:path w="2531" h="1836">
                <a:moveTo>
                  <a:pt x="18331" y="14387"/>
                </a:moveTo>
                <a:cubicBezTo>
                  <a:pt x="18411" y="14387"/>
                  <a:pt x="18452" y="14366"/>
                  <a:pt x="18529" y="14362"/>
                </a:cubicBezTo>
                <a:cubicBezTo>
                  <a:pt x="18574" y="14362"/>
                  <a:pt x="18587" y="14365"/>
                  <a:pt x="18604" y="14337"/>
                </a:cubicBezTo>
              </a:path>
              <a:path w="2531" h="1836">
                <a:moveTo>
                  <a:pt x="18405" y="14784"/>
                </a:moveTo>
                <a:cubicBezTo>
                  <a:pt x="18440" y="14852"/>
                  <a:pt x="18498" y="14805"/>
                  <a:pt x="18579" y="14784"/>
                </a:cubicBezTo>
              </a:path>
              <a:path w="2531" h="1836">
                <a:moveTo>
                  <a:pt x="19174" y="13940"/>
                </a:moveTo>
                <a:cubicBezTo>
                  <a:pt x="19174" y="14078"/>
                  <a:pt x="19160" y="14203"/>
                  <a:pt x="19149" y="14337"/>
                </a:cubicBezTo>
                <a:cubicBezTo>
                  <a:pt x="19139" y="14452"/>
                  <a:pt x="19127" y="14570"/>
                  <a:pt x="19124" y="14684"/>
                </a:cubicBezTo>
                <a:cubicBezTo>
                  <a:pt x="19120" y="14816"/>
                  <a:pt x="19124" y="14949"/>
                  <a:pt x="19124" y="15081"/>
                </a:cubicBezTo>
              </a:path>
              <a:path w="2531" h="1836">
                <a:moveTo>
                  <a:pt x="19621" y="14139"/>
                </a:moveTo>
                <a:cubicBezTo>
                  <a:pt x="19621" y="14242"/>
                  <a:pt x="19609" y="14335"/>
                  <a:pt x="19596" y="14436"/>
                </a:cubicBezTo>
                <a:cubicBezTo>
                  <a:pt x="19580" y="14564"/>
                  <a:pt x="19547" y="14727"/>
                  <a:pt x="19571" y="14858"/>
                </a:cubicBezTo>
                <a:cubicBezTo>
                  <a:pt x="19582" y="14920"/>
                  <a:pt x="19613" y="15026"/>
                  <a:pt x="19695" y="15007"/>
                </a:cubicBezTo>
                <a:cubicBezTo>
                  <a:pt x="19768" y="14990"/>
                  <a:pt x="19828" y="14889"/>
                  <a:pt x="19869" y="14833"/>
                </a:cubicBezTo>
                <a:cubicBezTo>
                  <a:pt x="19944" y="14732"/>
                  <a:pt x="19958" y="14604"/>
                  <a:pt x="19993" y="14486"/>
                </a:cubicBezTo>
                <a:cubicBezTo>
                  <a:pt x="20026" y="14376"/>
                  <a:pt x="20066" y="14257"/>
                  <a:pt x="20042" y="14139"/>
                </a:cubicBezTo>
                <a:cubicBezTo>
                  <a:pt x="20026" y="14060"/>
                  <a:pt x="19969" y="13986"/>
                  <a:pt x="19918" y="13940"/>
                </a:cubicBezTo>
                <a:cubicBezTo>
                  <a:pt x="19854" y="13882"/>
                  <a:pt x="19742" y="13908"/>
                  <a:pt x="19670" y="13940"/>
                </a:cubicBezTo>
                <a:cubicBezTo>
                  <a:pt x="19621" y="13965"/>
                  <a:pt x="19604" y="13973"/>
                  <a:pt x="19571" y="13940"/>
                </a:cubicBezTo>
              </a:path>
              <a:path w="2531" h="1836">
                <a:moveTo>
                  <a:pt x="20241" y="13643"/>
                </a:moveTo>
                <a:cubicBezTo>
                  <a:pt x="20329" y="13607"/>
                  <a:pt x="20328" y="13580"/>
                  <a:pt x="20389" y="13643"/>
                </a:cubicBezTo>
                <a:cubicBezTo>
                  <a:pt x="20348" y="13727"/>
                  <a:pt x="20303" y="13811"/>
                  <a:pt x="20241" y="13891"/>
                </a:cubicBezTo>
                <a:cubicBezTo>
                  <a:pt x="20183" y="13965"/>
                  <a:pt x="20130" y="14045"/>
                  <a:pt x="20067" y="14114"/>
                </a:cubicBezTo>
                <a:cubicBezTo>
                  <a:pt x="20042" y="14139"/>
                  <a:pt x="20034" y="14147"/>
                  <a:pt x="20017" y="14163"/>
                </a:cubicBezTo>
                <a:cubicBezTo>
                  <a:pt x="20050" y="14216"/>
                  <a:pt x="20101" y="14295"/>
                  <a:pt x="20166" y="14312"/>
                </a:cubicBezTo>
                <a:cubicBezTo>
                  <a:pt x="20241" y="14331"/>
                  <a:pt x="20298" y="14364"/>
                  <a:pt x="20340" y="14436"/>
                </a:cubicBezTo>
                <a:cubicBezTo>
                  <a:pt x="20402" y="14541"/>
                  <a:pt x="20446" y="14562"/>
                  <a:pt x="20464" y="14709"/>
                </a:cubicBezTo>
                <a:cubicBezTo>
                  <a:pt x="20475" y="14801"/>
                  <a:pt x="20458" y="14836"/>
                  <a:pt x="20414" y="14908"/>
                </a:cubicBezTo>
                <a:cubicBezTo>
                  <a:pt x="20406" y="14924"/>
                  <a:pt x="20397" y="14941"/>
                  <a:pt x="20389" y="14957"/>
                </a:cubicBezTo>
                <a:cubicBezTo>
                  <a:pt x="20336" y="14949"/>
                  <a:pt x="20298" y="14935"/>
                  <a:pt x="20265" y="14883"/>
                </a:cubicBezTo>
                <a:cubicBezTo>
                  <a:pt x="20207" y="14791"/>
                  <a:pt x="20195" y="14642"/>
                  <a:pt x="20191" y="14536"/>
                </a:cubicBezTo>
                <a:cubicBezTo>
                  <a:pt x="20187" y="14428"/>
                  <a:pt x="20197" y="14317"/>
                  <a:pt x="20216" y="14213"/>
                </a:cubicBezTo>
                <a:cubicBezTo>
                  <a:pt x="20232" y="14128"/>
                  <a:pt x="20262" y="13992"/>
                  <a:pt x="20290" y="13915"/>
                </a:cubicBezTo>
                <a:cubicBezTo>
                  <a:pt x="20315" y="13846"/>
                  <a:pt x="20353" y="13766"/>
                  <a:pt x="20389" y="13692"/>
                </a:cubicBezTo>
              </a:path>
              <a:path w="2531" h="1836">
                <a:moveTo>
                  <a:pt x="20737" y="13246"/>
                </a:moveTo>
                <a:cubicBezTo>
                  <a:pt x="20712" y="13345"/>
                  <a:pt x="20692" y="13441"/>
                  <a:pt x="20687" y="13543"/>
                </a:cubicBezTo>
                <a:cubicBezTo>
                  <a:pt x="20687" y="13595"/>
                  <a:pt x="20688" y="13613"/>
                  <a:pt x="20712" y="13643"/>
                </a:cubicBezTo>
                <a:cubicBezTo>
                  <a:pt x="20764" y="13613"/>
                  <a:pt x="20794" y="13585"/>
                  <a:pt x="20836" y="13543"/>
                </a:cubicBezTo>
                <a:cubicBezTo>
                  <a:pt x="20869" y="13510"/>
                  <a:pt x="20884" y="13388"/>
                  <a:pt x="20861" y="13345"/>
                </a:cubicBezTo>
                <a:cubicBezTo>
                  <a:pt x="20825" y="13276"/>
                  <a:pt x="20774" y="13295"/>
                  <a:pt x="20712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Ink 4"/>
          <p:cNvSpPr/>
          <p:nvPr/>
        </p:nvSpPr>
        <p:spPr>
          <a:xfrm>
            <a:off x="446040" y="1017720"/>
            <a:ext cx="2455920" cy="1571400"/>
          </a:xfrm>
          <a:custGeom>
            <a:avLst/>
            <a:gdLst/>
            <a:ahLst/>
            <a:rect l="l" t="t" r="r" b="b"/>
            <a:pathLst>
              <a:path w="6823" h="4366">
                <a:moveTo>
                  <a:pt x="1389" y="4514"/>
                </a:moveTo>
                <a:cubicBezTo>
                  <a:pt x="1414" y="4440"/>
                  <a:pt x="1415" y="4380"/>
                  <a:pt x="1463" y="4316"/>
                </a:cubicBezTo>
                <a:cubicBezTo>
                  <a:pt x="1528" y="4228"/>
                  <a:pt x="1619" y="4269"/>
                  <a:pt x="1687" y="4316"/>
                </a:cubicBezTo>
                <a:cubicBezTo>
                  <a:pt x="1777" y="4378"/>
                  <a:pt x="1761" y="4441"/>
                  <a:pt x="1761" y="4539"/>
                </a:cubicBezTo>
                <a:cubicBezTo>
                  <a:pt x="1761" y="4672"/>
                  <a:pt x="1720" y="4768"/>
                  <a:pt x="1662" y="4887"/>
                </a:cubicBezTo>
                <a:cubicBezTo>
                  <a:pt x="1627" y="4960"/>
                  <a:pt x="1608" y="5019"/>
                  <a:pt x="1538" y="5060"/>
                </a:cubicBezTo>
                <a:cubicBezTo>
                  <a:pt x="1481" y="5093"/>
                  <a:pt x="1379" y="5102"/>
                  <a:pt x="1315" y="5085"/>
                </a:cubicBezTo>
                <a:cubicBezTo>
                  <a:pt x="1265" y="5060"/>
                  <a:pt x="1249" y="5052"/>
                  <a:pt x="1240" y="5011"/>
                </a:cubicBezTo>
                <a:cubicBezTo>
                  <a:pt x="1281" y="4945"/>
                  <a:pt x="1322" y="4871"/>
                  <a:pt x="1414" y="4887"/>
                </a:cubicBezTo>
                <a:cubicBezTo>
                  <a:pt x="1491" y="4900"/>
                  <a:pt x="1594" y="4950"/>
                  <a:pt x="1612" y="5035"/>
                </a:cubicBezTo>
                <a:cubicBezTo>
                  <a:pt x="1612" y="5060"/>
                  <a:pt x="1612" y="5085"/>
                  <a:pt x="1612" y="5110"/>
                </a:cubicBezTo>
              </a:path>
              <a:path w="6823" h="4366">
                <a:moveTo>
                  <a:pt x="1960" y="4415"/>
                </a:moveTo>
                <a:cubicBezTo>
                  <a:pt x="1917" y="4521"/>
                  <a:pt x="1873" y="4518"/>
                  <a:pt x="1910" y="4638"/>
                </a:cubicBezTo>
                <a:cubicBezTo>
                  <a:pt x="1941" y="4739"/>
                  <a:pt x="2017" y="4735"/>
                  <a:pt x="2108" y="4738"/>
                </a:cubicBezTo>
                <a:cubicBezTo>
                  <a:pt x="2190" y="4741"/>
                  <a:pt x="2191" y="4726"/>
                  <a:pt x="2257" y="4688"/>
                </a:cubicBezTo>
              </a:path>
              <a:path w="6823" h="4366">
                <a:moveTo>
                  <a:pt x="2282" y="4192"/>
                </a:moveTo>
                <a:cubicBezTo>
                  <a:pt x="2244" y="4295"/>
                  <a:pt x="2212" y="4354"/>
                  <a:pt x="2208" y="4465"/>
                </a:cubicBezTo>
                <a:cubicBezTo>
                  <a:pt x="2204" y="4573"/>
                  <a:pt x="2201" y="4705"/>
                  <a:pt x="2183" y="4812"/>
                </a:cubicBezTo>
                <a:cubicBezTo>
                  <a:pt x="2172" y="4877"/>
                  <a:pt x="2085" y="5088"/>
                  <a:pt x="2133" y="5135"/>
                </a:cubicBezTo>
                <a:cubicBezTo>
                  <a:pt x="2141" y="5118"/>
                  <a:pt x="2150" y="5102"/>
                  <a:pt x="2158" y="5085"/>
                </a:cubicBezTo>
              </a:path>
              <a:path w="6823" h="4366">
                <a:moveTo>
                  <a:pt x="2604" y="4366"/>
                </a:moveTo>
                <a:cubicBezTo>
                  <a:pt x="2604" y="4458"/>
                  <a:pt x="2583" y="4524"/>
                  <a:pt x="2555" y="4614"/>
                </a:cubicBezTo>
                <a:cubicBezTo>
                  <a:pt x="2520" y="4727"/>
                  <a:pt x="2493" y="4845"/>
                  <a:pt x="2480" y="4961"/>
                </a:cubicBezTo>
                <a:cubicBezTo>
                  <a:pt x="2466" y="5088"/>
                  <a:pt x="2542" y="5200"/>
                  <a:pt x="2679" y="5135"/>
                </a:cubicBezTo>
                <a:cubicBezTo>
                  <a:pt x="2751" y="5101"/>
                  <a:pt x="2817" y="4973"/>
                  <a:pt x="2853" y="4911"/>
                </a:cubicBezTo>
                <a:cubicBezTo>
                  <a:pt x="2904" y="4824"/>
                  <a:pt x="2902" y="4734"/>
                  <a:pt x="2902" y="4638"/>
                </a:cubicBezTo>
                <a:cubicBezTo>
                  <a:pt x="2902" y="4522"/>
                  <a:pt x="2904" y="4536"/>
                  <a:pt x="2828" y="4465"/>
                </a:cubicBezTo>
                <a:cubicBezTo>
                  <a:pt x="2765" y="4406"/>
                  <a:pt x="2780" y="4401"/>
                  <a:pt x="2704" y="4390"/>
                </a:cubicBezTo>
              </a:path>
              <a:path w="6823" h="4366">
                <a:moveTo>
                  <a:pt x="3249" y="5135"/>
                </a:moveTo>
                <a:cubicBezTo>
                  <a:pt x="3249" y="5127"/>
                  <a:pt x="3249" y="5118"/>
                  <a:pt x="3249" y="5110"/>
                </a:cubicBezTo>
              </a:path>
              <a:path w="6823" h="4366">
                <a:moveTo>
                  <a:pt x="3795" y="4266"/>
                </a:moveTo>
                <a:cubicBezTo>
                  <a:pt x="3974" y="4266"/>
                  <a:pt x="4416" y="4331"/>
                  <a:pt x="4539" y="4242"/>
                </a:cubicBezTo>
              </a:path>
              <a:path w="6823" h="4366">
                <a:moveTo>
                  <a:pt x="4018" y="4316"/>
                </a:moveTo>
                <a:cubicBezTo>
                  <a:pt x="3974" y="4450"/>
                  <a:pt x="3954" y="4581"/>
                  <a:pt x="3919" y="4713"/>
                </a:cubicBezTo>
                <a:cubicBezTo>
                  <a:pt x="3899" y="4790"/>
                  <a:pt x="3894" y="4854"/>
                  <a:pt x="3894" y="4936"/>
                </a:cubicBezTo>
                <a:cubicBezTo>
                  <a:pt x="3894" y="5011"/>
                  <a:pt x="3914" y="5013"/>
                  <a:pt x="3994" y="4911"/>
                </a:cubicBezTo>
              </a:path>
              <a:path w="6823" h="4366">
                <a:moveTo>
                  <a:pt x="4242" y="4366"/>
                </a:moveTo>
                <a:cubicBezTo>
                  <a:pt x="4220" y="4505"/>
                  <a:pt x="4157" y="4752"/>
                  <a:pt x="4192" y="4911"/>
                </a:cubicBezTo>
                <a:cubicBezTo>
                  <a:pt x="4205" y="4972"/>
                  <a:pt x="4223" y="5037"/>
                  <a:pt x="4266" y="5085"/>
                </a:cubicBezTo>
                <a:cubicBezTo>
                  <a:pt x="4306" y="5130"/>
                  <a:pt x="4307" y="5127"/>
                  <a:pt x="4366" y="5135"/>
                </a:cubicBezTo>
              </a:path>
              <a:path w="6823" h="4366">
                <a:moveTo>
                  <a:pt x="3696" y="5159"/>
                </a:moveTo>
                <a:cubicBezTo>
                  <a:pt x="3842" y="5200"/>
                  <a:pt x="4047" y="5209"/>
                  <a:pt x="4217" y="5184"/>
                </a:cubicBezTo>
                <a:cubicBezTo>
                  <a:pt x="4328" y="5168"/>
                  <a:pt x="4427" y="5143"/>
                  <a:pt x="4539" y="5135"/>
                </a:cubicBezTo>
              </a:path>
              <a:path w="6823" h="4366">
                <a:moveTo>
                  <a:pt x="3870" y="5432"/>
                </a:moveTo>
                <a:cubicBezTo>
                  <a:pt x="3870" y="5597"/>
                  <a:pt x="3863" y="5745"/>
                  <a:pt x="3845" y="5904"/>
                </a:cubicBezTo>
                <a:cubicBezTo>
                  <a:pt x="3835" y="5992"/>
                  <a:pt x="3845" y="6087"/>
                  <a:pt x="3845" y="6176"/>
                </a:cubicBezTo>
              </a:path>
              <a:path w="6823" h="4366">
                <a:moveTo>
                  <a:pt x="4490" y="5606"/>
                </a:moveTo>
                <a:cubicBezTo>
                  <a:pt x="4400" y="5625"/>
                  <a:pt x="4296" y="5629"/>
                  <a:pt x="4217" y="5680"/>
                </a:cubicBezTo>
                <a:cubicBezTo>
                  <a:pt x="4134" y="5734"/>
                  <a:pt x="4108" y="5751"/>
                  <a:pt x="4142" y="5854"/>
                </a:cubicBezTo>
                <a:cubicBezTo>
                  <a:pt x="4174" y="5951"/>
                  <a:pt x="4238" y="6022"/>
                  <a:pt x="4291" y="6102"/>
                </a:cubicBezTo>
                <a:cubicBezTo>
                  <a:pt x="4315" y="6150"/>
                  <a:pt x="4323" y="6164"/>
                  <a:pt x="4316" y="6201"/>
                </a:cubicBezTo>
                <a:cubicBezTo>
                  <a:pt x="4219" y="6219"/>
                  <a:pt x="4197" y="6215"/>
                  <a:pt x="4118" y="6152"/>
                </a:cubicBezTo>
                <a:cubicBezTo>
                  <a:pt x="4158" y="6069"/>
                  <a:pt x="4200" y="6018"/>
                  <a:pt x="4266" y="5953"/>
                </a:cubicBezTo>
                <a:cubicBezTo>
                  <a:pt x="4377" y="5842"/>
                  <a:pt x="4502" y="5758"/>
                  <a:pt x="4638" y="5680"/>
                </a:cubicBezTo>
                <a:cubicBezTo>
                  <a:pt x="4655" y="5672"/>
                  <a:pt x="4671" y="5663"/>
                  <a:pt x="4688" y="5655"/>
                </a:cubicBezTo>
              </a:path>
              <a:path w="6823" h="4366">
                <a:moveTo>
                  <a:pt x="4738" y="5680"/>
                </a:moveTo>
                <a:cubicBezTo>
                  <a:pt x="4682" y="5777"/>
                  <a:pt x="4633" y="5851"/>
                  <a:pt x="4589" y="5953"/>
                </a:cubicBezTo>
                <a:cubicBezTo>
                  <a:pt x="4552" y="6039"/>
                  <a:pt x="4549" y="6120"/>
                  <a:pt x="4663" y="6152"/>
                </a:cubicBezTo>
                <a:cubicBezTo>
                  <a:pt x="4760" y="6179"/>
                  <a:pt x="4861" y="6131"/>
                  <a:pt x="4936" y="6077"/>
                </a:cubicBezTo>
                <a:cubicBezTo>
                  <a:pt x="4974" y="6050"/>
                  <a:pt x="5027" y="5950"/>
                  <a:pt x="5035" y="5904"/>
                </a:cubicBezTo>
                <a:cubicBezTo>
                  <a:pt x="5045" y="5843"/>
                  <a:pt x="5014" y="5711"/>
                  <a:pt x="4986" y="5655"/>
                </a:cubicBezTo>
                <a:cubicBezTo>
                  <a:pt x="4960" y="5603"/>
                  <a:pt x="4943" y="5569"/>
                  <a:pt x="4936" y="5507"/>
                </a:cubicBezTo>
              </a:path>
              <a:path w="6823" h="4366">
                <a:moveTo>
                  <a:pt x="5407" y="5035"/>
                </a:moveTo>
                <a:cubicBezTo>
                  <a:pt x="5555" y="5011"/>
                  <a:pt x="5680" y="4986"/>
                  <a:pt x="5829" y="4986"/>
                </a:cubicBezTo>
              </a:path>
              <a:path w="6823" h="4366">
                <a:moveTo>
                  <a:pt x="5581" y="5184"/>
                </a:moveTo>
                <a:cubicBezTo>
                  <a:pt x="5708" y="5240"/>
                  <a:pt x="5789" y="5259"/>
                  <a:pt x="5928" y="5259"/>
                </a:cubicBezTo>
              </a:path>
              <a:path w="6823" h="4366">
                <a:moveTo>
                  <a:pt x="1389" y="5085"/>
                </a:moveTo>
                <a:cubicBezTo>
                  <a:pt x="1440" y="5022"/>
                  <a:pt x="1476" y="5009"/>
                  <a:pt x="1538" y="4961"/>
                </a:cubicBezTo>
                <a:cubicBezTo>
                  <a:pt x="1623" y="4894"/>
                  <a:pt x="1712" y="4857"/>
                  <a:pt x="1811" y="4812"/>
                </a:cubicBezTo>
                <a:cubicBezTo>
                  <a:pt x="1974" y="4739"/>
                  <a:pt x="2146" y="4710"/>
                  <a:pt x="2307" y="4638"/>
                </a:cubicBezTo>
                <a:cubicBezTo>
                  <a:pt x="2447" y="4575"/>
                  <a:pt x="2560" y="4548"/>
                  <a:pt x="2704" y="4514"/>
                </a:cubicBezTo>
                <a:cubicBezTo>
                  <a:pt x="2809" y="4489"/>
                  <a:pt x="2847" y="4522"/>
                  <a:pt x="2753" y="4465"/>
                </a:cubicBezTo>
              </a:path>
              <a:path w="6823" h="4366">
                <a:moveTo>
                  <a:pt x="2208" y="3076"/>
                </a:moveTo>
                <a:cubicBezTo>
                  <a:pt x="2241" y="3133"/>
                  <a:pt x="2222" y="3162"/>
                  <a:pt x="2208" y="3225"/>
                </a:cubicBezTo>
                <a:cubicBezTo>
                  <a:pt x="2193" y="3290"/>
                  <a:pt x="2186" y="3393"/>
                  <a:pt x="2158" y="3448"/>
                </a:cubicBezTo>
                <a:cubicBezTo>
                  <a:pt x="2133" y="3473"/>
                  <a:pt x="2125" y="3481"/>
                  <a:pt x="2158" y="3497"/>
                </a:cubicBezTo>
                <a:cubicBezTo>
                  <a:pt x="2223" y="3461"/>
                  <a:pt x="2283" y="3432"/>
                  <a:pt x="2356" y="3423"/>
                </a:cubicBezTo>
                <a:cubicBezTo>
                  <a:pt x="2437" y="3413"/>
                  <a:pt x="2532" y="3416"/>
                  <a:pt x="2604" y="3373"/>
                </a:cubicBezTo>
                <a:cubicBezTo>
                  <a:pt x="2638" y="3341"/>
                  <a:pt x="2655" y="3324"/>
                  <a:pt x="2679" y="3299"/>
                </a:cubicBezTo>
              </a:path>
              <a:path w="6823" h="4366">
                <a:moveTo>
                  <a:pt x="2555" y="2828"/>
                </a:moveTo>
                <a:cubicBezTo>
                  <a:pt x="2536" y="2981"/>
                  <a:pt x="2530" y="3120"/>
                  <a:pt x="2530" y="3274"/>
                </a:cubicBezTo>
                <a:cubicBezTo>
                  <a:pt x="2530" y="3404"/>
                  <a:pt x="2534" y="3524"/>
                  <a:pt x="2555" y="3646"/>
                </a:cubicBezTo>
                <a:cubicBezTo>
                  <a:pt x="2555" y="3705"/>
                  <a:pt x="2558" y="3731"/>
                  <a:pt x="2580" y="3770"/>
                </a:cubicBezTo>
              </a:path>
              <a:path w="6823" h="4366">
                <a:moveTo>
                  <a:pt x="3621" y="6276"/>
                </a:moveTo>
                <a:cubicBezTo>
                  <a:pt x="3720" y="6214"/>
                  <a:pt x="3837" y="6179"/>
                  <a:pt x="3944" y="6127"/>
                </a:cubicBezTo>
                <a:cubicBezTo>
                  <a:pt x="4105" y="6049"/>
                  <a:pt x="4269" y="5999"/>
                  <a:pt x="4440" y="5953"/>
                </a:cubicBezTo>
                <a:cubicBezTo>
                  <a:pt x="4614" y="5906"/>
                  <a:pt x="4788" y="5855"/>
                  <a:pt x="4961" y="5804"/>
                </a:cubicBezTo>
                <a:cubicBezTo>
                  <a:pt x="4981" y="5798"/>
                  <a:pt x="5234" y="5725"/>
                  <a:pt x="5135" y="5680"/>
                </a:cubicBezTo>
                <a:cubicBezTo>
                  <a:pt x="5085" y="5680"/>
                  <a:pt x="5068" y="5680"/>
                  <a:pt x="5035" y="5680"/>
                </a:cubicBezTo>
              </a:path>
              <a:path w="6823" h="4366">
                <a:moveTo>
                  <a:pt x="4266" y="6573"/>
                </a:moveTo>
                <a:cubicBezTo>
                  <a:pt x="4333" y="6563"/>
                  <a:pt x="4398" y="6528"/>
                  <a:pt x="4465" y="6499"/>
                </a:cubicBezTo>
                <a:cubicBezTo>
                  <a:pt x="4523" y="6474"/>
                  <a:pt x="4551" y="6474"/>
                  <a:pt x="4614" y="6474"/>
                </a:cubicBezTo>
                <a:cubicBezTo>
                  <a:pt x="4614" y="6575"/>
                  <a:pt x="4611" y="6585"/>
                  <a:pt x="4539" y="6648"/>
                </a:cubicBezTo>
                <a:cubicBezTo>
                  <a:pt x="4467" y="6711"/>
                  <a:pt x="4407" y="6739"/>
                  <a:pt x="4316" y="6772"/>
                </a:cubicBezTo>
                <a:cubicBezTo>
                  <a:pt x="4427" y="6811"/>
                  <a:pt x="4514" y="6814"/>
                  <a:pt x="4589" y="6896"/>
                </a:cubicBezTo>
                <a:cubicBezTo>
                  <a:pt x="4646" y="6959"/>
                  <a:pt x="4683" y="6948"/>
                  <a:pt x="4688" y="7045"/>
                </a:cubicBezTo>
                <a:cubicBezTo>
                  <a:pt x="4692" y="7108"/>
                  <a:pt x="4645" y="7144"/>
                  <a:pt x="4589" y="7169"/>
                </a:cubicBezTo>
                <a:cubicBezTo>
                  <a:pt x="4492" y="7212"/>
                  <a:pt x="4388" y="7198"/>
                  <a:pt x="4291" y="7169"/>
                </a:cubicBezTo>
                <a:cubicBezTo>
                  <a:pt x="4221" y="7148"/>
                  <a:pt x="4206" y="7152"/>
                  <a:pt x="4192" y="7094"/>
                </a:cubicBezTo>
              </a:path>
              <a:path w="6823" h="4366">
                <a:moveTo>
                  <a:pt x="6846" y="4018"/>
                </a:moveTo>
                <a:cubicBezTo>
                  <a:pt x="6808" y="4172"/>
                  <a:pt x="6779" y="4239"/>
                  <a:pt x="6672" y="4366"/>
                </a:cubicBezTo>
                <a:cubicBezTo>
                  <a:pt x="6643" y="4395"/>
                  <a:pt x="6632" y="4410"/>
                  <a:pt x="6623" y="4440"/>
                </a:cubicBezTo>
                <a:cubicBezTo>
                  <a:pt x="6727" y="4427"/>
                  <a:pt x="6760" y="4428"/>
                  <a:pt x="6871" y="4440"/>
                </a:cubicBezTo>
                <a:cubicBezTo>
                  <a:pt x="6951" y="4448"/>
                  <a:pt x="7022" y="4442"/>
                  <a:pt x="7094" y="4415"/>
                </a:cubicBezTo>
              </a:path>
              <a:path w="6823" h="4366">
                <a:moveTo>
                  <a:pt x="7094" y="3894"/>
                </a:moveTo>
                <a:cubicBezTo>
                  <a:pt x="7070" y="4059"/>
                  <a:pt x="7045" y="4200"/>
                  <a:pt x="7045" y="4366"/>
                </a:cubicBezTo>
                <a:cubicBezTo>
                  <a:pt x="7045" y="4483"/>
                  <a:pt x="7021" y="4599"/>
                  <a:pt x="6995" y="4713"/>
                </a:cubicBezTo>
                <a:cubicBezTo>
                  <a:pt x="6977" y="4792"/>
                  <a:pt x="6895" y="4967"/>
                  <a:pt x="6970" y="4936"/>
                </a:cubicBezTo>
                <a:cubicBezTo>
                  <a:pt x="6995" y="4887"/>
                  <a:pt x="7004" y="4870"/>
                  <a:pt x="7020" y="4837"/>
                </a:cubicBezTo>
              </a:path>
              <a:path w="6823" h="4366">
                <a:moveTo>
                  <a:pt x="7441" y="4118"/>
                </a:moveTo>
                <a:cubicBezTo>
                  <a:pt x="7571" y="4102"/>
                  <a:pt x="7713" y="4083"/>
                  <a:pt x="7838" y="4068"/>
                </a:cubicBezTo>
                <a:cubicBezTo>
                  <a:pt x="7873" y="4064"/>
                  <a:pt x="8043" y="4094"/>
                  <a:pt x="8062" y="4043"/>
                </a:cubicBezTo>
                <a:cubicBezTo>
                  <a:pt x="8054" y="4035"/>
                  <a:pt x="8045" y="4026"/>
                  <a:pt x="8037" y="4018"/>
                </a:cubicBezTo>
              </a:path>
              <a:path w="6823" h="4366">
                <a:moveTo>
                  <a:pt x="7615" y="4068"/>
                </a:moveTo>
                <a:cubicBezTo>
                  <a:pt x="7584" y="4259"/>
                  <a:pt x="7565" y="4403"/>
                  <a:pt x="7565" y="4589"/>
                </a:cubicBezTo>
                <a:cubicBezTo>
                  <a:pt x="7565" y="4653"/>
                  <a:pt x="7549" y="4735"/>
                  <a:pt x="7590" y="4762"/>
                </a:cubicBezTo>
              </a:path>
              <a:path w="6823" h="4366">
                <a:moveTo>
                  <a:pt x="7813" y="4167"/>
                </a:moveTo>
                <a:cubicBezTo>
                  <a:pt x="7813" y="4310"/>
                  <a:pt x="7793" y="4447"/>
                  <a:pt x="7789" y="4589"/>
                </a:cubicBezTo>
                <a:cubicBezTo>
                  <a:pt x="7787" y="4651"/>
                  <a:pt x="7800" y="4759"/>
                  <a:pt x="7838" y="4812"/>
                </a:cubicBezTo>
                <a:cubicBezTo>
                  <a:pt x="7877" y="4866"/>
                  <a:pt x="7940" y="4889"/>
                  <a:pt x="7987" y="4936"/>
                </a:cubicBezTo>
              </a:path>
              <a:path w="6823" h="4366">
                <a:moveTo>
                  <a:pt x="6722" y="5035"/>
                </a:moveTo>
                <a:cubicBezTo>
                  <a:pt x="6831" y="5076"/>
                  <a:pt x="6953" y="5051"/>
                  <a:pt x="7069" y="5035"/>
                </a:cubicBezTo>
                <a:cubicBezTo>
                  <a:pt x="7257" y="5009"/>
                  <a:pt x="7450" y="4991"/>
                  <a:pt x="7640" y="4986"/>
                </a:cubicBezTo>
                <a:cubicBezTo>
                  <a:pt x="7741" y="4983"/>
                  <a:pt x="7879" y="5012"/>
                  <a:pt x="7962" y="4961"/>
                </a:cubicBezTo>
                <a:cubicBezTo>
                  <a:pt x="7928" y="4925"/>
                  <a:pt x="7906" y="4922"/>
                  <a:pt x="7863" y="4961"/>
                </a:cubicBezTo>
              </a:path>
              <a:path w="6823" h="4366">
                <a:moveTo>
                  <a:pt x="7020" y="5308"/>
                </a:moveTo>
                <a:cubicBezTo>
                  <a:pt x="7066" y="5326"/>
                  <a:pt x="7134" y="5302"/>
                  <a:pt x="7193" y="5283"/>
                </a:cubicBezTo>
                <a:cubicBezTo>
                  <a:pt x="7266" y="5259"/>
                  <a:pt x="7338" y="5238"/>
                  <a:pt x="7417" y="5234"/>
                </a:cubicBezTo>
                <a:cubicBezTo>
                  <a:pt x="7488" y="5230"/>
                  <a:pt x="7526" y="5261"/>
                  <a:pt x="7565" y="5308"/>
                </a:cubicBezTo>
                <a:cubicBezTo>
                  <a:pt x="7524" y="5361"/>
                  <a:pt x="7489" y="5408"/>
                  <a:pt x="7441" y="5457"/>
                </a:cubicBezTo>
                <a:cubicBezTo>
                  <a:pt x="7385" y="5514"/>
                  <a:pt x="7306" y="5543"/>
                  <a:pt x="7243" y="5606"/>
                </a:cubicBezTo>
                <a:cubicBezTo>
                  <a:pt x="7304" y="5583"/>
                  <a:pt x="7399" y="5560"/>
                  <a:pt x="7466" y="5581"/>
                </a:cubicBezTo>
                <a:cubicBezTo>
                  <a:pt x="7519" y="5598"/>
                  <a:pt x="7597" y="5679"/>
                  <a:pt x="7615" y="5730"/>
                </a:cubicBezTo>
                <a:cubicBezTo>
                  <a:pt x="7638" y="5795"/>
                  <a:pt x="7561" y="5916"/>
                  <a:pt x="7516" y="5953"/>
                </a:cubicBezTo>
                <a:cubicBezTo>
                  <a:pt x="7458" y="6001"/>
                  <a:pt x="7415" y="6003"/>
                  <a:pt x="7342" y="6003"/>
                </a:cubicBezTo>
                <a:cubicBezTo>
                  <a:pt x="7238" y="6003"/>
                  <a:pt x="7134" y="5995"/>
                  <a:pt x="7045" y="5978"/>
                </a:cubicBezTo>
                <a:cubicBezTo>
                  <a:pt x="6986" y="5967"/>
                  <a:pt x="6921" y="5966"/>
                  <a:pt x="6896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Ink 5"/>
          <p:cNvSpPr/>
          <p:nvPr/>
        </p:nvSpPr>
        <p:spPr>
          <a:xfrm>
            <a:off x="490680" y="2857680"/>
            <a:ext cx="528480" cy="304560"/>
          </a:xfrm>
          <a:custGeom>
            <a:avLst/>
            <a:gdLst/>
            <a:ahLst/>
            <a:rect l="l" t="t" r="r" b="b"/>
            <a:pathLst>
              <a:path w="1465" h="844">
                <a:moveTo>
                  <a:pt x="1563" y="8086"/>
                </a:moveTo>
                <a:cubicBezTo>
                  <a:pt x="1544" y="8136"/>
                  <a:pt x="1541" y="8167"/>
                  <a:pt x="1513" y="8186"/>
                </a:cubicBezTo>
                <a:cubicBezTo>
                  <a:pt x="1538" y="8118"/>
                  <a:pt x="1545" y="8050"/>
                  <a:pt x="1588" y="7987"/>
                </a:cubicBezTo>
                <a:cubicBezTo>
                  <a:pt x="1650" y="7895"/>
                  <a:pt x="1725" y="7963"/>
                  <a:pt x="1761" y="8037"/>
                </a:cubicBezTo>
                <a:cubicBezTo>
                  <a:pt x="1810" y="8140"/>
                  <a:pt x="1785" y="8254"/>
                  <a:pt x="1761" y="8359"/>
                </a:cubicBezTo>
                <a:cubicBezTo>
                  <a:pt x="1733" y="8480"/>
                  <a:pt x="1715" y="8605"/>
                  <a:pt x="1637" y="8706"/>
                </a:cubicBezTo>
                <a:cubicBezTo>
                  <a:pt x="1587" y="8771"/>
                  <a:pt x="1497" y="8807"/>
                  <a:pt x="1414" y="8781"/>
                </a:cubicBezTo>
                <a:cubicBezTo>
                  <a:pt x="1359" y="8764"/>
                  <a:pt x="1352" y="8650"/>
                  <a:pt x="1364" y="8607"/>
                </a:cubicBezTo>
                <a:cubicBezTo>
                  <a:pt x="1385" y="8533"/>
                  <a:pt x="1416" y="8436"/>
                  <a:pt x="1513" y="8458"/>
                </a:cubicBezTo>
                <a:cubicBezTo>
                  <a:pt x="1562" y="8469"/>
                  <a:pt x="1637" y="8551"/>
                  <a:pt x="1662" y="8582"/>
                </a:cubicBezTo>
                <a:cubicBezTo>
                  <a:pt x="1704" y="8635"/>
                  <a:pt x="1715" y="8705"/>
                  <a:pt x="1761" y="8756"/>
                </a:cubicBezTo>
                <a:cubicBezTo>
                  <a:pt x="1796" y="8791"/>
                  <a:pt x="1809" y="8786"/>
                  <a:pt x="1811" y="8706"/>
                </a:cubicBezTo>
              </a:path>
              <a:path w="1465" h="844">
                <a:moveTo>
                  <a:pt x="2108" y="8062"/>
                </a:moveTo>
                <a:cubicBezTo>
                  <a:pt x="2191" y="8062"/>
                  <a:pt x="2327" y="8074"/>
                  <a:pt x="2406" y="8037"/>
                </a:cubicBezTo>
                <a:cubicBezTo>
                  <a:pt x="2414" y="8029"/>
                  <a:pt x="2423" y="8020"/>
                  <a:pt x="2431" y="8012"/>
                </a:cubicBezTo>
              </a:path>
              <a:path w="1465" h="844">
                <a:moveTo>
                  <a:pt x="2009" y="8186"/>
                </a:moveTo>
                <a:cubicBezTo>
                  <a:pt x="1990" y="8296"/>
                  <a:pt x="1955" y="8319"/>
                  <a:pt x="2009" y="8359"/>
                </a:cubicBezTo>
                <a:cubicBezTo>
                  <a:pt x="2078" y="8349"/>
                  <a:pt x="2113" y="8307"/>
                  <a:pt x="2183" y="8285"/>
                </a:cubicBezTo>
                <a:cubicBezTo>
                  <a:pt x="2281" y="8253"/>
                  <a:pt x="2309" y="8268"/>
                  <a:pt x="2381" y="8334"/>
                </a:cubicBezTo>
                <a:cubicBezTo>
                  <a:pt x="2458" y="8405"/>
                  <a:pt x="2501" y="8447"/>
                  <a:pt x="2480" y="8558"/>
                </a:cubicBezTo>
                <a:cubicBezTo>
                  <a:pt x="2465" y="8640"/>
                  <a:pt x="2367" y="8736"/>
                  <a:pt x="2282" y="8756"/>
                </a:cubicBezTo>
                <a:cubicBezTo>
                  <a:pt x="2224" y="8770"/>
                  <a:pt x="2144" y="8756"/>
                  <a:pt x="2084" y="8756"/>
                </a:cubicBezTo>
              </a:path>
              <a:path w="1465" h="844">
                <a:moveTo>
                  <a:pt x="2828" y="8756"/>
                </a:moveTo>
                <a:cubicBezTo>
                  <a:pt x="2798" y="8786"/>
                  <a:pt x="2793" y="8788"/>
                  <a:pt x="2828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Ink 6"/>
          <p:cNvSpPr/>
          <p:nvPr/>
        </p:nvSpPr>
        <p:spPr>
          <a:xfrm>
            <a:off x="1241280" y="2884320"/>
            <a:ext cx="258840" cy="277920"/>
          </a:xfrm>
          <a:custGeom>
            <a:avLst/>
            <a:gdLst/>
            <a:ahLst/>
            <a:rect l="l" t="t" r="r" b="b"/>
            <a:pathLst>
              <a:path w="720" h="770">
                <a:moveTo>
                  <a:pt x="3448" y="8037"/>
                </a:moveTo>
                <a:cubicBezTo>
                  <a:pt x="3585" y="8017"/>
                  <a:pt x="3707" y="8012"/>
                  <a:pt x="3845" y="8012"/>
                </a:cubicBezTo>
                <a:cubicBezTo>
                  <a:pt x="3952" y="8012"/>
                  <a:pt x="4060" y="8012"/>
                  <a:pt x="4167" y="8012"/>
                </a:cubicBezTo>
              </a:path>
              <a:path w="720" h="770">
                <a:moveTo>
                  <a:pt x="3671" y="8161"/>
                </a:moveTo>
                <a:cubicBezTo>
                  <a:pt x="3637" y="8312"/>
                  <a:pt x="3603" y="8453"/>
                  <a:pt x="3597" y="8607"/>
                </a:cubicBezTo>
                <a:cubicBezTo>
                  <a:pt x="3594" y="8674"/>
                  <a:pt x="3571" y="8748"/>
                  <a:pt x="3621" y="8731"/>
                </a:cubicBezTo>
              </a:path>
              <a:path w="720" h="770">
                <a:moveTo>
                  <a:pt x="3919" y="8037"/>
                </a:moveTo>
                <a:cubicBezTo>
                  <a:pt x="3912" y="8167"/>
                  <a:pt x="3894" y="8278"/>
                  <a:pt x="3894" y="8409"/>
                </a:cubicBezTo>
                <a:cubicBezTo>
                  <a:pt x="3894" y="8507"/>
                  <a:pt x="3926" y="8572"/>
                  <a:pt x="3969" y="8657"/>
                </a:cubicBezTo>
                <a:cubicBezTo>
                  <a:pt x="3991" y="8700"/>
                  <a:pt x="4009" y="8735"/>
                  <a:pt x="4018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Ink 7"/>
          <p:cNvSpPr/>
          <p:nvPr/>
        </p:nvSpPr>
        <p:spPr>
          <a:xfrm>
            <a:off x="401760" y="3821040"/>
            <a:ext cx="2313000" cy="1573200"/>
          </a:xfrm>
          <a:custGeom>
            <a:avLst/>
            <a:gdLst/>
            <a:ahLst/>
            <a:rect l="l" t="t" r="r" b="b"/>
            <a:pathLst>
              <a:path w="6426" h="4367">
                <a:moveTo>
                  <a:pt x="1389" y="11633"/>
                </a:moveTo>
                <a:cubicBezTo>
                  <a:pt x="1389" y="11584"/>
                  <a:pt x="1488" y="11601"/>
                  <a:pt x="1563" y="11633"/>
                </a:cubicBezTo>
                <a:cubicBezTo>
                  <a:pt x="1587" y="11643"/>
                  <a:pt x="1714" y="11723"/>
                  <a:pt x="1712" y="11757"/>
                </a:cubicBezTo>
                <a:cubicBezTo>
                  <a:pt x="1706" y="11880"/>
                  <a:pt x="1578" y="11939"/>
                  <a:pt x="1488" y="11956"/>
                </a:cubicBezTo>
                <a:cubicBezTo>
                  <a:pt x="1443" y="11965"/>
                  <a:pt x="1385" y="11956"/>
                  <a:pt x="1339" y="11956"/>
                </a:cubicBezTo>
                <a:cubicBezTo>
                  <a:pt x="1397" y="11991"/>
                  <a:pt x="1449" y="12044"/>
                  <a:pt x="1513" y="12080"/>
                </a:cubicBezTo>
                <a:cubicBezTo>
                  <a:pt x="1597" y="12127"/>
                  <a:pt x="1677" y="12145"/>
                  <a:pt x="1687" y="12254"/>
                </a:cubicBezTo>
                <a:cubicBezTo>
                  <a:pt x="1699" y="12386"/>
                  <a:pt x="1632" y="12352"/>
                  <a:pt x="1538" y="12378"/>
                </a:cubicBezTo>
                <a:cubicBezTo>
                  <a:pt x="1454" y="12401"/>
                  <a:pt x="1380" y="12402"/>
                  <a:pt x="1290" y="12402"/>
                </a:cubicBezTo>
                <a:cubicBezTo>
                  <a:pt x="1213" y="12402"/>
                  <a:pt x="1206" y="12415"/>
                  <a:pt x="1191" y="12353"/>
                </a:cubicBezTo>
              </a:path>
              <a:path w="6426" h="4367">
                <a:moveTo>
                  <a:pt x="1960" y="11857"/>
                </a:moveTo>
                <a:cubicBezTo>
                  <a:pt x="2054" y="11762"/>
                  <a:pt x="2062" y="11761"/>
                  <a:pt x="2158" y="11857"/>
                </a:cubicBezTo>
                <a:cubicBezTo>
                  <a:pt x="2235" y="11934"/>
                  <a:pt x="2334" y="12015"/>
                  <a:pt x="2257" y="12129"/>
                </a:cubicBezTo>
                <a:cubicBezTo>
                  <a:pt x="2224" y="12178"/>
                  <a:pt x="2111" y="12244"/>
                  <a:pt x="2059" y="12254"/>
                </a:cubicBezTo>
                <a:cubicBezTo>
                  <a:pt x="1998" y="12266"/>
                  <a:pt x="1923" y="12254"/>
                  <a:pt x="1860" y="12254"/>
                </a:cubicBezTo>
                <a:cubicBezTo>
                  <a:pt x="1938" y="12331"/>
                  <a:pt x="2024" y="12365"/>
                  <a:pt x="2084" y="12452"/>
                </a:cubicBezTo>
                <a:cubicBezTo>
                  <a:pt x="2138" y="12530"/>
                  <a:pt x="2158" y="12522"/>
                  <a:pt x="2158" y="12601"/>
                </a:cubicBezTo>
                <a:cubicBezTo>
                  <a:pt x="2083" y="12620"/>
                  <a:pt x="2017" y="12607"/>
                  <a:pt x="1935" y="12576"/>
                </a:cubicBezTo>
                <a:cubicBezTo>
                  <a:pt x="1860" y="12547"/>
                  <a:pt x="1748" y="12508"/>
                  <a:pt x="1712" y="12427"/>
                </a:cubicBezTo>
                <a:cubicBezTo>
                  <a:pt x="1712" y="12378"/>
                  <a:pt x="1712" y="12361"/>
                  <a:pt x="1712" y="12328"/>
                </a:cubicBezTo>
              </a:path>
              <a:path w="6426" h="4367">
                <a:moveTo>
                  <a:pt x="2431" y="12179"/>
                </a:moveTo>
                <a:cubicBezTo>
                  <a:pt x="2377" y="12293"/>
                  <a:pt x="2265" y="12442"/>
                  <a:pt x="2356" y="12576"/>
                </a:cubicBezTo>
                <a:cubicBezTo>
                  <a:pt x="2424" y="12677"/>
                  <a:pt x="2491" y="12695"/>
                  <a:pt x="2604" y="12700"/>
                </a:cubicBezTo>
                <a:cubicBezTo>
                  <a:pt x="2691" y="12704"/>
                  <a:pt x="2756" y="12685"/>
                  <a:pt x="2803" y="12601"/>
                </a:cubicBezTo>
                <a:cubicBezTo>
                  <a:pt x="2850" y="12518"/>
                  <a:pt x="2875" y="12396"/>
                  <a:pt x="2853" y="12303"/>
                </a:cubicBezTo>
                <a:cubicBezTo>
                  <a:pt x="2815" y="12141"/>
                  <a:pt x="2716" y="12074"/>
                  <a:pt x="2604" y="11981"/>
                </a:cubicBezTo>
                <a:cubicBezTo>
                  <a:pt x="2582" y="11958"/>
                  <a:pt x="2577" y="11950"/>
                  <a:pt x="2555" y="11956"/>
                </a:cubicBezTo>
              </a:path>
              <a:path w="6426" h="4367">
                <a:moveTo>
                  <a:pt x="3051" y="12626"/>
                </a:moveTo>
                <a:cubicBezTo>
                  <a:pt x="3051" y="12618"/>
                  <a:pt x="3051" y="12609"/>
                  <a:pt x="3051" y="12601"/>
                </a:cubicBezTo>
              </a:path>
              <a:path w="6426" h="4367">
                <a:moveTo>
                  <a:pt x="3597" y="11906"/>
                </a:moveTo>
                <a:cubicBezTo>
                  <a:pt x="3757" y="11919"/>
                  <a:pt x="3913" y="11947"/>
                  <a:pt x="4068" y="11981"/>
                </a:cubicBezTo>
                <a:cubicBezTo>
                  <a:pt x="4133" y="12002"/>
                  <a:pt x="4149" y="12010"/>
                  <a:pt x="4192" y="12005"/>
                </a:cubicBezTo>
              </a:path>
              <a:path w="6426" h="4367">
                <a:moveTo>
                  <a:pt x="3795" y="12080"/>
                </a:moveTo>
                <a:cubicBezTo>
                  <a:pt x="3747" y="12258"/>
                  <a:pt x="3696" y="12398"/>
                  <a:pt x="3696" y="12576"/>
                </a:cubicBezTo>
                <a:cubicBezTo>
                  <a:pt x="3696" y="12636"/>
                  <a:pt x="3699" y="12652"/>
                  <a:pt x="3746" y="12675"/>
                </a:cubicBezTo>
              </a:path>
              <a:path w="6426" h="4367">
                <a:moveTo>
                  <a:pt x="4018" y="11857"/>
                </a:moveTo>
                <a:cubicBezTo>
                  <a:pt x="3991" y="12007"/>
                  <a:pt x="3915" y="12135"/>
                  <a:pt x="3894" y="12278"/>
                </a:cubicBezTo>
                <a:cubicBezTo>
                  <a:pt x="3879" y="12384"/>
                  <a:pt x="3911" y="12548"/>
                  <a:pt x="3944" y="12650"/>
                </a:cubicBezTo>
                <a:cubicBezTo>
                  <a:pt x="3968" y="12698"/>
                  <a:pt x="3976" y="12713"/>
                  <a:pt x="3969" y="12750"/>
                </a:cubicBezTo>
              </a:path>
              <a:path w="6426" h="4367">
                <a:moveTo>
                  <a:pt x="3522" y="12700"/>
                </a:moveTo>
                <a:cubicBezTo>
                  <a:pt x="3676" y="12741"/>
                  <a:pt x="3839" y="12826"/>
                  <a:pt x="3994" y="12849"/>
                </a:cubicBezTo>
                <a:cubicBezTo>
                  <a:pt x="4080" y="12862"/>
                  <a:pt x="4126" y="12843"/>
                  <a:pt x="4192" y="12799"/>
                </a:cubicBezTo>
              </a:path>
              <a:path w="6426" h="4367">
                <a:moveTo>
                  <a:pt x="3870" y="13146"/>
                </a:moveTo>
                <a:cubicBezTo>
                  <a:pt x="3836" y="13262"/>
                  <a:pt x="3785" y="13401"/>
                  <a:pt x="3770" y="13519"/>
                </a:cubicBezTo>
                <a:cubicBezTo>
                  <a:pt x="3764" y="13566"/>
                  <a:pt x="3770" y="13619"/>
                  <a:pt x="3770" y="13667"/>
                </a:cubicBezTo>
              </a:path>
              <a:path w="6426" h="4367">
                <a:moveTo>
                  <a:pt x="4266" y="13122"/>
                </a:moveTo>
                <a:cubicBezTo>
                  <a:pt x="4242" y="13097"/>
                  <a:pt x="4234" y="13088"/>
                  <a:pt x="4217" y="13072"/>
                </a:cubicBezTo>
                <a:cubicBezTo>
                  <a:pt x="4116" y="13158"/>
                  <a:pt x="4153" y="13198"/>
                  <a:pt x="4167" y="13320"/>
                </a:cubicBezTo>
                <a:cubicBezTo>
                  <a:pt x="4181" y="13448"/>
                  <a:pt x="4192" y="13560"/>
                  <a:pt x="4192" y="13692"/>
                </a:cubicBezTo>
                <a:cubicBezTo>
                  <a:pt x="4192" y="13752"/>
                  <a:pt x="4178" y="13771"/>
                  <a:pt x="4142" y="13816"/>
                </a:cubicBezTo>
                <a:cubicBezTo>
                  <a:pt x="4120" y="13782"/>
                  <a:pt x="4065" y="13677"/>
                  <a:pt x="4068" y="13643"/>
                </a:cubicBezTo>
                <a:cubicBezTo>
                  <a:pt x="4074" y="13579"/>
                  <a:pt x="4124" y="13490"/>
                  <a:pt x="4167" y="13444"/>
                </a:cubicBezTo>
                <a:cubicBezTo>
                  <a:pt x="4259" y="13347"/>
                  <a:pt x="4370" y="13299"/>
                  <a:pt x="4490" y="13246"/>
                </a:cubicBezTo>
              </a:path>
              <a:path w="6426" h="4367">
                <a:moveTo>
                  <a:pt x="4514" y="13345"/>
                </a:moveTo>
                <a:cubicBezTo>
                  <a:pt x="4446" y="13462"/>
                  <a:pt x="4385" y="13515"/>
                  <a:pt x="4440" y="13643"/>
                </a:cubicBezTo>
                <a:cubicBezTo>
                  <a:pt x="4459" y="13686"/>
                  <a:pt x="4518" y="13776"/>
                  <a:pt x="4564" y="13791"/>
                </a:cubicBezTo>
                <a:cubicBezTo>
                  <a:pt x="4631" y="13813"/>
                  <a:pt x="4706" y="13741"/>
                  <a:pt x="4738" y="13692"/>
                </a:cubicBezTo>
                <a:cubicBezTo>
                  <a:pt x="4806" y="13589"/>
                  <a:pt x="4771" y="13449"/>
                  <a:pt x="4738" y="13345"/>
                </a:cubicBezTo>
                <a:cubicBezTo>
                  <a:pt x="4704" y="13239"/>
                  <a:pt x="4642" y="13144"/>
                  <a:pt x="4589" y="13047"/>
                </a:cubicBezTo>
              </a:path>
              <a:path w="6426" h="4367">
                <a:moveTo>
                  <a:pt x="5035" y="12526"/>
                </a:moveTo>
                <a:cubicBezTo>
                  <a:pt x="5115" y="12509"/>
                  <a:pt x="5224" y="12481"/>
                  <a:pt x="5308" y="12502"/>
                </a:cubicBezTo>
                <a:cubicBezTo>
                  <a:pt x="5325" y="12510"/>
                  <a:pt x="5341" y="12518"/>
                  <a:pt x="5358" y="12526"/>
                </a:cubicBezTo>
              </a:path>
              <a:path w="6426" h="4367">
                <a:moveTo>
                  <a:pt x="5159" y="12824"/>
                </a:moveTo>
                <a:cubicBezTo>
                  <a:pt x="5311" y="12899"/>
                  <a:pt x="5298" y="12923"/>
                  <a:pt x="5432" y="12898"/>
                </a:cubicBezTo>
              </a:path>
              <a:path w="6426" h="4367">
                <a:moveTo>
                  <a:pt x="1116" y="12477"/>
                </a:moveTo>
                <a:cubicBezTo>
                  <a:pt x="1354" y="12429"/>
                  <a:pt x="1636" y="12345"/>
                  <a:pt x="1885" y="12328"/>
                </a:cubicBezTo>
                <a:cubicBezTo>
                  <a:pt x="2076" y="12315"/>
                  <a:pt x="2265" y="12290"/>
                  <a:pt x="2456" y="12278"/>
                </a:cubicBezTo>
                <a:cubicBezTo>
                  <a:pt x="2594" y="12269"/>
                  <a:pt x="2743" y="12288"/>
                  <a:pt x="2877" y="12254"/>
                </a:cubicBezTo>
                <a:cubicBezTo>
                  <a:pt x="2992" y="12225"/>
                  <a:pt x="3061" y="12251"/>
                  <a:pt x="2952" y="12154"/>
                </a:cubicBezTo>
              </a:path>
              <a:path w="6426" h="4367">
                <a:moveTo>
                  <a:pt x="1786" y="10616"/>
                </a:moveTo>
                <a:cubicBezTo>
                  <a:pt x="1786" y="10779"/>
                  <a:pt x="1788" y="10952"/>
                  <a:pt x="1761" y="11112"/>
                </a:cubicBezTo>
                <a:cubicBezTo>
                  <a:pt x="1746" y="11202"/>
                  <a:pt x="1712" y="11267"/>
                  <a:pt x="1712" y="11361"/>
                </a:cubicBezTo>
                <a:cubicBezTo>
                  <a:pt x="1712" y="11369"/>
                  <a:pt x="1712" y="11377"/>
                  <a:pt x="1712" y="11385"/>
                </a:cubicBezTo>
              </a:path>
              <a:path w="6426" h="4367">
                <a:moveTo>
                  <a:pt x="1910" y="10666"/>
                </a:moveTo>
                <a:cubicBezTo>
                  <a:pt x="1917" y="10779"/>
                  <a:pt x="1932" y="10903"/>
                  <a:pt x="1960" y="11013"/>
                </a:cubicBezTo>
                <a:cubicBezTo>
                  <a:pt x="1987" y="11069"/>
                  <a:pt x="1995" y="11091"/>
                  <a:pt x="1984" y="11137"/>
                </a:cubicBezTo>
              </a:path>
              <a:path w="6426" h="4367">
                <a:moveTo>
                  <a:pt x="3597" y="13618"/>
                </a:moveTo>
                <a:cubicBezTo>
                  <a:pt x="3713" y="13618"/>
                  <a:pt x="3783" y="13598"/>
                  <a:pt x="3894" y="13568"/>
                </a:cubicBezTo>
                <a:cubicBezTo>
                  <a:pt x="4054" y="13525"/>
                  <a:pt x="4202" y="13519"/>
                  <a:pt x="4366" y="13519"/>
                </a:cubicBezTo>
                <a:cubicBezTo>
                  <a:pt x="4539" y="13519"/>
                  <a:pt x="4652" y="13487"/>
                  <a:pt x="4812" y="13469"/>
                </a:cubicBezTo>
                <a:cubicBezTo>
                  <a:pt x="4874" y="13469"/>
                  <a:pt x="4889" y="13479"/>
                  <a:pt x="4911" y="13444"/>
                </a:cubicBezTo>
              </a:path>
              <a:path w="6426" h="4367">
                <a:moveTo>
                  <a:pt x="4366" y="14387"/>
                </a:moveTo>
                <a:cubicBezTo>
                  <a:pt x="4285" y="14493"/>
                  <a:pt x="4088" y="14649"/>
                  <a:pt x="4192" y="14808"/>
                </a:cubicBezTo>
                <a:cubicBezTo>
                  <a:pt x="4240" y="14881"/>
                  <a:pt x="4315" y="14938"/>
                  <a:pt x="4390" y="14957"/>
                </a:cubicBezTo>
                <a:cubicBezTo>
                  <a:pt x="4470" y="14977"/>
                  <a:pt x="4585" y="14980"/>
                  <a:pt x="4663" y="14932"/>
                </a:cubicBezTo>
                <a:cubicBezTo>
                  <a:pt x="4687" y="14917"/>
                  <a:pt x="4772" y="14839"/>
                  <a:pt x="4787" y="14808"/>
                </a:cubicBezTo>
                <a:cubicBezTo>
                  <a:pt x="4822" y="14735"/>
                  <a:pt x="4828" y="14659"/>
                  <a:pt x="4738" y="14635"/>
                </a:cubicBezTo>
                <a:cubicBezTo>
                  <a:pt x="4668" y="14616"/>
                  <a:pt x="4577" y="14645"/>
                  <a:pt x="4539" y="14709"/>
                </a:cubicBezTo>
                <a:cubicBezTo>
                  <a:pt x="4488" y="14795"/>
                  <a:pt x="4485" y="14868"/>
                  <a:pt x="4514" y="14957"/>
                </a:cubicBezTo>
              </a:path>
              <a:path w="6426" h="4367">
                <a:moveTo>
                  <a:pt x="6276" y="12030"/>
                </a:moveTo>
                <a:cubicBezTo>
                  <a:pt x="6264" y="12145"/>
                  <a:pt x="6264" y="12262"/>
                  <a:pt x="6251" y="12378"/>
                </a:cubicBezTo>
                <a:cubicBezTo>
                  <a:pt x="6235" y="12522"/>
                  <a:pt x="6226" y="12654"/>
                  <a:pt x="6226" y="12799"/>
                </a:cubicBezTo>
                <a:cubicBezTo>
                  <a:pt x="6226" y="12872"/>
                  <a:pt x="6209" y="12920"/>
                  <a:pt x="6251" y="12948"/>
                </a:cubicBezTo>
              </a:path>
              <a:path w="6426" h="4367">
                <a:moveTo>
                  <a:pt x="6623" y="12129"/>
                </a:moveTo>
                <a:cubicBezTo>
                  <a:pt x="6623" y="12320"/>
                  <a:pt x="6629" y="12490"/>
                  <a:pt x="6648" y="12675"/>
                </a:cubicBezTo>
                <a:cubicBezTo>
                  <a:pt x="6653" y="12723"/>
                  <a:pt x="6648" y="12775"/>
                  <a:pt x="6648" y="12824"/>
                </a:cubicBezTo>
              </a:path>
              <a:path w="6426" h="4367">
                <a:moveTo>
                  <a:pt x="6871" y="12204"/>
                </a:moveTo>
                <a:cubicBezTo>
                  <a:pt x="6994" y="12185"/>
                  <a:pt x="7095" y="12179"/>
                  <a:pt x="7218" y="12179"/>
                </a:cubicBezTo>
                <a:cubicBezTo>
                  <a:pt x="7309" y="12179"/>
                  <a:pt x="7351" y="12179"/>
                  <a:pt x="7417" y="12179"/>
                </a:cubicBezTo>
              </a:path>
              <a:path w="6426" h="4367">
                <a:moveTo>
                  <a:pt x="7144" y="12278"/>
                </a:moveTo>
                <a:cubicBezTo>
                  <a:pt x="7105" y="12388"/>
                  <a:pt x="6976" y="12616"/>
                  <a:pt x="7020" y="12774"/>
                </a:cubicBezTo>
                <a:cubicBezTo>
                  <a:pt x="7028" y="12791"/>
                  <a:pt x="7037" y="12807"/>
                  <a:pt x="7045" y="12824"/>
                </a:cubicBezTo>
              </a:path>
              <a:path w="6426" h="4367">
                <a:moveTo>
                  <a:pt x="7342" y="12179"/>
                </a:moveTo>
                <a:cubicBezTo>
                  <a:pt x="7306" y="12325"/>
                  <a:pt x="7226" y="12520"/>
                  <a:pt x="7243" y="12675"/>
                </a:cubicBezTo>
                <a:cubicBezTo>
                  <a:pt x="7272" y="12789"/>
                  <a:pt x="7280" y="12838"/>
                  <a:pt x="7268" y="12923"/>
                </a:cubicBezTo>
              </a:path>
              <a:path w="6426" h="4367">
                <a:moveTo>
                  <a:pt x="6251" y="12948"/>
                </a:moveTo>
                <a:cubicBezTo>
                  <a:pt x="6384" y="12958"/>
                  <a:pt x="6515" y="12990"/>
                  <a:pt x="6648" y="12998"/>
                </a:cubicBezTo>
                <a:cubicBezTo>
                  <a:pt x="6900" y="13014"/>
                  <a:pt x="7175" y="13010"/>
                  <a:pt x="7417" y="12973"/>
                </a:cubicBezTo>
                <a:cubicBezTo>
                  <a:pt x="7433" y="12973"/>
                  <a:pt x="7450" y="12973"/>
                  <a:pt x="7466" y="12973"/>
                </a:cubicBezTo>
              </a:path>
              <a:path w="6426" h="4367">
                <a:moveTo>
                  <a:pt x="7144" y="13246"/>
                </a:moveTo>
                <a:cubicBezTo>
                  <a:pt x="7064" y="13337"/>
                  <a:pt x="6962" y="13438"/>
                  <a:pt x="6945" y="13568"/>
                </a:cubicBezTo>
                <a:cubicBezTo>
                  <a:pt x="6930" y="13685"/>
                  <a:pt x="6965" y="13781"/>
                  <a:pt x="6995" y="13891"/>
                </a:cubicBezTo>
                <a:cubicBezTo>
                  <a:pt x="7029" y="14015"/>
                  <a:pt x="7091" y="14063"/>
                  <a:pt x="7193" y="14139"/>
                </a:cubicBezTo>
                <a:cubicBezTo>
                  <a:pt x="7290" y="14211"/>
                  <a:pt x="7393" y="14206"/>
                  <a:pt x="7491" y="14139"/>
                </a:cubicBezTo>
                <a:cubicBezTo>
                  <a:pt x="7549" y="14099"/>
                  <a:pt x="7569" y="14022"/>
                  <a:pt x="7516" y="13965"/>
                </a:cubicBezTo>
                <a:cubicBezTo>
                  <a:pt x="7457" y="13902"/>
                  <a:pt x="7317" y="13902"/>
                  <a:pt x="7243" y="13915"/>
                </a:cubicBezTo>
                <a:cubicBezTo>
                  <a:pt x="7056" y="13947"/>
                  <a:pt x="7043" y="14110"/>
                  <a:pt x="6970" y="14238"/>
                </a:cubicBezTo>
                <a:cubicBezTo>
                  <a:pt x="6954" y="14255"/>
                  <a:pt x="6937" y="14271"/>
                  <a:pt x="6921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Ink 8"/>
          <p:cNvSpPr/>
          <p:nvPr/>
        </p:nvSpPr>
        <p:spPr>
          <a:xfrm>
            <a:off x="1911240" y="2919240"/>
            <a:ext cx="911160" cy="903600"/>
          </a:xfrm>
          <a:custGeom>
            <a:avLst/>
            <a:gdLst/>
            <a:ahLst/>
            <a:rect l="l" t="t" r="r" b="b"/>
            <a:pathLst>
              <a:path w="2531" h="2506">
                <a:moveTo>
                  <a:pt x="5308" y="8930"/>
                </a:moveTo>
                <a:cubicBezTo>
                  <a:pt x="5399" y="8930"/>
                  <a:pt x="5506" y="8910"/>
                  <a:pt x="5581" y="8954"/>
                </a:cubicBezTo>
              </a:path>
              <a:path w="2531" h="2506">
                <a:moveTo>
                  <a:pt x="5308" y="9153"/>
                </a:moveTo>
                <a:cubicBezTo>
                  <a:pt x="5391" y="9153"/>
                  <a:pt x="5473" y="9153"/>
                  <a:pt x="5556" y="9153"/>
                </a:cubicBezTo>
              </a:path>
              <a:path w="2531" h="2506">
                <a:moveTo>
                  <a:pt x="6052" y="8111"/>
                </a:moveTo>
                <a:cubicBezTo>
                  <a:pt x="6186" y="8136"/>
                  <a:pt x="6311" y="8136"/>
                  <a:pt x="6449" y="8136"/>
                </a:cubicBezTo>
                <a:cubicBezTo>
                  <a:pt x="6491" y="8136"/>
                  <a:pt x="6499" y="8136"/>
                  <a:pt x="6524" y="8136"/>
                </a:cubicBezTo>
              </a:path>
              <a:path w="2531" h="2506">
                <a:moveTo>
                  <a:pt x="6028" y="8161"/>
                </a:moveTo>
                <a:cubicBezTo>
                  <a:pt x="6003" y="8196"/>
                  <a:pt x="5894" y="8331"/>
                  <a:pt x="5904" y="8384"/>
                </a:cubicBezTo>
                <a:cubicBezTo>
                  <a:pt x="5912" y="8392"/>
                  <a:pt x="5920" y="8401"/>
                  <a:pt x="5928" y="8409"/>
                </a:cubicBezTo>
                <a:cubicBezTo>
                  <a:pt x="5974" y="8427"/>
                  <a:pt x="6030" y="8422"/>
                  <a:pt x="6077" y="8384"/>
                </a:cubicBezTo>
                <a:cubicBezTo>
                  <a:pt x="6136" y="8336"/>
                  <a:pt x="6197" y="8317"/>
                  <a:pt x="6276" y="8334"/>
                </a:cubicBezTo>
                <a:cubicBezTo>
                  <a:pt x="6406" y="8361"/>
                  <a:pt x="6453" y="8433"/>
                  <a:pt x="6474" y="8558"/>
                </a:cubicBezTo>
                <a:cubicBezTo>
                  <a:pt x="6492" y="8665"/>
                  <a:pt x="6500" y="8729"/>
                  <a:pt x="6449" y="8830"/>
                </a:cubicBezTo>
                <a:cubicBezTo>
                  <a:pt x="6408" y="8912"/>
                  <a:pt x="6367" y="8949"/>
                  <a:pt x="6276" y="8954"/>
                </a:cubicBezTo>
                <a:cubicBezTo>
                  <a:pt x="6203" y="8958"/>
                  <a:pt x="6127" y="8965"/>
                  <a:pt x="6102" y="8880"/>
                </a:cubicBezTo>
                <a:cubicBezTo>
                  <a:pt x="6102" y="8835"/>
                  <a:pt x="6098" y="8822"/>
                  <a:pt x="6127" y="8806"/>
                </a:cubicBezTo>
              </a:path>
              <a:path w="2531" h="2506">
                <a:moveTo>
                  <a:pt x="6722" y="8260"/>
                </a:moveTo>
                <a:cubicBezTo>
                  <a:pt x="6901" y="8238"/>
                  <a:pt x="7093" y="8267"/>
                  <a:pt x="7268" y="8235"/>
                </a:cubicBezTo>
                <a:cubicBezTo>
                  <a:pt x="7333" y="8223"/>
                  <a:pt x="7373" y="8210"/>
                  <a:pt x="7441" y="8210"/>
                </a:cubicBezTo>
              </a:path>
              <a:path w="2531" h="2506">
                <a:moveTo>
                  <a:pt x="7094" y="8136"/>
                </a:moveTo>
                <a:cubicBezTo>
                  <a:pt x="7044" y="8272"/>
                  <a:pt x="7020" y="8392"/>
                  <a:pt x="6995" y="8533"/>
                </a:cubicBezTo>
                <a:cubicBezTo>
                  <a:pt x="6976" y="8638"/>
                  <a:pt x="6947" y="8741"/>
                  <a:pt x="6995" y="8830"/>
                </a:cubicBezTo>
                <a:cubicBezTo>
                  <a:pt x="7003" y="8847"/>
                  <a:pt x="7012" y="8863"/>
                  <a:pt x="7020" y="8880"/>
                </a:cubicBezTo>
              </a:path>
              <a:path w="2531" h="2506">
                <a:moveTo>
                  <a:pt x="7243" y="8210"/>
                </a:moveTo>
                <a:cubicBezTo>
                  <a:pt x="7243" y="8397"/>
                  <a:pt x="7216" y="8601"/>
                  <a:pt x="7268" y="8781"/>
                </a:cubicBezTo>
                <a:cubicBezTo>
                  <a:pt x="7295" y="8875"/>
                  <a:pt x="7353" y="8964"/>
                  <a:pt x="7392" y="9054"/>
                </a:cubicBezTo>
                <a:cubicBezTo>
                  <a:pt x="7412" y="9094"/>
                  <a:pt x="7421" y="9100"/>
                  <a:pt x="7417" y="9128"/>
                </a:cubicBezTo>
              </a:path>
              <a:path w="2531" h="2506">
                <a:moveTo>
                  <a:pt x="6226" y="9153"/>
                </a:moveTo>
                <a:cubicBezTo>
                  <a:pt x="6424" y="9185"/>
                  <a:pt x="6619" y="9213"/>
                  <a:pt x="6821" y="9227"/>
                </a:cubicBezTo>
                <a:cubicBezTo>
                  <a:pt x="6977" y="9238"/>
                  <a:pt x="7137" y="9227"/>
                  <a:pt x="7293" y="9227"/>
                </a:cubicBezTo>
              </a:path>
              <a:path w="2531" h="2506">
                <a:moveTo>
                  <a:pt x="6598" y="9475"/>
                </a:moveTo>
                <a:cubicBezTo>
                  <a:pt x="6624" y="9553"/>
                  <a:pt x="6676" y="9525"/>
                  <a:pt x="6772" y="9525"/>
                </a:cubicBezTo>
                <a:cubicBezTo>
                  <a:pt x="6858" y="9525"/>
                  <a:pt x="6915" y="9476"/>
                  <a:pt x="6995" y="9525"/>
                </a:cubicBezTo>
                <a:cubicBezTo>
                  <a:pt x="7046" y="9556"/>
                  <a:pt x="7061" y="9618"/>
                  <a:pt x="7045" y="9674"/>
                </a:cubicBezTo>
                <a:cubicBezTo>
                  <a:pt x="7018" y="9770"/>
                  <a:pt x="6929" y="9769"/>
                  <a:pt x="6871" y="9823"/>
                </a:cubicBezTo>
                <a:cubicBezTo>
                  <a:pt x="6811" y="9879"/>
                  <a:pt x="6768" y="9886"/>
                  <a:pt x="6672" y="9897"/>
                </a:cubicBezTo>
                <a:cubicBezTo>
                  <a:pt x="6742" y="9862"/>
                  <a:pt x="6803" y="9869"/>
                  <a:pt x="6871" y="9922"/>
                </a:cubicBezTo>
                <a:cubicBezTo>
                  <a:pt x="6944" y="9978"/>
                  <a:pt x="7014" y="10053"/>
                  <a:pt x="7020" y="10145"/>
                </a:cubicBezTo>
                <a:cubicBezTo>
                  <a:pt x="7028" y="10263"/>
                  <a:pt x="7023" y="10330"/>
                  <a:pt x="6945" y="10418"/>
                </a:cubicBezTo>
                <a:cubicBezTo>
                  <a:pt x="6869" y="10504"/>
                  <a:pt x="6806" y="10492"/>
                  <a:pt x="6697" y="10492"/>
                </a:cubicBezTo>
                <a:cubicBezTo>
                  <a:pt x="6616" y="10492"/>
                  <a:pt x="6543" y="10439"/>
                  <a:pt x="6548" y="10344"/>
                </a:cubicBezTo>
                <a:cubicBezTo>
                  <a:pt x="6556" y="10327"/>
                  <a:pt x="6565" y="10311"/>
                  <a:pt x="6573" y="10294"/>
                </a:cubicBezTo>
              </a:path>
              <a:path w="2531" h="2506">
                <a:moveTo>
                  <a:pt x="7441" y="9798"/>
                </a:moveTo>
                <a:cubicBezTo>
                  <a:pt x="7413" y="9887"/>
                  <a:pt x="7293" y="10082"/>
                  <a:pt x="7293" y="10170"/>
                </a:cubicBezTo>
                <a:cubicBezTo>
                  <a:pt x="7293" y="10262"/>
                  <a:pt x="7355" y="10340"/>
                  <a:pt x="7392" y="10418"/>
                </a:cubicBezTo>
                <a:cubicBezTo>
                  <a:pt x="7444" y="10527"/>
                  <a:pt x="7574" y="10501"/>
                  <a:pt x="7665" y="10492"/>
                </a:cubicBezTo>
                <a:cubicBezTo>
                  <a:pt x="7764" y="10482"/>
                  <a:pt x="7770" y="10454"/>
                  <a:pt x="7813" y="10368"/>
                </a:cubicBezTo>
                <a:cubicBezTo>
                  <a:pt x="7839" y="10316"/>
                  <a:pt x="7851" y="10234"/>
                  <a:pt x="7789" y="10195"/>
                </a:cubicBezTo>
                <a:cubicBezTo>
                  <a:pt x="7666" y="10118"/>
                  <a:pt x="7613" y="10231"/>
                  <a:pt x="7541" y="10294"/>
                </a:cubicBezTo>
                <a:cubicBezTo>
                  <a:pt x="7436" y="10386"/>
                  <a:pt x="7420" y="10480"/>
                  <a:pt x="7367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Ink 9"/>
          <p:cNvSpPr/>
          <p:nvPr/>
        </p:nvSpPr>
        <p:spPr>
          <a:xfrm>
            <a:off x="473040" y="2581200"/>
            <a:ext cx="473040" cy="615960"/>
          </a:xfrm>
          <a:custGeom>
            <a:avLst/>
            <a:gdLst/>
            <a:ahLst/>
            <a:rect l="l" t="t" r="r" b="b"/>
            <a:pathLst>
              <a:path w="1315" h="1712">
                <a:moveTo>
                  <a:pt x="1315" y="8880"/>
                </a:moveTo>
                <a:cubicBezTo>
                  <a:pt x="1430" y="8819"/>
                  <a:pt x="1513" y="8762"/>
                  <a:pt x="1612" y="8682"/>
                </a:cubicBezTo>
                <a:cubicBezTo>
                  <a:pt x="1725" y="8591"/>
                  <a:pt x="1871" y="8479"/>
                  <a:pt x="1984" y="8409"/>
                </a:cubicBezTo>
                <a:cubicBezTo>
                  <a:pt x="2092" y="8342"/>
                  <a:pt x="2263" y="8256"/>
                  <a:pt x="2381" y="8210"/>
                </a:cubicBezTo>
                <a:cubicBezTo>
                  <a:pt x="2397" y="8204"/>
                  <a:pt x="2621" y="8177"/>
                  <a:pt x="2629" y="8161"/>
                </a:cubicBezTo>
                <a:cubicBezTo>
                  <a:pt x="2621" y="8153"/>
                  <a:pt x="2612" y="8144"/>
                  <a:pt x="2604" y="8136"/>
                </a:cubicBezTo>
              </a:path>
              <a:path w="1315" h="1712">
                <a:moveTo>
                  <a:pt x="1761" y="7268"/>
                </a:moveTo>
                <a:cubicBezTo>
                  <a:pt x="1837" y="7240"/>
                  <a:pt x="1928" y="7208"/>
                  <a:pt x="2009" y="7193"/>
                </a:cubicBezTo>
                <a:cubicBezTo>
                  <a:pt x="2054" y="7193"/>
                  <a:pt x="2067" y="7197"/>
                  <a:pt x="2084" y="7169"/>
                </a:cubicBezTo>
              </a:path>
              <a:path w="1315" h="1712">
                <a:moveTo>
                  <a:pt x="1761" y="7243"/>
                </a:moveTo>
                <a:cubicBezTo>
                  <a:pt x="1731" y="7289"/>
                  <a:pt x="1583" y="7451"/>
                  <a:pt x="1662" y="7516"/>
                </a:cubicBezTo>
                <a:cubicBezTo>
                  <a:pt x="1716" y="7561"/>
                  <a:pt x="1843" y="7461"/>
                  <a:pt x="1885" y="7441"/>
                </a:cubicBezTo>
                <a:cubicBezTo>
                  <a:pt x="1970" y="7401"/>
                  <a:pt x="2053" y="7414"/>
                  <a:pt x="2133" y="7466"/>
                </a:cubicBezTo>
                <a:cubicBezTo>
                  <a:pt x="2186" y="7500"/>
                  <a:pt x="2211" y="7625"/>
                  <a:pt x="2183" y="7665"/>
                </a:cubicBezTo>
                <a:cubicBezTo>
                  <a:pt x="2146" y="7717"/>
                  <a:pt x="2123" y="7763"/>
                  <a:pt x="2059" y="7789"/>
                </a:cubicBezTo>
                <a:cubicBezTo>
                  <a:pt x="1977" y="7822"/>
                  <a:pt x="1898" y="7813"/>
                  <a:pt x="1811" y="7813"/>
                </a:cubicBezTo>
                <a:cubicBezTo>
                  <a:pt x="1717" y="7813"/>
                  <a:pt x="1656" y="7791"/>
                  <a:pt x="1588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Ink 10"/>
          <p:cNvSpPr/>
          <p:nvPr/>
        </p:nvSpPr>
        <p:spPr>
          <a:xfrm>
            <a:off x="1204920" y="3178080"/>
            <a:ext cx="716040" cy="804960"/>
          </a:xfrm>
          <a:custGeom>
            <a:avLst/>
            <a:gdLst/>
            <a:ahLst/>
            <a:rect l="l" t="t" r="r" b="b"/>
            <a:pathLst>
              <a:path w="1985" h="2234">
                <a:moveTo>
                  <a:pt x="3349" y="8830"/>
                </a:moveTo>
                <a:cubicBezTo>
                  <a:pt x="3460" y="8830"/>
                  <a:pt x="3560" y="8852"/>
                  <a:pt x="3671" y="8855"/>
                </a:cubicBezTo>
                <a:cubicBezTo>
                  <a:pt x="3814" y="8859"/>
                  <a:pt x="3985" y="8880"/>
                  <a:pt x="4118" y="8830"/>
                </a:cubicBezTo>
              </a:path>
              <a:path w="1985" h="2234">
                <a:moveTo>
                  <a:pt x="3671" y="9079"/>
                </a:moveTo>
                <a:cubicBezTo>
                  <a:pt x="3655" y="9228"/>
                  <a:pt x="3646" y="9354"/>
                  <a:pt x="3646" y="9500"/>
                </a:cubicBezTo>
                <a:cubicBezTo>
                  <a:pt x="3646" y="9569"/>
                  <a:pt x="3612" y="9727"/>
                  <a:pt x="3621" y="9773"/>
                </a:cubicBezTo>
                <a:cubicBezTo>
                  <a:pt x="3644" y="9796"/>
                  <a:pt x="3652" y="9807"/>
                  <a:pt x="3646" y="9773"/>
                </a:cubicBezTo>
              </a:path>
              <a:path w="1985" h="2234">
                <a:moveTo>
                  <a:pt x="4192" y="9103"/>
                </a:moveTo>
                <a:cubicBezTo>
                  <a:pt x="4099" y="9103"/>
                  <a:pt x="4043" y="9097"/>
                  <a:pt x="3969" y="9153"/>
                </a:cubicBezTo>
                <a:cubicBezTo>
                  <a:pt x="3929" y="9183"/>
                  <a:pt x="3890" y="9250"/>
                  <a:pt x="3919" y="9302"/>
                </a:cubicBezTo>
                <a:cubicBezTo>
                  <a:pt x="3965" y="9384"/>
                  <a:pt x="4029" y="9475"/>
                  <a:pt x="4093" y="9550"/>
                </a:cubicBezTo>
                <a:cubicBezTo>
                  <a:pt x="4135" y="9599"/>
                  <a:pt x="4215" y="9699"/>
                  <a:pt x="4192" y="9773"/>
                </a:cubicBezTo>
                <a:cubicBezTo>
                  <a:pt x="4184" y="9781"/>
                  <a:pt x="4175" y="9790"/>
                  <a:pt x="4167" y="9798"/>
                </a:cubicBezTo>
                <a:cubicBezTo>
                  <a:pt x="4115" y="9829"/>
                  <a:pt x="4061" y="9835"/>
                  <a:pt x="4018" y="9773"/>
                </a:cubicBezTo>
                <a:cubicBezTo>
                  <a:pt x="3979" y="9717"/>
                  <a:pt x="3958" y="9635"/>
                  <a:pt x="3994" y="9575"/>
                </a:cubicBezTo>
                <a:cubicBezTo>
                  <a:pt x="4039" y="9501"/>
                  <a:pt x="4154" y="9461"/>
                  <a:pt x="4217" y="9401"/>
                </a:cubicBezTo>
                <a:cubicBezTo>
                  <a:pt x="4282" y="9339"/>
                  <a:pt x="4350" y="9317"/>
                  <a:pt x="4415" y="9252"/>
                </a:cubicBezTo>
                <a:cubicBezTo>
                  <a:pt x="4458" y="9209"/>
                  <a:pt x="4454" y="9211"/>
                  <a:pt x="4514" y="9203"/>
                </a:cubicBezTo>
                <a:cubicBezTo>
                  <a:pt x="4483" y="9287"/>
                  <a:pt x="4455" y="9343"/>
                  <a:pt x="4415" y="9426"/>
                </a:cubicBezTo>
                <a:cubicBezTo>
                  <a:pt x="4386" y="9486"/>
                  <a:pt x="4353" y="9606"/>
                  <a:pt x="4366" y="9674"/>
                </a:cubicBezTo>
                <a:cubicBezTo>
                  <a:pt x="4379" y="9742"/>
                  <a:pt x="4454" y="9786"/>
                  <a:pt x="4514" y="9798"/>
                </a:cubicBezTo>
                <a:cubicBezTo>
                  <a:pt x="4586" y="9812"/>
                  <a:pt x="4680" y="9791"/>
                  <a:pt x="4738" y="9748"/>
                </a:cubicBezTo>
                <a:cubicBezTo>
                  <a:pt x="4789" y="9710"/>
                  <a:pt x="4899" y="9616"/>
                  <a:pt x="4911" y="9550"/>
                </a:cubicBezTo>
                <a:cubicBezTo>
                  <a:pt x="4936" y="9409"/>
                  <a:pt x="4872" y="9383"/>
                  <a:pt x="4787" y="9302"/>
                </a:cubicBezTo>
                <a:cubicBezTo>
                  <a:pt x="4718" y="9237"/>
                  <a:pt x="4651" y="9212"/>
                  <a:pt x="4564" y="9178"/>
                </a:cubicBezTo>
              </a:path>
              <a:path w="1985" h="2234">
                <a:moveTo>
                  <a:pt x="3448" y="9674"/>
                </a:moveTo>
                <a:cubicBezTo>
                  <a:pt x="3546" y="9630"/>
                  <a:pt x="3619" y="9580"/>
                  <a:pt x="3721" y="9550"/>
                </a:cubicBezTo>
                <a:cubicBezTo>
                  <a:pt x="3905" y="9496"/>
                  <a:pt x="4085" y="9432"/>
                  <a:pt x="4266" y="9376"/>
                </a:cubicBezTo>
                <a:cubicBezTo>
                  <a:pt x="4394" y="9336"/>
                  <a:pt x="4533" y="9313"/>
                  <a:pt x="4663" y="9277"/>
                </a:cubicBezTo>
                <a:cubicBezTo>
                  <a:pt x="4754" y="9252"/>
                  <a:pt x="4846" y="9217"/>
                  <a:pt x="4936" y="9203"/>
                </a:cubicBezTo>
                <a:cubicBezTo>
                  <a:pt x="4977" y="9197"/>
                  <a:pt x="4970" y="9203"/>
                  <a:pt x="5011" y="9203"/>
                </a:cubicBezTo>
              </a:path>
              <a:path w="1985" h="2234">
                <a:moveTo>
                  <a:pt x="4217" y="10244"/>
                </a:moveTo>
                <a:cubicBezTo>
                  <a:pt x="4277" y="10237"/>
                  <a:pt x="4341" y="10202"/>
                  <a:pt x="4390" y="10195"/>
                </a:cubicBezTo>
                <a:cubicBezTo>
                  <a:pt x="4451" y="10186"/>
                  <a:pt x="4542" y="10183"/>
                  <a:pt x="4589" y="10220"/>
                </a:cubicBezTo>
                <a:cubicBezTo>
                  <a:pt x="4663" y="10278"/>
                  <a:pt x="4584" y="10391"/>
                  <a:pt x="4514" y="10418"/>
                </a:cubicBezTo>
                <a:cubicBezTo>
                  <a:pt x="4456" y="10441"/>
                  <a:pt x="4381" y="10443"/>
                  <a:pt x="4316" y="10443"/>
                </a:cubicBezTo>
                <a:cubicBezTo>
                  <a:pt x="4405" y="10494"/>
                  <a:pt x="4496" y="10501"/>
                  <a:pt x="4539" y="10616"/>
                </a:cubicBezTo>
                <a:cubicBezTo>
                  <a:pt x="4579" y="10723"/>
                  <a:pt x="4527" y="10793"/>
                  <a:pt x="4440" y="10840"/>
                </a:cubicBezTo>
                <a:cubicBezTo>
                  <a:pt x="4363" y="10882"/>
                  <a:pt x="4335" y="10910"/>
                  <a:pt x="4242" y="10914"/>
                </a:cubicBezTo>
                <a:cubicBezTo>
                  <a:pt x="4189" y="10917"/>
                  <a:pt x="4148" y="10887"/>
                  <a:pt x="4118" y="10840"/>
                </a:cubicBezTo>
                <a:cubicBezTo>
                  <a:pt x="4087" y="10777"/>
                  <a:pt x="4078" y="10746"/>
                  <a:pt x="4093" y="10691"/>
                </a:cubicBezTo>
              </a:path>
              <a:path w="1985" h="2234">
                <a:moveTo>
                  <a:pt x="4911" y="10294"/>
                </a:moveTo>
                <a:cubicBezTo>
                  <a:pt x="4902" y="10479"/>
                  <a:pt x="4849" y="10462"/>
                  <a:pt x="4812" y="10616"/>
                </a:cubicBezTo>
                <a:cubicBezTo>
                  <a:pt x="4799" y="10669"/>
                  <a:pt x="4778" y="10792"/>
                  <a:pt x="4812" y="10840"/>
                </a:cubicBezTo>
                <a:cubicBezTo>
                  <a:pt x="4834" y="10871"/>
                  <a:pt x="4951" y="10944"/>
                  <a:pt x="4986" y="10964"/>
                </a:cubicBezTo>
                <a:cubicBezTo>
                  <a:pt x="5076" y="11017"/>
                  <a:pt x="5159" y="10974"/>
                  <a:pt x="5234" y="10914"/>
                </a:cubicBezTo>
                <a:cubicBezTo>
                  <a:pt x="5288" y="10871"/>
                  <a:pt x="5354" y="10816"/>
                  <a:pt x="5333" y="10740"/>
                </a:cubicBezTo>
                <a:cubicBezTo>
                  <a:pt x="5318" y="10684"/>
                  <a:pt x="5187" y="10720"/>
                  <a:pt x="5159" y="10740"/>
                </a:cubicBezTo>
                <a:cubicBezTo>
                  <a:pt x="5031" y="10833"/>
                  <a:pt x="4996" y="10907"/>
                  <a:pt x="5011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Ink 11"/>
          <p:cNvSpPr/>
          <p:nvPr/>
        </p:nvSpPr>
        <p:spPr>
          <a:xfrm>
            <a:off x="4776840" y="1268280"/>
            <a:ext cx="189000" cy="366840"/>
          </a:xfrm>
          <a:custGeom>
            <a:avLst/>
            <a:gdLst/>
            <a:ahLst/>
            <a:rect l="l" t="t" r="r" b="b"/>
            <a:pathLst>
              <a:path w="521" h="1018">
                <a:moveTo>
                  <a:pt x="13444" y="3522"/>
                </a:moveTo>
                <a:cubicBezTo>
                  <a:pt x="13434" y="3590"/>
                  <a:pt x="13417" y="3649"/>
                  <a:pt x="13395" y="3721"/>
                </a:cubicBezTo>
                <a:cubicBezTo>
                  <a:pt x="13364" y="3822"/>
                  <a:pt x="13321" y="3914"/>
                  <a:pt x="13295" y="4018"/>
                </a:cubicBezTo>
                <a:cubicBezTo>
                  <a:pt x="13262" y="4150"/>
                  <a:pt x="13259" y="4282"/>
                  <a:pt x="13295" y="4415"/>
                </a:cubicBezTo>
                <a:cubicBezTo>
                  <a:pt x="13321" y="4510"/>
                  <a:pt x="13420" y="4515"/>
                  <a:pt x="13494" y="4490"/>
                </a:cubicBezTo>
                <a:cubicBezTo>
                  <a:pt x="13563" y="4467"/>
                  <a:pt x="13617" y="4391"/>
                  <a:pt x="13667" y="4341"/>
                </a:cubicBezTo>
                <a:cubicBezTo>
                  <a:pt x="13724" y="4284"/>
                  <a:pt x="13782" y="4206"/>
                  <a:pt x="13767" y="4118"/>
                </a:cubicBezTo>
                <a:cubicBezTo>
                  <a:pt x="13747" y="4057"/>
                  <a:pt x="13749" y="4042"/>
                  <a:pt x="13717" y="4018"/>
                </a:cubicBezTo>
                <a:cubicBezTo>
                  <a:pt x="13643" y="4029"/>
                  <a:pt x="13624" y="4062"/>
                  <a:pt x="13568" y="4118"/>
                </a:cubicBezTo>
                <a:cubicBezTo>
                  <a:pt x="13499" y="4187"/>
                  <a:pt x="13483" y="4264"/>
                  <a:pt x="13444" y="4341"/>
                </a:cubicBezTo>
                <a:cubicBezTo>
                  <a:pt x="13410" y="4409"/>
                  <a:pt x="13431" y="4426"/>
                  <a:pt x="13444" y="4490"/>
                </a:cubicBezTo>
                <a:cubicBezTo>
                  <a:pt x="13444" y="4531"/>
                  <a:pt x="13436" y="4547"/>
                  <a:pt x="13469" y="4539"/>
                </a:cubicBezTo>
              </a:path>
              <a:path w="521" h="1018">
                <a:moveTo>
                  <a:pt x="13791" y="4514"/>
                </a:moveTo>
                <a:cubicBezTo>
                  <a:pt x="13791" y="4506"/>
                  <a:pt x="13791" y="4498"/>
                  <a:pt x="13791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Ink 12"/>
          <p:cNvSpPr/>
          <p:nvPr/>
        </p:nvSpPr>
        <p:spPr>
          <a:xfrm>
            <a:off x="5160960" y="1152360"/>
            <a:ext cx="1455840" cy="428760"/>
          </a:xfrm>
          <a:custGeom>
            <a:avLst/>
            <a:gdLst/>
            <a:ahLst/>
            <a:rect l="l" t="t" r="r" b="b"/>
            <a:pathLst>
              <a:path w="4044" h="1191">
                <a:moveTo>
                  <a:pt x="14337" y="3746"/>
                </a:moveTo>
                <a:cubicBezTo>
                  <a:pt x="14433" y="3765"/>
                  <a:pt x="14513" y="3770"/>
                  <a:pt x="14610" y="3770"/>
                </a:cubicBezTo>
                <a:cubicBezTo>
                  <a:pt x="14698" y="3770"/>
                  <a:pt x="14768" y="3746"/>
                  <a:pt x="14858" y="3746"/>
                </a:cubicBezTo>
                <a:cubicBezTo>
                  <a:pt x="14903" y="3746"/>
                  <a:pt x="14916" y="3750"/>
                  <a:pt x="14932" y="3721"/>
                </a:cubicBezTo>
              </a:path>
              <a:path w="4044" h="1191">
                <a:moveTo>
                  <a:pt x="15180" y="3448"/>
                </a:moveTo>
                <a:cubicBezTo>
                  <a:pt x="15180" y="3544"/>
                  <a:pt x="15164" y="3629"/>
                  <a:pt x="15156" y="3721"/>
                </a:cubicBezTo>
                <a:cubicBezTo>
                  <a:pt x="15140" y="3895"/>
                  <a:pt x="15113" y="4181"/>
                  <a:pt x="15180" y="4341"/>
                </a:cubicBezTo>
                <a:cubicBezTo>
                  <a:pt x="15208" y="4396"/>
                  <a:pt x="15216" y="4406"/>
                  <a:pt x="15205" y="4316"/>
                </a:cubicBezTo>
              </a:path>
              <a:path w="4044" h="1191">
                <a:moveTo>
                  <a:pt x="15528" y="3473"/>
                </a:moveTo>
                <a:cubicBezTo>
                  <a:pt x="15672" y="3408"/>
                  <a:pt x="15698" y="3384"/>
                  <a:pt x="15825" y="3398"/>
                </a:cubicBezTo>
                <a:cubicBezTo>
                  <a:pt x="15925" y="3409"/>
                  <a:pt x="15900" y="3453"/>
                  <a:pt x="15900" y="3547"/>
                </a:cubicBezTo>
                <a:cubicBezTo>
                  <a:pt x="15900" y="3618"/>
                  <a:pt x="15861" y="3660"/>
                  <a:pt x="15801" y="3696"/>
                </a:cubicBezTo>
                <a:cubicBezTo>
                  <a:pt x="15748" y="3728"/>
                  <a:pt x="15706" y="3764"/>
                  <a:pt x="15652" y="3795"/>
                </a:cubicBezTo>
                <a:cubicBezTo>
                  <a:pt x="15710" y="3773"/>
                  <a:pt x="15793" y="3760"/>
                  <a:pt x="15850" y="3795"/>
                </a:cubicBezTo>
                <a:cubicBezTo>
                  <a:pt x="15925" y="3841"/>
                  <a:pt x="15939" y="3921"/>
                  <a:pt x="15974" y="3994"/>
                </a:cubicBezTo>
                <a:cubicBezTo>
                  <a:pt x="16010" y="4070"/>
                  <a:pt x="16005" y="4086"/>
                  <a:pt x="15949" y="4142"/>
                </a:cubicBezTo>
                <a:cubicBezTo>
                  <a:pt x="15886" y="4206"/>
                  <a:pt x="15817" y="4227"/>
                  <a:pt x="15726" y="4242"/>
                </a:cubicBezTo>
                <a:cubicBezTo>
                  <a:pt x="15710" y="4242"/>
                  <a:pt x="15693" y="4242"/>
                  <a:pt x="15677" y="4242"/>
                </a:cubicBezTo>
              </a:path>
              <a:path w="4044" h="1191">
                <a:moveTo>
                  <a:pt x="16073" y="4341"/>
                </a:moveTo>
                <a:cubicBezTo>
                  <a:pt x="16098" y="4316"/>
                  <a:pt x="16123" y="4291"/>
                  <a:pt x="16148" y="4266"/>
                </a:cubicBezTo>
              </a:path>
              <a:path w="4044" h="1191">
                <a:moveTo>
                  <a:pt x="16470" y="3373"/>
                </a:moveTo>
                <a:cubicBezTo>
                  <a:pt x="16569" y="3356"/>
                  <a:pt x="16670" y="3338"/>
                  <a:pt x="16768" y="3324"/>
                </a:cubicBezTo>
                <a:cubicBezTo>
                  <a:pt x="16852" y="3312"/>
                  <a:pt x="16960" y="3322"/>
                  <a:pt x="17041" y="3299"/>
                </a:cubicBezTo>
                <a:cubicBezTo>
                  <a:pt x="17057" y="3291"/>
                  <a:pt x="17074" y="3282"/>
                  <a:pt x="17090" y="3274"/>
                </a:cubicBezTo>
                <a:cubicBezTo>
                  <a:pt x="17052" y="3382"/>
                  <a:pt x="17010" y="3506"/>
                  <a:pt x="16991" y="3621"/>
                </a:cubicBezTo>
                <a:cubicBezTo>
                  <a:pt x="16974" y="3724"/>
                  <a:pt x="16950" y="3819"/>
                  <a:pt x="16917" y="3919"/>
                </a:cubicBezTo>
                <a:cubicBezTo>
                  <a:pt x="16889" y="4003"/>
                  <a:pt x="16855" y="4083"/>
                  <a:pt x="16842" y="4167"/>
                </a:cubicBezTo>
                <a:cubicBezTo>
                  <a:pt x="16842" y="4219"/>
                  <a:pt x="16841" y="4237"/>
                  <a:pt x="16818" y="4266"/>
                </a:cubicBezTo>
              </a:path>
              <a:path w="4044" h="1191">
                <a:moveTo>
                  <a:pt x="17388" y="3398"/>
                </a:moveTo>
                <a:cubicBezTo>
                  <a:pt x="17359" y="3524"/>
                  <a:pt x="17325" y="3622"/>
                  <a:pt x="17289" y="3746"/>
                </a:cubicBezTo>
                <a:cubicBezTo>
                  <a:pt x="17250" y="3883"/>
                  <a:pt x="17239" y="4000"/>
                  <a:pt x="17239" y="4142"/>
                </a:cubicBezTo>
                <a:cubicBezTo>
                  <a:pt x="17239" y="4246"/>
                  <a:pt x="17249" y="4317"/>
                  <a:pt x="17363" y="4341"/>
                </a:cubicBezTo>
                <a:cubicBezTo>
                  <a:pt x="17460" y="4361"/>
                  <a:pt x="17522" y="4262"/>
                  <a:pt x="17562" y="4192"/>
                </a:cubicBezTo>
                <a:cubicBezTo>
                  <a:pt x="17613" y="4105"/>
                  <a:pt x="17632" y="3992"/>
                  <a:pt x="17636" y="3894"/>
                </a:cubicBezTo>
                <a:cubicBezTo>
                  <a:pt x="17640" y="3788"/>
                  <a:pt x="17631" y="3709"/>
                  <a:pt x="17562" y="3621"/>
                </a:cubicBezTo>
                <a:cubicBezTo>
                  <a:pt x="17517" y="3563"/>
                  <a:pt x="17458" y="3526"/>
                  <a:pt x="17413" y="3473"/>
                </a:cubicBezTo>
                <a:cubicBezTo>
                  <a:pt x="17390" y="3450"/>
                  <a:pt x="17382" y="3446"/>
                  <a:pt x="17388" y="3423"/>
                </a:cubicBezTo>
              </a:path>
              <a:path w="4044" h="1191">
                <a:moveTo>
                  <a:pt x="17909" y="3473"/>
                </a:moveTo>
                <a:cubicBezTo>
                  <a:pt x="17905" y="3562"/>
                  <a:pt x="17858" y="3713"/>
                  <a:pt x="17909" y="3795"/>
                </a:cubicBezTo>
                <a:cubicBezTo>
                  <a:pt x="17938" y="3842"/>
                  <a:pt x="18002" y="3883"/>
                  <a:pt x="18058" y="3870"/>
                </a:cubicBezTo>
                <a:cubicBezTo>
                  <a:pt x="18130" y="3854"/>
                  <a:pt x="18209" y="3835"/>
                  <a:pt x="18256" y="3770"/>
                </a:cubicBezTo>
                <a:cubicBezTo>
                  <a:pt x="18281" y="3729"/>
                  <a:pt x="18306" y="3687"/>
                  <a:pt x="18331" y="3646"/>
                </a:cubicBezTo>
              </a:path>
              <a:path w="4044" h="1191">
                <a:moveTo>
                  <a:pt x="18355" y="3200"/>
                </a:moveTo>
                <a:cubicBezTo>
                  <a:pt x="18355" y="3506"/>
                  <a:pt x="18337" y="3819"/>
                  <a:pt x="18380" y="4118"/>
                </a:cubicBezTo>
                <a:cubicBezTo>
                  <a:pt x="18390" y="4187"/>
                  <a:pt x="18388" y="4261"/>
                  <a:pt x="18355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Ink 13"/>
          <p:cNvSpPr/>
          <p:nvPr/>
        </p:nvSpPr>
        <p:spPr>
          <a:xfrm>
            <a:off x="4653000" y="1990800"/>
            <a:ext cx="231840" cy="260280"/>
          </a:xfrm>
          <a:custGeom>
            <a:avLst/>
            <a:gdLst/>
            <a:ahLst/>
            <a:rect l="l" t="t" r="r" b="b"/>
            <a:pathLst>
              <a:path w="646" h="721">
                <a:moveTo>
                  <a:pt x="12923" y="5581"/>
                </a:moveTo>
                <a:cubicBezTo>
                  <a:pt x="13002" y="5581"/>
                  <a:pt x="13069" y="5559"/>
                  <a:pt x="13146" y="5556"/>
                </a:cubicBezTo>
                <a:cubicBezTo>
                  <a:pt x="13196" y="5554"/>
                  <a:pt x="13365" y="5525"/>
                  <a:pt x="13395" y="5531"/>
                </a:cubicBezTo>
                <a:cubicBezTo>
                  <a:pt x="13403" y="5539"/>
                  <a:pt x="13411" y="5548"/>
                  <a:pt x="13419" y="5556"/>
                </a:cubicBezTo>
                <a:cubicBezTo>
                  <a:pt x="13364" y="5641"/>
                  <a:pt x="13388" y="5686"/>
                  <a:pt x="13370" y="5779"/>
                </a:cubicBezTo>
                <a:cubicBezTo>
                  <a:pt x="13354" y="5860"/>
                  <a:pt x="13333" y="5957"/>
                  <a:pt x="13320" y="6028"/>
                </a:cubicBezTo>
                <a:cubicBezTo>
                  <a:pt x="13308" y="6092"/>
                  <a:pt x="13307" y="6226"/>
                  <a:pt x="13345" y="6251"/>
                </a:cubicBezTo>
              </a:path>
              <a:path w="646" h="721">
                <a:moveTo>
                  <a:pt x="13568" y="6176"/>
                </a:moveTo>
                <a:cubicBezTo>
                  <a:pt x="13568" y="6184"/>
                  <a:pt x="13568" y="6193"/>
                  <a:pt x="13568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Ink 14"/>
          <p:cNvSpPr/>
          <p:nvPr/>
        </p:nvSpPr>
        <p:spPr>
          <a:xfrm>
            <a:off x="5249880" y="1893960"/>
            <a:ext cx="1224000" cy="338040"/>
          </a:xfrm>
          <a:custGeom>
            <a:avLst/>
            <a:gdLst/>
            <a:ahLst/>
            <a:rect l="l" t="t" r="r" b="b"/>
            <a:pathLst>
              <a:path w="3399" h="943">
                <a:moveTo>
                  <a:pt x="14610" y="5358"/>
                </a:moveTo>
                <a:cubicBezTo>
                  <a:pt x="14610" y="5520"/>
                  <a:pt x="14601" y="5671"/>
                  <a:pt x="14585" y="5829"/>
                </a:cubicBezTo>
                <a:cubicBezTo>
                  <a:pt x="14572" y="5961"/>
                  <a:pt x="14560" y="6306"/>
                  <a:pt x="14585" y="6176"/>
                </a:cubicBezTo>
                <a:cubicBezTo>
                  <a:pt x="14593" y="6135"/>
                  <a:pt x="14602" y="6093"/>
                  <a:pt x="14610" y="6052"/>
                </a:cubicBezTo>
              </a:path>
              <a:path w="3399" h="943">
                <a:moveTo>
                  <a:pt x="14808" y="5556"/>
                </a:moveTo>
                <a:cubicBezTo>
                  <a:pt x="14863" y="5502"/>
                  <a:pt x="14916" y="5446"/>
                  <a:pt x="14982" y="5407"/>
                </a:cubicBezTo>
                <a:cubicBezTo>
                  <a:pt x="15052" y="5366"/>
                  <a:pt x="15099" y="5380"/>
                  <a:pt x="15156" y="5432"/>
                </a:cubicBezTo>
                <a:cubicBezTo>
                  <a:pt x="15210" y="5481"/>
                  <a:pt x="15182" y="5580"/>
                  <a:pt x="15156" y="5631"/>
                </a:cubicBezTo>
                <a:cubicBezTo>
                  <a:pt x="15113" y="5718"/>
                  <a:pt x="15087" y="5794"/>
                  <a:pt x="15032" y="5879"/>
                </a:cubicBezTo>
                <a:cubicBezTo>
                  <a:pt x="15007" y="5917"/>
                  <a:pt x="14924" y="6013"/>
                  <a:pt x="14932" y="6052"/>
                </a:cubicBezTo>
                <a:cubicBezTo>
                  <a:pt x="14945" y="6114"/>
                  <a:pt x="15067" y="6114"/>
                  <a:pt x="15106" y="6102"/>
                </a:cubicBezTo>
                <a:cubicBezTo>
                  <a:pt x="15164" y="6084"/>
                  <a:pt x="15239" y="6051"/>
                  <a:pt x="15304" y="6028"/>
                </a:cubicBezTo>
              </a:path>
              <a:path w="3399" h="943">
                <a:moveTo>
                  <a:pt x="15726" y="5432"/>
                </a:moveTo>
                <a:cubicBezTo>
                  <a:pt x="15710" y="5321"/>
                  <a:pt x="15648" y="5353"/>
                  <a:pt x="15553" y="5383"/>
                </a:cubicBezTo>
                <a:cubicBezTo>
                  <a:pt x="15489" y="5403"/>
                  <a:pt x="15400" y="5435"/>
                  <a:pt x="15379" y="5507"/>
                </a:cubicBezTo>
                <a:cubicBezTo>
                  <a:pt x="15350" y="5606"/>
                  <a:pt x="15439" y="5674"/>
                  <a:pt x="15478" y="5755"/>
                </a:cubicBezTo>
                <a:cubicBezTo>
                  <a:pt x="15516" y="5832"/>
                  <a:pt x="15565" y="5943"/>
                  <a:pt x="15577" y="6028"/>
                </a:cubicBezTo>
                <a:cubicBezTo>
                  <a:pt x="15589" y="6110"/>
                  <a:pt x="15582" y="6147"/>
                  <a:pt x="15528" y="6201"/>
                </a:cubicBezTo>
                <a:cubicBezTo>
                  <a:pt x="15417" y="6113"/>
                  <a:pt x="15469" y="6126"/>
                  <a:pt x="15503" y="6003"/>
                </a:cubicBezTo>
                <a:cubicBezTo>
                  <a:pt x="15528" y="5913"/>
                  <a:pt x="15546" y="5858"/>
                  <a:pt x="15602" y="5779"/>
                </a:cubicBezTo>
                <a:cubicBezTo>
                  <a:pt x="15647" y="5715"/>
                  <a:pt x="15708" y="5610"/>
                  <a:pt x="15726" y="5531"/>
                </a:cubicBezTo>
                <a:cubicBezTo>
                  <a:pt x="15726" y="5487"/>
                  <a:pt x="15723" y="5473"/>
                  <a:pt x="15751" y="5457"/>
                </a:cubicBezTo>
              </a:path>
              <a:path w="3399" h="943">
                <a:moveTo>
                  <a:pt x="15900" y="6077"/>
                </a:moveTo>
                <a:cubicBezTo>
                  <a:pt x="15900" y="6180"/>
                  <a:pt x="15904" y="6087"/>
                  <a:pt x="15925" y="6052"/>
                </a:cubicBezTo>
              </a:path>
              <a:path w="3399" h="943">
                <a:moveTo>
                  <a:pt x="16321" y="5358"/>
                </a:moveTo>
                <a:cubicBezTo>
                  <a:pt x="16404" y="5340"/>
                  <a:pt x="16488" y="5312"/>
                  <a:pt x="16570" y="5308"/>
                </a:cubicBezTo>
                <a:cubicBezTo>
                  <a:pt x="16627" y="5305"/>
                  <a:pt x="16738" y="5303"/>
                  <a:pt x="16793" y="5283"/>
                </a:cubicBezTo>
                <a:cubicBezTo>
                  <a:pt x="16801" y="5275"/>
                  <a:pt x="16810" y="5267"/>
                  <a:pt x="16818" y="5259"/>
                </a:cubicBezTo>
              </a:path>
              <a:path w="3399" h="943">
                <a:moveTo>
                  <a:pt x="16346" y="5333"/>
                </a:moveTo>
                <a:cubicBezTo>
                  <a:pt x="16307" y="5376"/>
                  <a:pt x="16224" y="5450"/>
                  <a:pt x="16197" y="5507"/>
                </a:cubicBezTo>
                <a:cubicBezTo>
                  <a:pt x="16168" y="5569"/>
                  <a:pt x="16181" y="5653"/>
                  <a:pt x="16272" y="5631"/>
                </a:cubicBezTo>
                <a:cubicBezTo>
                  <a:pt x="16338" y="5615"/>
                  <a:pt x="16397" y="5593"/>
                  <a:pt x="16470" y="5606"/>
                </a:cubicBezTo>
                <a:cubicBezTo>
                  <a:pt x="16596" y="5629"/>
                  <a:pt x="16616" y="5650"/>
                  <a:pt x="16669" y="5755"/>
                </a:cubicBezTo>
                <a:cubicBezTo>
                  <a:pt x="16691" y="5798"/>
                  <a:pt x="16733" y="5904"/>
                  <a:pt x="16718" y="5953"/>
                </a:cubicBezTo>
                <a:cubicBezTo>
                  <a:pt x="16691" y="6043"/>
                  <a:pt x="16642" y="6035"/>
                  <a:pt x="16570" y="6052"/>
                </a:cubicBezTo>
                <a:cubicBezTo>
                  <a:pt x="16490" y="6071"/>
                  <a:pt x="16397" y="6075"/>
                  <a:pt x="16321" y="6028"/>
                </a:cubicBezTo>
                <a:cubicBezTo>
                  <a:pt x="16313" y="6020"/>
                  <a:pt x="16305" y="6011"/>
                  <a:pt x="16297" y="6003"/>
                </a:cubicBezTo>
              </a:path>
              <a:path w="3399" h="943">
                <a:moveTo>
                  <a:pt x="17264" y="5407"/>
                </a:moveTo>
                <a:cubicBezTo>
                  <a:pt x="17159" y="5313"/>
                  <a:pt x="17077" y="5319"/>
                  <a:pt x="16942" y="5407"/>
                </a:cubicBezTo>
                <a:cubicBezTo>
                  <a:pt x="16875" y="5450"/>
                  <a:pt x="16872" y="5544"/>
                  <a:pt x="16917" y="5606"/>
                </a:cubicBezTo>
                <a:cubicBezTo>
                  <a:pt x="16971" y="5680"/>
                  <a:pt x="17013" y="5756"/>
                  <a:pt x="17066" y="5829"/>
                </a:cubicBezTo>
                <a:cubicBezTo>
                  <a:pt x="17120" y="5903"/>
                  <a:pt x="17153" y="5935"/>
                  <a:pt x="17165" y="6028"/>
                </a:cubicBezTo>
                <a:cubicBezTo>
                  <a:pt x="17072" y="6028"/>
                  <a:pt x="17021" y="6023"/>
                  <a:pt x="16942" y="5978"/>
                </a:cubicBezTo>
                <a:cubicBezTo>
                  <a:pt x="16925" y="5970"/>
                  <a:pt x="16909" y="5961"/>
                  <a:pt x="16892" y="5953"/>
                </a:cubicBezTo>
                <a:cubicBezTo>
                  <a:pt x="16905" y="5865"/>
                  <a:pt x="16949" y="5860"/>
                  <a:pt x="17016" y="5804"/>
                </a:cubicBezTo>
                <a:cubicBezTo>
                  <a:pt x="17094" y="5740"/>
                  <a:pt x="17169" y="5670"/>
                  <a:pt x="17264" y="5631"/>
                </a:cubicBezTo>
                <a:cubicBezTo>
                  <a:pt x="17363" y="5597"/>
                  <a:pt x="17409" y="5572"/>
                  <a:pt x="17462" y="5507"/>
                </a:cubicBezTo>
              </a:path>
              <a:path w="3399" h="943">
                <a:moveTo>
                  <a:pt x="17785" y="5283"/>
                </a:moveTo>
                <a:cubicBezTo>
                  <a:pt x="17672" y="5315"/>
                  <a:pt x="17654" y="5361"/>
                  <a:pt x="17562" y="5407"/>
                </a:cubicBezTo>
                <a:cubicBezTo>
                  <a:pt x="17485" y="5445"/>
                  <a:pt x="17432" y="5450"/>
                  <a:pt x="17462" y="5556"/>
                </a:cubicBezTo>
                <a:cubicBezTo>
                  <a:pt x="17487" y="5645"/>
                  <a:pt x="17560" y="5685"/>
                  <a:pt x="17611" y="5755"/>
                </a:cubicBezTo>
                <a:cubicBezTo>
                  <a:pt x="17663" y="5827"/>
                  <a:pt x="17711" y="5904"/>
                  <a:pt x="17760" y="5978"/>
                </a:cubicBezTo>
                <a:cubicBezTo>
                  <a:pt x="17708" y="6009"/>
                  <a:pt x="17655" y="6015"/>
                  <a:pt x="17611" y="5953"/>
                </a:cubicBezTo>
                <a:cubicBezTo>
                  <a:pt x="17537" y="5849"/>
                  <a:pt x="17515" y="5786"/>
                  <a:pt x="17587" y="5655"/>
                </a:cubicBezTo>
                <a:cubicBezTo>
                  <a:pt x="17609" y="5616"/>
                  <a:pt x="17749" y="5553"/>
                  <a:pt x="17785" y="5531"/>
                </a:cubicBezTo>
                <a:cubicBezTo>
                  <a:pt x="17833" y="5501"/>
                  <a:pt x="17961" y="5483"/>
                  <a:pt x="17983" y="5432"/>
                </a:cubicBezTo>
                <a:cubicBezTo>
                  <a:pt x="17983" y="5416"/>
                  <a:pt x="17983" y="5399"/>
                  <a:pt x="17983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Ink 15"/>
          <p:cNvSpPr/>
          <p:nvPr/>
        </p:nvSpPr>
        <p:spPr>
          <a:xfrm>
            <a:off x="4741920" y="2571840"/>
            <a:ext cx="223920" cy="258840"/>
          </a:xfrm>
          <a:custGeom>
            <a:avLst/>
            <a:gdLst/>
            <a:ahLst/>
            <a:rect l="l" t="t" r="r" b="b"/>
            <a:pathLst>
              <a:path w="621" h="720">
                <a:moveTo>
                  <a:pt x="13419" y="7293"/>
                </a:moveTo>
                <a:cubicBezTo>
                  <a:pt x="13344" y="7231"/>
                  <a:pt x="13329" y="7252"/>
                  <a:pt x="13246" y="7293"/>
                </a:cubicBezTo>
                <a:cubicBezTo>
                  <a:pt x="13202" y="7314"/>
                  <a:pt x="13190" y="7317"/>
                  <a:pt x="13171" y="7342"/>
                </a:cubicBezTo>
                <a:cubicBezTo>
                  <a:pt x="13187" y="7405"/>
                  <a:pt x="13213" y="7448"/>
                  <a:pt x="13271" y="7491"/>
                </a:cubicBezTo>
                <a:cubicBezTo>
                  <a:pt x="13340" y="7542"/>
                  <a:pt x="13525" y="7665"/>
                  <a:pt x="13519" y="7764"/>
                </a:cubicBezTo>
                <a:cubicBezTo>
                  <a:pt x="13514" y="7847"/>
                  <a:pt x="13426" y="7860"/>
                  <a:pt x="13370" y="7863"/>
                </a:cubicBezTo>
                <a:cubicBezTo>
                  <a:pt x="13326" y="7865"/>
                  <a:pt x="13242" y="7816"/>
                  <a:pt x="13246" y="7764"/>
                </a:cubicBezTo>
                <a:cubicBezTo>
                  <a:pt x="13251" y="7688"/>
                  <a:pt x="13283" y="7625"/>
                  <a:pt x="13320" y="7565"/>
                </a:cubicBezTo>
                <a:cubicBezTo>
                  <a:pt x="13369" y="7486"/>
                  <a:pt x="13406" y="7429"/>
                  <a:pt x="13444" y="7342"/>
                </a:cubicBezTo>
                <a:cubicBezTo>
                  <a:pt x="13479" y="7262"/>
                  <a:pt x="13528" y="7238"/>
                  <a:pt x="13543" y="7144"/>
                </a:cubicBezTo>
              </a:path>
              <a:path w="621" h="720">
                <a:moveTo>
                  <a:pt x="13791" y="7640"/>
                </a:moveTo>
                <a:cubicBezTo>
                  <a:pt x="13775" y="7656"/>
                  <a:pt x="13758" y="7673"/>
                  <a:pt x="13742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Ink 16"/>
          <p:cNvSpPr/>
          <p:nvPr/>
        </p:nvSpPr>
        <p:spPr>
          <a:xfrm>
            <a:off x="5214960" y="2463840"/>
            <a:ext cx="357120" cy="366840"/>
          </a:xfrm>
          <a:custGeom>
            <a:avLst/>
            <a:gdLst/>
            <a:ahLst/>
            <a:rect l="l" t="t" r="r" b="b"/>
            <a:pathLst>
              <a:path w="993" h="1018">
                <a:moveTo>
                  <a:pt x="14511" y="7045"/>
                </a:moveTo>
                <a:cubicBezTo>
                  <a:pt x="14511" y="7156"/>
                  <a:pt x="14527" y="7261"/>
                  <a:pt x="14536" y="7367"/>
                </a:cubicBezTo>
                <a:cubicBezTo>
                  <a:pt x="14546" y="7477"/>
                  <a:pt x="14529" y="7595"/>
                  <a:pt x="14511" y="7689"/>
                </a:cubicBezTo>
                <a:cubicBezTo>
                  <a:pt x="14498" y="7758"/>
                  <a:pt x="14522" y="7803"/>
                  <a:pt x="14486" y="7863"/>
                </a:cubicBezTo>
              </a:path>
              <a:path w="993" h="1018">
                <a:moveTo>
                  <a:pt x="14709" y="7218"/>
                </a:moveTo>
                <a:cubicBezTo>
                  <a:pt x="14799" y="7142"/>
                  <a:pt x="14878" y="7063"/>
                  <a:pt x="15007" y="7094"/>
                </a:cubicBezTo>
                <a:cubicBezTo>
                  <a:pt x="15060" y="7107"/>
                  <a:pt x="15120" y="7161"/>
                  <a:pt x="15106" y="7218"/>
                </a:cubicBezTo>
                <a:cubicBezTo>
                  <a:pt x="15085" y="7306"/>
                  <a:pt x="15022" y="7408"/>
                  <a:pt x="14982" y="7491"/>
                </a:cubicBezTo>
                <a:cubicBezTo>
                  <a:pt x="14954" y="7551"/>
                  <a:pt x="14927" y="7616"/>
                  <a:pt x="14883" y="7665"/>
                </a:cubicBezTo>
                <a:cubicBezTo>
                  <a:pt x="14825" y="7728"/>
                  <a:pt x="14827" y="7742"/>
                  <a:pt x="14908" y="7789"/>
                </a:cubicBezTo>
                <a:cubicBezTo>
                  <a:pt x="14993" y="7838"/>
                  <a:pt x="15093" y="7793"/>
                  <a:pt x="15156" y="7739"/>
                </a:cubicBezTo>
                <a:cubicBezTo>
                  <a:pt x="15190" y="7703"/>
                  <a:pt x="15212" y="7690"/>
                  <a:pt x="15255" y="7689"/>
                </a:cubicBezTo>
              </a:path>
              <a:path w="993" h="1018">
                <a:moveTo>
                  <a:pt x="15354" y="6970"/>
                </a:moveTo>
                <a:cubicBezTo>
                  <a:pt x="15331" y="7016"/>
                  <a:pt x="15272" y="7118"/>
                  <a:pt x="15280" y="7169"/>
                </a:cubicBezTo>
                <a:cubicBezTo>
                  <a:pt x="15288" y="7177"/>
                  <a:pt x="15296" y="7185"/>
                  <a:pt x="15304" y="7193"/>
                </a:cubicBezTo>
                <a:cubicBezTo>
                  <a:pt x="15373" y="7221"/>
                  <a:pt x="15396" y="7176"/>
                  <a:pt x="15453" y="7119"/>
                </a:cubicBezTo>
                <a:cubicBezTo>
                  <a:pt x="15491" y="7081"/>
                  <a:pt x="15491" y="6951"/>
                  <a:pt x="15478" y="6896"/>
                </a:cubicBezTo>
                <a:cubicBezTo>
                  <a:pt x="15470" y="6879"/>
                  <a:pt x="15461" y="6863"/>
                  <a:pt x="15453" y="6846"/>
                </a:cubicBezTo>
                <a:cubicBezTo>
                  <a:pt x="15361" y="6859"/>
                  <a:pt x="15394" y="6878"/>
                  <a:pt x="15329" y="6921"/>
                </a:cubicBezTo>
                <a:cubicBezTo>
                  <a:pt x="15321" y="6921"/>
                  <a:pt x="15312" y="6921"/>
                  <a:pt x="15304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Ink 17"/>
          <p:cNvSpPr/>
          <p:nvPr/>
        </p:nvSpPr>
        <p:spPr>
          <a:xfrm>
            <a:off x="5715000" y="2428920"/>
            <a:ext cx="446040" cy="420480"/>
          </a:xfrm>
          <a:custGeom>
            <a:avLst/>
            <a:gdLst/>
            <a:ahLst/>
            <a:rect l="l" t="t" r="r" b="b"/>
            <a:pathLst>
              <a:path w="1241" h="1167">
                <a:moveTo>
                  <a:pt x="15900" y="7169"/>
                </a:moveTo>
                <a:cubicBezTo>
                  <a:pt x="15879" y="7086"/>
                  <a:pt x="15955" y="7138"/>
                  <a:pt x="16024" y="7119"/>
                </a:cubicBezTo>
                <a:cubicBezTo>
                  <a:pt x="16088" y="7101"/>
                  <a:pt x="16157" y="7104"/>
                  <a:pt x="16222" y="7144"/>
                </a:cubicBezTo>
                <a:cubicBezTo>
                  <a:pt x="16273" y="7176"/>
                  <a:pt x="16287" y="7263"/>
                  <a:pt x="16272" y="7317"/>
                </a:cubicBezTo>
                <a:cubicBezTo>
                  <a:pt x="16244" y="7417"/>
                  <a:pt x="16142" y="7493"/>
                  <a:pt x="16098" y="7590"/>
                </a:cubicBezTo>
                <a:cubicBezTo>
                  <a:pt x="16068" y="7656"/>
                  <a:pt x="15991" y="7693"/>
                  <a:pt x="15974" y="7764"/>
                </a:cubicBezTo>
                <a:cubicBezTo>
                  <a:pt x="15959" y="7826"/>
                  <a:pt x="16010" y="7901"/>
                  <a:pt x="16073" y="7913"/>
                </a:cubicBezTo>
                <a:cubicBezTo>
                  <a:pt x="16168" y="7913"/>
                  <a:pt x="16211" y="7906"/>
                  <a:pt x="16272" y="7863"/>
                </a:cubicBezTo>
              </a:path>
              <a:path w="1241" h="1167">
                <a:moveTo>
                  <a:pt x="16818" y="7144"/>
                </a:moveTo>
                <a:cubicBezTo>
                  <a:pt x="16677" y="7144"/>
                  <a:pt x="16651" y="7134"/>
                  <a:pt x="16545" y="7218"/>
                </a:cubicBezTo>
                <a:cubicBezTo>
                  <a:pt x="16484" y="7267"/>
                  <a:pt x="16484" y="7329"/>
                  <a:pt x="16520" y="7392"/>
                </a:cubicBezTo>
                <a:cubicBezTo>
                  <a:pt x="16588" y="7510"/>
                  <a:pt x="16682" y="7598"/>
                  <a:pt x="16718" y="7739"/>
                </a:cubicBezTo>
                <a:cubicBezTo>
                  <a:pt x="16718" y="7756"/>
                  <a:pt x="16718" y="7772"/>
                  <a:pt x="16718" y="7789"/>
                </a:cubicBezTo>
                <a:cubicBezTo>
                  <a:pt x="16666" y="7820"/>
                  <a:pt x="16595" y="7818"/>
                  <a:pt x="16545" y="7764"/>
                </a:cubicBezTo>
                <a:cubicBezTo>
                  <a:pt x="16507" y="7723"/>
                  <a:pt x="16475" y="7646"/>
                  <a:pt x="16495" y="7590"/>
                </a:cubicBezTo>
                <a:cubicBezTo>
                  <a:pt x="16532" y="7488"/>
                  <a:pt x="16617" y="7439"/>
                  <a:pt x="16669" y="7342"/>
                </a:cubicBezTo>
                <a:cubicBezTo>
                  <a:pt x="16699" y="7286"/>
                  <a:pt x="16722" y="7264"/>
                  <a:pt x="16768" y="7218"/>
                </a:cubicBezTo>
              </a:path>
              <a:path w="1241" h="1167">
                <a:moveTo>
                  <a:pt x="17090" y="6747"/>
                </a:moveTo>
                <a:cubicBezTo>
                  <a:pt x="17110" y="6848"/>
                  <a:pt x="17080" y="6917"/>
                  <a:pt x="17066" y="7020"/>
                </a:cubicBezTo>
                <a:cubicBezTo>
                  <a:pt x="17066" y="7069"/>
                  <a:pt x="17066" y="7086"/>
                  <a:pt x="17066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Ink 18"/>
          <p:cNvSpPr/>
          <p:nvPr/>
        </p:nvSpPr>
        <p:spPr>
          <a:xfrm>
            <a:off x="6340320" y="2490840"/>
            <a:ext cx="749520" cy="349200"/>
          </a:xfrm>
          <a:custGeom>
            <a:avLst/>
            <a:gdLst/>
            <a:ahLst/>
            <a:rect l="l" t="t" r="r" b="b"/>
            <a:pathLst>
              <a:path w="2085" h="968">
                <a:moveTo>
                  <a:pt x="17636" y="7144"/>
                </a:moveTo>
                <a:cubicBezTo>
                  <a:pt x="17668" y="7100"/>
                  <a:pt x="17727" y="7035"/>
                  <a:pt x="17785" y="7020"/>
                </a:cubicBezTo>
                <a:cubicBezTo>
                  <a:pt x="17844" y="7004"/>
                  <a:pt x="17898" y="7061"/>
                  <a:pt x="17884" y="7119"/>
                </a:cubicBezTo>
                <a:cubicBezTo>
                  <a:pt x="17868" y="7187"/>
                  <a:pt x="17833" y="7296"/>
                  <a:pt x="17760" y="7317"/>
                </a:cubicBezTo>
                <a:cubicBezTo>
                  <a:pt x="17744" y="7317"/>
                  <a:pt x="17727" y="7317"/>
                  <a:pt x="17711" y="7317"/>
                </a:cubicBezTo>
                <a:cubicBezTo>
                  <a:pt x="17776" y="7357"/>
                  <a:pt x="17804" y="7355"/>
                  <a:pt x="17859" y="7417"/>
                </a:cubicBezTo>
                <a:cubicBezTo>
                  <a:pt x="17904" y="7468"/>
                  <a:pt x="17976" y="7537"/>
                  <a:pt x="17959" y="7615"/>
                </a:cubicBezTo>
                <a:cubicBezTo>
                  <a:pt x="17942" y="7691"/>
                  <a:pt x="17862" y="7745"/>
                  <a:pt x="17810" y="7789"/>
                </a:cubicBezTo>
                <a:cubicBezTo>
                  <a:pt x="17749" y="7841"/>
                  <a:pt x="17689" y="7811"/>
                  <a:pt x="17636" y="7764"/>
                </a:cubicBezTo>
                <a:cubicBezTo>
                  <a:pt x="17597" y="7729"/>
                  <a:pt x="17611" y="7689"/>
                  <a:pt x="17611" y="7640"/>
                </a:cubicBezTo>
              </a:path>
              <a:path w="2085" h="968">
                <a:moveTo>
                  <a:pt x="18157" y="7268"/>
                </a:moveTo>
                <a:cubicBezTo>
                  <a:pt x="18150" y="7386"/>
                  <a:pt x="18129" y="7493"/>
                  <a:pt x="18281" y="7441"/>
                </a:cubicBezTo>
                <a:cubicBezTo>
                  <a:pt x="18335" y="7415"/>
                  <a:pt x="18355" y="7403"/>
                  <a:pt x="18380" y="7367"/>
                </a:cubicBezTo>
              </a:path>
              <a:path w="2085" h="968">
                <a:moveTo>
                  <a:pt x="18430" y="6921"/>
                </a:moveTo>
                <a:cubicBezTo>
                  <a:pt x="18388" y="7046"/>
                  <a:pt x="18398" y="7184"/>
                  <a:pt x="18380" y="7317"/>
                </a:cubicBezTo>
                <a:cubicBezTo>
                  <a:pt x="18361" y="7453"/>
                  <a:pt x="18355" y="7576"/>
                  <a:pt x="18355" y="7714"/>
                </a:cubicBezTo>
                <a:cubicBezTo>
                  <a:pt x="18355" y="7770"/>
                  <a:pt x="18372" y="7784"/>
                  <a:pt x="18380" y="7838"/>
                </a:cubicBezTo>
              </a:path>
              <a:path w="2085" h="968">
                <a:moveTo>
                  <a:pt x="18579" y="7739"/>
                </a:moveTo>
                <a:cubicBezTo>
                  <a:pt x="18579" y="7796"/>
                  <a:pt x="18579" y="7838"/>
                  <a:pt x="18579" y="7789"/>
                </a:cubicBezTo>
              </a:path>
              <a:path w="2085" h="968">
                <a:moveTo>
                  <a:pt x="18876" y="7119"/>
                </a:moveTo>
                <a:cubicBezTo>
                  <a:pt x="18957" y="7087"/>
                  <a:pt x="18978" y="7056"/>
                  <a:pt x="19050" y="7094"/>
                </a:cubicBezTo>
                <a:cubicBezTo>
                  <a:pt x="19067" y="7102"/>
                  <a:pt x="19083" y="7111"/>
                  <a:pt x="19100" y="7119"/>
                </a:cubicBezTo>
                <a:cubicBezTo>
                  <a:pt x="19083" y="7187"/>
                  <a:pt x="19043" y="7249"/>
                  <a:pt x="18976" y="7293"/>
                </a:cubicBezTo>
                <a:cubicBezTo>
                  <a:pt x="18930" y="7323"/>
                  <a:pt x="18894" y="7316"/>
                  <a:pt x="18852" y="7342"/>
                </a:cubicBezTo>
                <a:cubicBezTo>
                  <a:pt x="18939" y="7353"/>
                  <a:pt x="18962" y="7378"/>
                  <a:pt x="19025" y="7441"/>
                </a:cubicBezTo>
                <a:cubicBezTo>
                  <a:pt x="19092" y="7508"/>
                  <a:pt x="19143" y="7597"/>
                  <a:pt x="19100" y="7689"/>
                </a:cubicBezTo>
                <a:cubicBezTo>
                  <a:pt x="19053" y="7791"/>
                  <a:pt x="18978" y="7849"/>
                  <a:pt x="18876" y="7863"/>
                </a:cubicBezTo>
                <a:cubicBezTo>
                  <a:pt x="18783" y="7876"/>
                  <a:pt x="18802" y="7806"/>
                  <a:pt x="18802" y="7739"/>
                </a:cubicBezTo>
              </a:path>
              <a:path w="2085" h="968">
                <a:moveTo>
                  <a:pt x="19348" y="7144"/>
                </a:moveTo>
                <a:cubicBezTo>
                  <a:pt x="19479" y="7106"/>
                  <a:pt x="19494" y="7089"/>
                  <a:pt x="19571" y="7094"/>
                </a:cubicBezTo>
                <a:cubicBezTo>
                  <a:pt x="19606" y="7222"/>
                  <a:pt x="19585" y="7251"/>
                  <a:pt x="19521" y="7367"/>
                </a:cubicBezTo>
                <a:cubicBezTo>
                  <a:pt x="19468" y="7463"/>
                  <a:pt x="19388" y="7511"/>
                  <a:pt x="19348" y="7615"/>
                </a:cubicBezTo>
                <a:cubicBezTo>
                  <a:pt x="19309" y="7716"/>
                  <a:pt x="19308" y="7781"/>
                  <a:pt x="19372" y="7863"/>
                </a:cubicBezTo>
                <a:cubicBezTo>
                  <a:pt x="19450" y="7963"/>
                  <a:pt x="19594" y="7831"/>
                  <a:pt x="19645" y="7789"/>
                </a:cubicBezTo>
                <a:cubicBezTo>
                  <a:pt x="19662" y="7772"/>
                  <a:pt x="19678" y="7756"/>
                  <a:pt x="19695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Ink 19"/>
          <p:cNvSpPr/>
          <p:nvPr/>
        </p:nvSpPr>
        <p:spPr>
          <a:xfrm>
            <a:off x="7215120" y="2411280"/>
            <a:ext cx="71640" cy="125640"/>
          </a:xfrm>
          <a:custGeom>
            <a:avLst/>
            <a:gdLst/>
            <a:ahLst/>
            <a:rect l="l" t="t" r="r" b="b"/>
            <a:pathLst>
              <a:path w="200" h="349">
                <a:moveTo>
                  <a:pt x="20042" y="6747"/>
                </a:moveTo>
                <a:cubicBezTo>
                  <a:pt x="20042" y="6813"/>
                  <a:pt x="20042" y="6879"/>
                  <a:pt x="20042" y="6945"/>
                </a:cubicBezTo>
              </a:path>
              <a:path w="200" h="349">
                <a:moveTo>
                  <a:pt x="20216" y="6697"/>
                </a:moveTo>
                <a:cubicBezTo>
                  <a:pt x="20216" y="6823"/>
                  <a:pt x="20221" y="6925"/>
                  <a:pt x="20241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Ink 20"/>
          <p:cNvSpPr/>
          <p:nvPr/>
        </p:nvSpPr>
        <p:spPr>
          <a:xfrm>
            <a:off x="4732200" y="3295800"/>
            <a:ext cx="285840" cy="384120"/>
          </a:xfrm>
          <a:custGeom>
            <a:avLst/>
            <a:gdLst/>
            <a:ahLst/>
            <a:rect l="l" t="t" r="r" b="b"/>
            <a:pathLst>
              <a:path w="795" h="1068">
                <a:moveTo>
                  <a:pt x="13618" y="9327"/>
                </a:moveTo>
                <a:cubicBezTo>
                  <a:pt x="13618" y="9388"/>
                  <a:pt x="13609" y="9404"/>
                  <a:pt x="13643" y="9426"/>
                </a:cubicBezTo>
                <a:cubicBezTo>
                  <a:pt x="13602" y="9385"/>
                  <a:pt x="13570" y="9354"/>
                  <a:pt x="13543" y="9302"/>
                </a:cubicBezTo>
                <a:cubicBezTo>
                  <a:pt x="13523" y="9264"/>
                  <a:pt x="13494" y="9168"/>
                  <a:pt x="13444" y="9153"/>
                </a:cubicBezTo>
                <a:cubicBezTo>
                  <a:pt x="13384" y="9136"/>
                  <a:pt x="13297" y="9232"/>
                  <a:pt x="13271" y="9277"/>
                </a:cubicBezTo>
                <a:cubicBezTo>
                  <a:pt x="13211" y="9383"/>
                  <a:pt x="13160" y="9535"/>
                  <a:pt x="13146" y="9649"/>
                </a:cubicBezTo>
                <a:cubicBezTo>
                  <a:pt x="13135" y="9744"/>
                  <a:pt x="13226" y="9729"/>
                  <a:pt x="13271" y="9723"/>
                </a:cubicBezTo>
                <a:cubicBezTo>
                  <a:pt x="13337" y="9714"/>
                  <a:pt x="13383" y="9661"/>
                  <a:pt x="13419" y="9599"/>
                </a:cubicBezTo>
                <a:cubicBezTo>
                  <a:pt x="13457" y="9534"/>
                  <a:pt x="13478" y="9462"/>
                  <a:pt x="13519" y="9401"/>
                </a:cubicBezTo>
                <a:cubicBezTo>
                  <a:pt x="13519" y="9570"/>
                  <a:pt x="13512" y="9730"/>
                  <a:pt x="13494" y="9897"/>
                </a:cubicBezTo>
                <a:cubicBezTo>
                  <a:pt x="13483" y="10002"/>
                  <a:pt x="13494" y="10114"/>
                  <a:pt x="13494" y="10220"/>
                </a:cubicBezTo>
              </a:path>
              <a:path w="795" h="1068">
                <a:moveTo>
                  <a:pt x="13866" y="10120"/>
                </a:moveTo>
                <a:cubicBezTo>
                  <a:pt x="13920" y="10193"/>
                  <a:pt x="13978" y="10227"/>
                  <a:pt x="13915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Ink 21"/>
          <p:cNvSpPr/>
          <p:nvPr/>
        </p:nvSpPr>
        <p:spPr>
          <a:xfrm>
            <a:off x="5446800" y="3268800"/>
            <a:ext cx="965160" cy="428400"/>
          </a:xfrm>
          <a:custGeom>
            <a:avLst/>
            <a:gdLst/>
            <a:ahLst/>
            <a:rect l="l" t="t" r="r" b="b"/>
            <a:pathLst>
              <a:path w="2680" h="1191">
                <a:moveTo>
                  <a:pt x="15205" y="9351"/>
                </a:moveTo>
                <a:cubicBezTo>
                  <a:pt x="15163" y="9478"/>
                  <a:pt x="15174" y="9588"/>
                  <a:pt x="15156" y="9723"/>
                </a:cubicBezTo>
                <a:cubicBezTo>
                  <a:pt x="15140" y="9842"/>
                  <a:pt x="15131" y="9950"/>
                  <a:pt x="15131" y="10071"/>
                </a:cubicBezTo>
                <a:cubicBezTo>
                  <a:pt x="15131" y="10231"/>
                  <a:pt x="15138" y="10117"/>
                  <a:pt x="15180" y="9996"/>
                </a:cubicBezTo>
              </a:path>
              <a:path w="2680" h="1191">
                <a:moveTo>
                  <a:pt x="15354" y="9376"/>
                </a:moveTo>
                <a:cubicBezTo>
                  <a:pt x="15467" y="9353"/>
                  <a:pt x="15561" y="9351"/>
                  <a:pt x="15677" y="9351"/>
                </a:cubicBezTo>
                <a:cubicBezTo>
                  <a:pt x="15730" y="9351"/>
                  <a:pt x="15925" y="9315"/>
                  <a:pt x="15925" y="9401"/>
                </a:cubicBezTo>
                <a:cubicBezTo>
                  <a:pt x="15925" y="9453"/>
                  <a:pt x="15873" y="9523"/>
                  <a:pt x="15850" y="9575"/>
                </a:cubicBezTo>
                <a:cubicBezTo>
                  <a:pt x="15799" y="9686"/>
                  <a:pt x="15767" y="9833"/>
                  <a:pt x="15751" y="9947"/>
                </a:cubicBezTo>
                <a:cubicBezTo>
                  <a:pt x="15747" y="9972"/>
                  <a:pt x="15766" y="10276"/>
                  <a:pt x="15776" y="10269"/>
                </a:cubicBezTo>
                <a:cubicBezTo>
                  <a:pt x="15784" y="10244"/>
                  <a:pt x="15793" y="10220"/>
                  <a:pt x="15801" y="10195"/>
                </a:cubicBezTo>
              </a:path>
              <a:path w="2680" h="1191">
                <a:moveTo>
                  <a:pt x="15999" y="9401"/>
                </a:moveTo>
                <a:cubicBezTo>
                  <a:pt x="15999" y="9479"/>
                  <a:pt x="15984" y="9497"/>
                  <a:pt x="16024" y="9525"/>
                </a:cubicBezTo>
                <a:cubicBezTo>
                  <a:pt x="16115" y="9513"/>
                  <a:pt x="16141" y="9493"/>
                  <a:pt x="16197" y="9426"/>
                </a:cubicBezTo>
                <a:cubicBezTo>
                  <a:pt x="16256" y="9355"/>
                  <a:pt x="16200" y="9304"/>
                  <a:pt x="16148" y="9252"/>
                </a:cubicBezTo>
                <a:cubicBezTo>
                  <a:pt x="16105" y="9208"/>
                  <a:pt x="16010" y="9210"/>
                  <a:pt x="15949" y="9203"/>
                </a:cubicBezTo>
              </a:path>
              <a:path w="2680" h="1191">
                <a:moveTo>
                  <a:pt x="16570" y="9500"/>
                </a:moveTo>
                <a:cubicBezTo>
                  <a:pt x="16642" y="9464"/>
                  <a:pt x="16708" y="9431"/>
                  <a:pt x="16793" y="9451"/>
                </a:cubicBezTo>
                <a:cubicBezTo>
                  <a:pt x="16891" y="9474"/>
                  <a:pt x="16892" y="9513"/>
                  <a:pt x="16892" y="9599"/>
                </a:cubicBezTo>
                <a:cubicBezTo>
                  <a:pt x="16892" y="9682"/>
                  <a:pt x="16839" y="9734"/>
                  <a:pt x="16793" y="9798"/>
                </a:cubicBezTo>
                <a:cubicBezTo>
                  <a:pt x="16772" y="9827"/>
                  <a:pt x="16663" y="9949"/>
                  <a:pt x="16669" y="9996"/>
                </a:cubicBezTo>
                <a:cubicBezTo>
                  <a:pt x="16679" y="10071"/>
                  <a:pt x="16726" y="10116"/>
                  <a:pt x="16793" y="10120"/>
                </a:cubicBezTo>
                <a:cubicBezTo>
                  <a:pt x="16849" y="10123"/>
                  <a:pt x="16869" y="10098"/>
                  <a:pt x="16917" y="10071"/>
                </a:cubicBezTo>
              </a:path>
              <a:path w="2680" h="1191">
                <a:moveTo>
                  <a:pt x="17264" y="9475"/>
                </a:moveTo>
                <a:cubicBezTo>
                  <a:pt x="17319" y="9469"/>
                  <a:pt x="17459" y="9426"/>
                  <a:pt x="17487" y="9525"/>
                </a:cubicBezTo>
                <a:cubicBezTo>
                  <a:pt x="17505" y="9589"/>
                  <a:pt x="17434" y="9647"/>
                  <a:pt x="17388" y="9674"/>
                </a:cubicBezTo>
                <a:cubicBezTo>
                  <a:pt x="17345" y="9696"/>
                  <a:pt x="17333" y="9699"/>
                  <a:pt x="17314" y="9723"/>
                </a:cubicBezTo>
                <a:cubicBezTo>
                  <a:pt x="17360" y="9770"/>
                  <a:pt x="17411" y="9784"/>
                  <a:pt x="17462" y="9823"/>
                </a:cubicBezTo>
                <a:cubicBezTo>
                  <a:pt x="17523" y="9870"/>
                  <a:pt x="17604" y="9957"/>
                  <a:pt x="17611" y="10021"/>
                </a:cubicBezTo>
                <a:cubicBezTo>
                  <a:pt x="17624" y="10131"/>
                  <a:pt x="17561" y="10120"/>
                  <a:pt x="17487" y="10145"/>
                </a:cubicBezTo>
                <a:cubicBezTo>
                  <a:pt x="17392" y="10177"/>
                  <a:pt x="17346" y="10219"/>
                  <a:pt x="17264" y="10145"/>
                </a:cubicBezTo>
                <a:cubicBezTo>
                  <a:pt x="17215" y="10101"/>
                  <a:pt x="17245" y="10073"/>
                  <a:pt x="17264" y="10021"/>
                </a:cubicBezTo>
              </a:path>
              <a:path w="2680" h="1191">
                <a:moveTo>
                  <a:pt x="17810" y="9079"/>
                </a:moveTo>
                <a:cubicBezTo>
                  <a:pt x="17810" y="9244"/>
                  <a:pt x="17811" y="9295"/>
                  <a:pt x="17785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Ink 22"/>
          <p:cNvSpPr/>
          <p:nvPr/>
        </p:nvSpPr>
        <p:spPr>
          <a:xfrm>
            <a:off x="6572160" y="3232080"/>
            <a:ext cx="1000080" cy="482760"/>
          </a:xfrm>
          <a:custGeom>
            <a:avLst/>
            <a:gdLst/>
            <a:ahLst/>
            <a:rect l="l" t="t" r="r" b="b"/>
            <a:pathLst>
              <a:path w="2779" h="1341">
                <a:moveTo>
                  <a:pt x="18355" y="9451"/>
                </a:moveTo>
                <a:cubicBezTo>
                  <a:pt x="18324" y="9627"/>
                  <a:pt x="18286" y="9797"/>
                  <a:pt x="18256" y="9971"/>
                </a:cubicBezTo>
                <a:cubicBezTo>
                  <a:pt x="18245" y="10033"/>
                  <a:pt x="18256" y="10107"/>
                  <a:pt x="18256" y="10170"/>
                </a:cubicBezTo>
              </a:path>
              <a:path w="2779" h="1341">
                <a:moveTo>
                  <a:pt x="18628" y="9426"/>
                </a:moveTo>
                <a:cubicBezTo>
                  <a:pt x="18789" y="9486"/>
                  <a:pt x="18821" y="9487"/>
                  <a:pt x="18901" y="9550"/>
                </a:cubicBezTo>
                <a:cubicBezTo>
                  <a:pt x="18855" y="9613"/>
                  <a:pt x="18813" y="9627"/>
                  <a:pt x="18752" y="9674"/>
                </a:cubicBezTo>
                <a:cubicBezTo>
                  <a:pt x="18724" y="9703"/>
                  <a:pt x="18711" y="9711"/>
                  <a:pt x="18678" y="9699"/>
                </a:cubicBezTo>
                <a:cubicBezTo>
                  <a:pt x="18741" y="9772"/>
                  <a:pt x="18809" y="9810"/>
                  <a:pt x="18876" y="9897"/>
                </a:cubicBezTo>
                <a:cubicBezTo>
                  <a:pt x="18935" y="9973"/>
                  <a:pt x="18985" y="10060"/>
                  <a:pt x="18901" y="10145"/>
                </a:cubicBezTo>
                <a:cubicBezTo>
                  <a:pt x="18881" y="10165"/>
                  <a:pt x="18777" y="10239"/>
                  <a:pt x="18752" y="10244"/>
                </a:cubicBezTo>
                <a:cubicBezTo>
                  <a:pt x="18669" y="10260"/>
                  <a:pt x="18654" y="10221"/>
                  <a:pt x="18604" y="10170"/>
                </a:cubicBezTo>
              </a:path>
              <a:path w="2779" h="1341">
                <a:moveTo>
                  <a:pt x="19149" y="10319"/>
                </a:moveTo>
                <a:cubicBezTo>
                  <a:pt x="19157" y="10294"/>
                  <a:pt x="19166" y="10269"/>
                  <a:pt x="19174" y="10244"/>
                </a:cubicBezTo>
              </a:path>
              <a:path w="2779" h="1341">
                <a:moveTo>
                  <a:pt x="19720" y="9550"/>
                </a:moveTo>
                <a:cubicBezTo>
                  <a:pt x="19646" y="9525"/>
                  <a:pt x="19553" y="9509"/>
                  <a:pt x="19472" y="9525"/>
                </a:cubicBezTo>
                <a:cubicBezTo>
                  <a:pt x="19386" y="9542"/>
                  <a:pt x="19347" y="9585"/>
                  <a:pt x="19372" y="9674"/>
                </a:cubicBezTo>
                <a:cubicBezTo>
                  <a:pt x="19402" y="9781"/>
                  <a:pt x="19485" y="9820"/>
                  <a:pt x="19596" y="9798"/>
                </a:cubicBezTo>
                <a:cubicBezTo>
                  <a:pt x="19683" y="9781"/>
                  <a:pt x="19701" y="9714"/>
                  <a:pt x="19745" y="9649"/>
                </a:cubicBezTo>
                <a:cubicBezTo>
                  <a:pt x="19769" y="9624"/>
                  <a:pt x="19777" y="9615"/>
                  <a:pt x="19794" y="9599"/>
                </a:cubicBezTo>
                <a:cubicBezTo>
                  <a:pt x="19720" y="9692"/>
                  <a:pt x="19705" y="9809"/>
                  <a:pt x="19670" y="9922"/>
                </a:cubicBezTo>
                <a:cubicBezTo>
                  <a:pt x="19647" y="9996"/>
                  <a:pt x="19619" y="10081"/>
                  <a:pt x="19670" y="10145"/>
                </a:cubicBezTo>
                <a:cubicBezTo>
                  <a:pt x="19703" y="10178"/>
                  <a:pt x="19720" y="10178"/>
                  <a:pt x="19745" y="10120"/>
                </a:cubicBezTo>
              </a:path>
              <a:path w="2779" h="1341">
                <a:moveTo>
                  <a:pt x="20092" y="9426"/>
                </a:moveTo>
                <a:cubicBezTo>
                  <a:pt x="20222" y="9435"/>
                  <a:pt x="20272" y="9441"/>
                  <a:pt x="20315" y="9575"/>
                </a:cubicBezTo>
                <a:cubicBezTo>
                  <a:pt x="20361" y="9717"/>
                  <a:pt x="20357" y="9874"/>
                  <a:pt x="20265" y="9996"/>
                </a:cubicBezTo>
                <a:cubicBezTo>
                  <a:pt x="20189" y="10097"/>
                  <a:pt x="20073" y="10158"/>
                  <a:pt x="19993" y="10244"/>
                </a:cubicBezTo>
                <a:cubicBezTo>
                  <a:pt x="19985" y="10252"/>
                  <a:pt x="19976" y="10261"/>
                  <a:pt x="19968" y="10269"/>
                </a:cubicBezTo>
                <a:cubicBezTo>
                  <a:pt x="19978" y="10169"/>
                  <a:pt x="19999" y="10148"/>
                  <a:pt x="20092" y="10096"/>
                </a:cubicBezTo>
                <a:cubicBezTo>
                  <a:pt x="20227" y="10021"/>
                  <a:pt x="20229" y="10113"/>
                  <a:pt x="20365" y="10170"/>
                </a:cubicBezTo>
                <a:cubicBezTo>
                  <a:pt x="20381" y="10170"/>
                  <a:pt x="20398" y="10170"/>
                  <a:pt x="20414" y="10170"/>
                </a:cubicBezTo>
              </a:path>
              <a:path w="2779" h="1341">
                <a:moveTo>
                  <a:pt x="20786" y="9153"/>
                </a:moveTo>
                <a:cubicBezTo>
                  <a:pt x="20821" y="9188"/>
                  <a:pt x="20825" y="9210"/>
                  <a:pt x="20786" y="9252"/>
                </a:cubicBezTo>
              </a:path>
              <a:path w="2779" h="1341">
                <a:moveTo>
                  <a:pt x="21034" y="8979"/>
                </a:moveTo>
                <a:cubicBezTo>
                  <a:pt x="21012" y="9058"/>
                  <a:pt x="20996" y="9107"/>
                  <a:pt x="20960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Tahoma"/>
              </a:rPr>
              <a:t>Lesson 4.2</a:t>
            </a:r>
            <a:br>
              <a:rPr sz="8500"/>
            </a:br>
            <a:r>
              <a:rPr b="0" lang="en-US" sz="8500" spc="-1" strike="noStrike">
                <a:solidFill>
                  <a:srgbClr val="ffffff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Content Placeholder 3" descr="Unit%20Circle%20Blank.jpg"/>
          <p:cNvPicPr/>
          <p:nvPr/>
        </p:nvPicPr>
        <p:blipFill>
          <a:blip r:embed="rId1"/>
          <a:stretch/>
        </p:blipFill>
        <p:spPr>
          <a:xfrm>
            <a:off x="1600200" y="258840"/>
            <a:ext cx="5694480" cy="6599160"/>
          </a:xfrm>
          <a:prstGeom prst="rect">
            <a:avLst/>
          </a:prstGeom>
          <a:ln w="0">
            <a:noFill/>
          </a:ln>
        </p:spPr>
      </p:pic>
      <p:sp>
        <p:nvSpPr>
          <p:cNvPr id="87" name="Ink 4"/>
          <p:cNvSpPr/>
          <p:nvPr/>
        </p:nvSpPr>
        <p:spPr>
          <a:xfrm>
            <a:off x="6759720" y="3473280"/>
            <a:ext cx="19080" cy="187560"/>
          </a:xfrm>
          <a:custGeom>
            <a:avLst/>
            <a:gdLst/>
            <a:ahLst/>
            <a:rect l="l" t="t" r="r" b="b"/>
            <a:pathLst>
              <a:path w="51" h="522">
                <a:moveTo>
                  <a:pt x="18777" y="9649"/>
                </a:moveTo>
                <a:cubicBezTo>
                  <a:pt x="18777" y="9724"/>
                  <a:pt x="18790" y="9778"/>
                  <a:pt x="18802" y="9847"/>
                </a:cubicBezTo>
                <a:cubicBezTo>
                  <a:pt x="18820" y="9954"/>
                  <a:pt x="18772" y="10079"/>
                  <a:pt x="18827" y="10170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Ink 5"/>
          <p:cNvSpPr/>
          <p:nvPr/>
        </p:nvSpPr>
        <p:spPr>
          <a:xfrm>
            <a:off x="6973920" y="343836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19596" y="10120"/>
                </a:moveTo>
                <a:cubicBezTo>
                  <a:pt x="19676" y="10109"/>
                  <a:pt x="19694" y="10083"/>
                  <a:pt x="19745" y="10021"/>
                </a:cubicBezTo>
                <a:cubicBezTo>
                  <a:pt x="19791" y="9965"/>
                  <a:pt x="19814" y="9898"/>
                  <a:pt x="19794" y="9823"/>
                </a:cubicBezTo>
                <a:cubicBezTo>
                  <a:pt x="19783" y="9783"/>
                  <a:pt x="19747" y="9651"/>
                  <a:pt x="19720" y="9624"/>
                </a:cubicBezTo>
                <a:cubicBezTo>
                  <a:pt x="19685" y="9589"/>
                  <a:pt x="19597" y="9539"/>
                  <a:pt x="19546" y="9550"/>
                </a:cubicBezTo>
                <a:cubicBezTo>
                  <a:pt x="19511" y="9558"/>
                  <a:pt x="19409" y="9607"/>
                  <a:pt x="19397" y="9649"/>
                </a:cubicBezTo>
                <a:cubicBezTo>
                  <a:pt x="19379" y="9713"/>
                  <a:pt x="19372" y="9778"/>
                  <a:pt x="19372" y="9847"/>
                </a:cubicBezTo>
                <a:cubicBezTo>
                  <a:pt x="19372" y="9916"/>
                  <a:pt x="19367" y="9965"/>
                  <a:pt x="19397" y="10021"/>
                </a:cubicBezTo>
                <a:cubicBezTo>
                  <a:pt x="19420" y="10065"/>
                  <a:pt x="19452" y="10117"/>
                  <a:pt x="19496" y="10145"/>
                </a:cubicBezTo>
                <a:cubicBezTo>
                  <a:pt x="19540" y="10167"/>
                  <a:pt x="19552" y="10170"/>
                  <a:pt x="19571" y="10195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Ink 6"/>
          <p:cNvSpPr/>
          <p:nvPr/>
        </p:nvSpPr>
        <p:spPr>
          <a:xfrm>
            <a:off x="6313320" y="3438360"/>
            <a:ext cx="277920" cy="419400"/>
          </a:xfrm>
          <a:custGeom>
            <a:avLst/>
            <a:gdLst/>
            <a:ahLst/>
            <a:rect l="l" t="t" r="r" b="b"/>
            <a:pathLst>
              <a:path w="770" h="1167">
                <a:moveTo>
                  <a:pt x="17884" y="9773"/>
                </a:moveTo>
                <a:cubicBezTo>
                  <a:pt x="17850" y="9738"/>
                  <a:pt x="17818" y="9680"/>
                  <a:pt x="17760" y="9699"/>
                </a:cubicBezTo>
                <a:cubicBezTo>
                  <a:pt x="17709" y="9715"/>
                  <a:pt x="17652" y="9731"/>
                  <a:pt x="17636" y="9798"/>
                </a:cubicBezTo>
                <a:cubicBezTo>
                  <a:pt x="17629" y="9829"/>
                  <a:pt x="17649" y="9965"/>
                  <a:pt x="17661" y="9996"/>
                </a:cubicBezTo>
                <a:cubicBezTo>
                  <a:pt x="17678" y="10039"/>
                  <a:pt x="17726" y="10086"/>
                  <a:pt x="17760" y="10120"/>
                </a:cubicBezTo>
                <a:cubicBezTo>
                  <a:pt x="17810" y="10169"/>
                  <a:pt x="17877" y="10145"/>
                  <a:pt x="17934" y="10120"/>
                </a:cubicBezTo>
                <a:cubicBezTo>
                  <a:pt x="17994" y="10094"/>
                  <a:pt x="18004" y="10033"/>
                  <a:pt x="18008" y="9971"/>
                </a:cubicBezTo>
                <a:cubicBezTo>
                  <a:pt x="18011" y="9915"/>
                  <a:pt x="18005" y="9844"/>
                  <a:pt x="17983" y="9798"/>
                </a:cubicBezTo>
                <a:cubicBezTo>
                  <a:pt x="17954" y="9740"/>
                  <a:pt x="17877" y="9756"/>
                  <a:pt x="17835" y="9723"/>
                </a:cubicBezTo>
                <a:cubicBezTo>
                  <a:pt x="17799" y="9695"/>
                  <a:pt x="17781" y="9699"/>
                  <a:pt x="17735" y="9699"/>
                </a:cubicBezTo>
              </a:path>
              <a:path w="770" h="1167">
                <a:moveTo>
                  <a:pt x="17934" y="9748"/>
                </a:moveTo>
                <a:cubicBezTo>
                  <a:pt x="17887" y="9720"/>
                  <a:pt x="17842" y="9702"/>
                  <a:pt x="17785" y="9699"/>
                </a:cubicBezTo>
                <a:cubicBezTo>
                  <a:pt x="17722" y="9695"/>
                  <a:pt x="17635" y="9685"/>
                  <a:pt x="17587" y="9723"/>
                </a:cubicBezTo>
                <a:cubicBezTo>
                  <a:pt x="17522" y="9775"/>
                  <a:pt x="17531" y="9835"/>
                  <a:pt x="17562" y="9897"/>
                </a:cubicBezTo>
                <a:cubicBezTo>
                  <a:pt x="17590" y="9953"/>
                  <a:pt x="17609" y="9996"/>
                  <a:pt x="17636" y="10046"/>
                </a:cubicBezTo>
                <a:cubicBezTo>
                  <a:pt x="17666" y="10102"/>
                  <a:pt x="17742" y="10179"/>
                  <a:pt x="17810" y="10195"/>
                </a:cubicBezTo>
                <a:cubicBezTo>
                  <a:pt x="17886" y="10213"/>
                  <a:pt x="17933" y="10196"/>
                  <a:pt x="17983" y="10145"/>
                </a:cubicBezTo>
                <a:cubicBezTo>
                  <a:pt x="18027" y="10100"/>
                  <a:pt x="18054" y="10056"/>
                  <a:pt x="18058" y="9996"/>
                </a:cubicBezTo>
                <a:cubicBezTo>
                  <a:pt x="18063" y="9916"/>
                  <a:pt x="18065" y="9845"/>
                  <a:pt x="18033" y="9773"/>
                </a:cubicBezTo>
                <a:cubicBezTo>
                  <a:pt x="18013" y="9728"/>
                  <a:pt x="17992" y="9616"/>
                  <a:pt x="17934" y="9599"/>
                </a:cubicBezTo>
                <a:cubicBezTo>
                  <a:pt x="17882" y="9584"/>
                  <a:pt x="17827" y="9547"/>
                  <a:pt x="17785" y="9575"/>
                </a:cubicBezTo>
                <a:cubicBezTo>
                  <a:pt x="17777" y="9583"/>
                  <a:pt x="17768" y="9591"/>
                  <a:pt x="17760" y="9599"/>
                </a:cubicBezTo>
              </a:path>
              <a:path w="770" h="1167">
                <a:moveTo>
                  <a:pt x="17611" y="10393"/>
                </a:moveTo>
                <a:cubicBezTo>
                  <a:pt x="17676" y="10341"/>
                  <a:pt x="17731" y="10323"/>
                  <a:pt x="17810" y="10368"/>
                </a:cubicBezTo>
                <a:cubicBezTo>
                  <a:pt x="17871" y="10402"/>
                  <a:pt x="17826" y="10466"/>
                  <a:pt x="17785" y="10492"/>
                </a:cubicBezTo>
                <a:cubicBezTo>
                  <a:pt x="17722" y="10532"/>
                  <a:pt x="17665" y="10538"/>
                  <a:pt x="17611" y="10592"/>
                </a:cubicBezTo>
                <a:cubicBezTo>
                  <a:pt x="17587" y="10616"/>
                  <a:pt x="17578" y="10625"/>
                  <a:pt x="17562" y="10641"/>
                </a:cubicBezTo>
                <a:cubicBezTo>
                  <a:pt x="17638" y="10667"/>
                  <a:pt x="17703" y="10666"/>
                  <a:pt x="17785" y="10666"/>
                </a:cubicBezTo>
                <a:cubicBezTo>
                  <a:pt x="17830" y="10666"/>
                  <a:pt x="17843" y="10670"/>
                  <a:pt x="17859" y="10641"/>
                </a:cubicBezTo>
              </a:path>
              <a:path w="770" h="1167">
                <a:moveTo>
                  <a:pt x="18008" y="10319"/>
                </a:moveTo>
                <a:cubicBezTo>
                  <a:pt x="18107" y="10319"/>
                  <a:pt x="18207" y="10319"/>
                  <a:pt x="18306" y="10319"/>
                </a:cubicBezTo>
              </a:path>
              <a:path w="770" h="1167">
                <a:moveTo>
                  <a:pt x="18058" y="10368"/>
                </a:moveTo>
                <a:cubicBezTo>
                  <a:pt x="18020" y="10494"/>
                  <a:pt x="18008" y="10545"/>
                  <a:pt x="18008" y="10666"/>
                </a:cubicBezTo>
              </a:path>
              <a:path w="770" h="1167">
                <a:moveTo>
                  <a:pt x="18231" y="10418"/>
                </a:moveTo>
                <a:cubicBezTo>
                  <a:pt x="18231" y="10483"/>
                  <a:pt x="18231" y="10707"/>
                  <a:pt x="18231" y="10691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Ink 7"/>
          <p:cNvSpPr/>
          <p:nvPr/>
        </p:nvSpPr>
        <p:spPr>
          <a:xfrm>
            <a:off x="6170760" y="4330800"/>
            <a:ext cx="214200" cy="428400"/>
          </a:xfrm>
          <a:custGeom>
            <a:avLst/>
            <a:gdLst/>
            <a:ahLst/>
            <a:rect l="l" t="t" r="r" b="b"/>
            <a:pathLst>
              <a:path w="596" h="1192">
                <a:moveTo>
                  <a:pt x="17190" y="12055"/>
                </a:moveTo>
                <a:cubicBezTo>
                  <a:pt x="17181" y="12162"/>
                  <a:pt x="17145" y="12245"/>
                  <a:pt x="17140" y="12353"/>
                </a:cubicBezTo>
                <a:cubicBezTo>
                  <a:pt x="17137" y="12427"/>
                  <a:pt x="17144" y="12483"/>
                  <a:pt x="17165" y="12551"/>
                </a:cubicBezTo>
              </a:path>
              <a:path w="596" h="1192">
                <a:moveTo>
                  <a:pt x="17338" y="12030"/>
                </a:moveTo>
                <a:cubicBezTo>
                  <a:pt x="17338" y="12146"/>
                  <a:pt x="17295" y="12293"/>
                  <a:pt x="17314" y="12402"/>
                </a:cubicBezTo>
                <a:cubicBezTo>
                  <a:pt x="17322" y="12449"/>
                  <a:pt x="17338" y="12475"/>
                  <a:pt x="17338" y="12526"/>
                </a:cubicBezTo>
              </a:path>
              <a:path w="596" h="1192">
                <a:moveTo>
                  <a:pt x="17438" y="12105"/>
                </a:moveTo>
                <a:cubicBezTo>
                  <a:pt x="17518" y="12044"/>
                  <a:pt x="17556" y="12055"/>
                  <a:pt x="17661" y="12055"/>
                </a:cubicBezTo>
                <a:cubicBezTo>
                  <a:pt x="17706" y="12055"/>
                  <a:pt x="17719" y="12059"/>
                  <a:pt x="17735" y="12030"/>
                </a:cubicBezTo>
              </a:path>
              <a:path w="596" h="1192">
                <a:moveTo>
                  <a:pt x="17487" y="12105"/>
                </a:moveTo>
                <a:cubicBezTo>
                  <a:pt x="17455" y="12194"/>
                  <a:pt x="17386" y="12274"/>
                  <a:pt x="17413" y="12353"/>
                </a:cubicBezTo>
              </a:path>
              <a:path w="596" h="1192">
                <a:moveTo>
                  <a:pt x="17686" y="12055"/>
                </a:moveTo>
                <a:cubicBezTo>
                  <a:pt x="17669" y="12187"/>
                  <a:pt x="17661" y="12296"/>
                  <a:pt x="17661" y="12427"/>
                </a:cubicBezTo>
                <a:cubicBezTo>
                  <a:pt x="17661" y="12495"/>
                  <a:pt x="17644" y="12537"/>
                  <a:pt x="17636" y="12601"/>
                </a:cubicBezTo>
              </a:path>
              <a:path w="596" h="1192">
                <a:moveTo>
                  <a:pt x="17140" y="12576"/>
                </a:moveTo>
                <a:cubicBezTo>
                  <a:pt x="17232" y="12607"/>
                  <a:pt x="17314" y="12601"/>
                  <a:pt x="17413" y="12601"/>
                </a:cubicBezTo>
                <a:cubicBezTo>
                  <a:pt x="17479" y="12601"/>
                  <a:pt x="17545" y="12601"/>
                  <a:pt x="17611" y="12601"/>
                </a:cubicBezTo>
              </a:path>
              <a:path w="596" h="1192">
                <a:moveTo>
                  <a:pt x="17413" y="12725"/>
                </a:moveTo>
                <a:cubicBezTo>
                  <a:pt x="17354" y="12784"/>
                  <a:pt x="17284" y="12875"/>
                  <a:pt x="17363" y="12973"/>
                </a:cubicBezTo>
                <a:cubicBezTo>
                  <a:pt x="17414" y="13036"/>
                  <a:pt x="17584" y="13031"/>
                  <a:pt x="17636" y="12973"/>
                </a:cubicBezTo>
                <a:cubicBezTo>
                  <a:pt x="17656" y="12912"/>
                  <a:pt x="17675" y="12897"/>
                  <a:pt x="17636" y="12874"/>
                </a:cubicBezTo>
                <a:cubicBezTo>
                  <a:pt x="17532" y="12885"/>
                  <a:pt x="17519" y="12895"/>
                  <a:pt x="17462" y="12973"/>
                </a:cubicBezTo>
                <a:cubicBezTo>
                  <a:pt x="17422" y="13028"/>
                  <a:pt x="17438" y="13101"/>
                  <a:pt x="17438" y="13171"/>
                </a:cubicBezTo>
                <a:cubicBezTo>
                  <a:pt x="17438" y="13188"/>
                  <a:pt x="17438" y="13204"/>
                  <a:pt x="17438" y="13221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Ink 8"/>
          <p:cNvSpPr/>
          <p:nvPr/>
        </p:nvSpPr>
        <p:spPr>
          <a:xfrm>
            <a:off x="5589720" y="1455840"/>
            <a:ext cx="1214280" cy="1251000"/>
          </a:xfrm>
          <a:custGeom>
            <a:avLst/>
            <a:gdLst/>
            <a:ahLst/>
            <a:rect l="l" t="t" r="r" b="b"/>
            <a:pathLst>
              <a:path w="3374" h="3474">
                <a:moveTo>
                  <a:pt x="15528" y="4837"/>
                </a:moveTo>
                <a:cubicBezTo>
                  <a:pt x="15564" y="4800"/>
                  <a:pt x="15607" y="4771"/>
                  <a:pt x="15652" y="4762"/>
                </a:cubicBezTo>
                <a:cubicBezTo>
                  <a:pt x="15703" y="4762"/>
                  <a:pt x="15722" y="4763"/>
                  <a:pt x="15751" y="4787"/>
                </a:cubicBezTo>
                <a:cubicBezTo>
                  <a:pt x="15719" y="4843"/>
                  <a:pt x="15689" y="4907"/>
                  <a:pt x="15652" y="4961"/>
                </a:cubicBezTo>
                <a:cubicBezTo>
                  <a:pt x="15623" y="5002"/>
                  <a:pt x="15586" y="5048"/>
                  <a:pt x="15553" y="5085"/>
                </a:cubicBezTo>
                <a:cubicBezTo>
                  <a:pt x="15545" y="5093"/>
                  <a:pt x="15536" y="5102"/>
                  <a:pt x="15528" y="5110"/>
                </a:cubicBezTo>
                <a:cubicBezTo>
                  <a:pt x="15583" y="5143"/>
                  <a:pt x="15633" y="5135"/>
                  <a:pt x="15701" y="5135"/>
                </a:cubicBezTo>
                <a:cubicBezTo>
                  <a:pt x="15751" y="5135"/>
                  <a:pt x="15768" y="5135"/>
                  <a:pt x="15801" y="5135"/>
                </a:cubicBezTo>
              </a:path>
              <a:path w="3374" h="3474">
                <a:moveTo>
                  <a:pt x="16272" y="4862"/>
                </a:moveTo>
                <a:cubicBezTo>
                  <a:pt x="16309" y="4796"/>
                  <a:pt x="16319" y="4767"/>
                  <a:pt x="16396" y="4762"/>
                </a:cubicBezTo>
                <a:cubicBezTo>
                  <a:pt x="16478" y="4757"/>
                  <a:pt x="16497" y="4796"/>
                  <a:pt x="16470" y="4862"/>
                </a:cubicBezTo>
                <a:cubicBezTo>
                  <a:pt x="16442" y="4931"/>
                  <a:pt x="16398" y="4940"/>
                  <a:pt x="16346" y="4986"/>
                </a:cubicBezTo>
                <a:cubicBezTo>
                  <a:pt x="16315" y="5014"/>
                  <a:pt x="16298" y="5052"/>
                  <a:pt x="16272" y="5085"/>
                </a:cubicBezTo>
                <a:cubicBezTo>
                  <a:pt x="16327" y="5118"/>
                  <a:pt x="16378" y="5110"/>
                  <a:pt x="16446" y="5110"/>
                </a:cubicBezTo>
                <a:cubicBezTo>
                  <a:pt x="16487" y="5110"/>
                  <a:pt x="16495" y="5110"/>
                  <a:pt x="16520" y="5110"/>
                </a:cubicBezTo>
              </a:path>
              <a:path w="3374" h="3474">
                <a:moveTo>
                  <a:pt x="16867" y="5879"/>
                </a:moveTo>
                <a:cubicBezTo>
                  <a:pt x="16907" y="5855"/>
                  <a:pt x="16987" y="5817"/>
                  <a:pt x="17041" y="5829"/>
                </a:cubicBezTo>
                <a:cubicBezTo>
                  <a:pt x="17118" y="5846"/>
                  <a:pt x="17102" y="5933"/>
                  <a:pt x="17066" y="5978"/>
                </a:cubicBezTo>
                <a:cubicBezTo>
                  <a:pt x="17031" y="6022"/>
                  <a:pt x="16982" y="6040"/>
                  <a:pt x="16942" y="6077"/>
                </a:cubicBezTo>
                <a:cubicBezTo>
                  <a:pt x="16934" y="6085"/>
                  <a:pt x="16925" y="6094"/>
                  <a:pt x="16917" y="6102"/>
                </a:cubicBezTo>
                <a:cubicBezTo>
                  <a:pt x="16972" y="6135"/>
                  <a:pt x="17022" y="6127"/>
                  <a:pt x="17090" y="6127"/>
                </a:cubicBezTo>
                <a:cubicBezTo>
                  <a:pt x="17139" y="6127"/>
                  <a:pt x="17169" y="6111"/>
                  <a:pt x="17214" y="6102"/>
                </a:cubicBezTo>
              </a:path>
              <a:path w="3374" h="3474">
                <a:moveTo>
                  <a:pt x="17611" y="5829"/>
                </a:moveTo>
                <a:cubicBezTo>
                  <a:pt x="17675" y="5805"/>
                  <a:pt x="17728" y="5783"/>
                  <a:pt x="17785" y="5829"/>
                </a:cubicBezTo>
                <a:cubicBezTo>
                  <a:pt x="17836" y="5870"/>
                  <a:pt x="17768" y="5940"/>
                  <a:pt x="17735" y="5978"/>
                </a:cubicBezTo>
                <a:cubicBezTo>
                  <a:pt x="17678" y="6043"/>
                  <a:pt x="17651" y="5973"/>
                  <a:pt x="17636" y="6077"/>
                </a:cubicBezTo>
                <a:cubicBezTo>
                  <a:pt x="17744" y="6077"/>
                  <a:pt x="17851" y="6077"/>
                  <a:pt x="17959" y="6077"/>
                </a:cubicBezTo>
              </a:path>
              <a:path w="3374" h="3474">
                <a:moveTo>
                  <a:pt x="17760" y="7069"/>
                </a:moveTo>
                <a:cubicBezTo>
                  <a:pt x="17821" y="7040"/>
                  <a:pt x="17898" y="7025"/>
                  <a:pt x="17959" y="7069"/>
                </a:cubicBezTo>
                <a:cubicBezTo>
                  <a:pt x="18020" y="7113"/>
                  <a:pt x="17970" y="7158"/>
                  <a:pt x="17934" y="7193"/>
                </a:cubicBezTo>
                <a:cubicBezTo>
                  <a:pt x="17872" y="7255"/>
                  <a:pt x="17841" y="7249"/>
                  <a:pt x="17785" y="7317"/>
                </a:cubicBezTo>
                <a:cubicBezTo>
                  <a:pt x="17836" y="7368"/>
                  <a:pt x="17850" y="7405"/>
                  <a:pt x="17934" y="7392"/>
                </a:cubicBezTo>
                <a:cubicBezTo>
                  <a:pt x="17999" y="7370"/>
                  <a:pt x="18014" y="7362"/>
                  <a:pt x="18058" y="7367"/>
                </a:cubicBezTo>
              </a:path>
              <a:path w="3374" h="3474">
                <a:moveTo>
                  <a:pt x="18430" y="7119"/>
                </a:moveTo>
                <a:cubicBezTo>
                  <a:pt x="18512" y="7088"/>
                  <a:pt x="18570" y="7084"/>
                  <a:pt x="18653" y="7119"/>
                </a:cubicBezTo>
                <a:cubicBezTo>
                  <a:pt x="18670" y="7127"/>
                  <a:pt x="18686" y="7136"/>
                  <a:pt x="18703" y="7144"/>
                </a:cubicBezTo>
                <a:cubicBezTo>
                  <a:pt x="18672" y="7198"/>
                  <a:pt x="18633" y="7258"/>
                  <a:pt x="18579" y="7293"/>
                </a:cubicBezTo>
                <a:cubicBezTo>
                  <a:pt x="18553" y="7310"/>
                  <a:pt x="18435" y="7359"/>
                  <a:pt x="18479" y="7417"/>
                </a:cubicBezTo>
                <a:cubicBezTo>
                  <a:pt x="18512" y="7460"/>
                  <a:pt x="18656" y="7485"/>
                  <a:pt x="18703" y="7491"/>
                </a:cubicBezTo>
                <a:cubicBezTo>
                  <a:pt x="18780" y="7500"/>
                  <a:pt x="18838" y="7529"/>
                  <a:pt x="18901" y="7491"/>
                </a:cubicBezTo>
              </a:path>
              <a:path w="3374" h="3474">
                <a:moveTo>
                  <a:pt x="15627" y="4242"/>
                </a:moveTo>
                <a:cubicBezTo>
                  <a:pt x="15627" y="4312"/>
                  <a:pt x="15620" y="4337"/>
                  <a:pt x="15652" y="4390"/>
                </a:cubicBezTo>
                <a:cubicBezTo>
                  <a:pt x="15619" y="4445"/>
                  <a:pt x="15627" y="4496"/>
                  <a:pt x="15627" y="4564"/>
                </a:cubicBezTo>
                <a:cubicBezTo>
                  <a:pt x="15627" y="4581"/>
                  <a:pt x="15627" y="4597"/>
                  <a:pt x="15627" y="4614"/>
                </a:cubicBezTo>
              </a:path>
              <a:path w="3374" h="3474">
                <a:moveTo>
                  <a:pt x="16842" y="5407"/>
                </a:moveTo>
                <a:cubicBezTo>
                  <a:pt x="16890" y="5325"/>
                  <a:pt x="16895" y="5344"/>
                  <a:pt x="16966" y="5308"/>
                </a:cubicBezTo>
                <a:cubicBezTo>
                  <a:pt x="17026" y="5278"/>
                  <a:pt x="17021" y="5282"/>
                  <a:pt x="17090" y="5308"/>
                </a:cubicBezTo>
                <a:cubicBezTo>
                  <a:pt x="17082" y="5368"/>
                  <a:pt x="17068" y="5406"/>
                  <a:pt x="17041" y="5457"/>
                </a:cubicBezTo>
                <a:cubicBezTo>
                  <a:pt x="17011" y="5513"/>
                  <a:pt x="16978" y="5579"/>
                  <a:pt x="16942" y="5631"/>
                </a:cubicBezTo>
                <a:cubicBezTo>
                  <a:pt x="16919" y="5653"/>
                  <a:pt x="16914" y="5661"/>
                  <a:pt x="16892" y="5655"/>
                </a:cubicBezTo>
                <a:cubicBezTo>
                  <a:pt x="16972" y="5655"/>
                  <a:pt x="17182" y="5680"/>
                  <a:pt x="17165" y="5631"/>
                </a:cubicBezTo>
              </a:path>
              <a:path w="3374" h="3474">
                <a:moveTo>
                  <a:pt x="17711" y="6598"/>
                </a:moveTo>
                <a:cubicBezTo>
                  <a:pt x="17797" y="6587"/>
                  <a:pt x="17826" y="6584"/>
                  <a:pt x="17909" y="6598"/>
                </a:cubicBezTo>
                <a:cubicBezTo>
                  <a:pt x="17926" y="6598"/>
                  <a:pt x="17942" y="6598"/>
                  <a:pt x="17959" y="6598"/>
                </a:cubicBezTo>
                <a:cubicBezTo>
                  <a:pt x="17914" y="6687"/>
                  <a:pt x="17898" y="6671"/>
                  <a:pt x="17835" y="6722"/>
                </a:cubicBezTo>
                <a:cubicBezTo>
                  <a:pt x="17761" y="6782"/>
                  <a:pt x="17790" y="6751"/>
                  <a:pt x="17859" y="6747"/>
                </a:cubicBezTo>
                <a:cubicBezTo>
                  <a:pt x="17941" y="6742"/>
                  <a:pt x="17978" y="6733"/>
                  <a:pt x="17983" y="6821"/>
                </a:cubicBezTo>
                <a:cubicBezTo>
                  <a:pt x="17988" y="6906"/>
                  <a:pt x="17912" y="6931"/>
                  <a:pt x="17835" y="6945"/>
                </a:cubicBezTo>
                <a:cubicBezTo>
                  <a:pt x="17777" y="6956"/>
                  <a:pt x="17730" y="6911"/>
                  <a:pt x="17711" y="6871"/>
                </a:cubicBezTo>
              </a:path>
              <a:path w="3374" h="3474">
                <a:moveTo>
                  <a:pt x="16197" y="4341"/>
                </a:moveTo>
                <a:cubicBezTo>
                  <a:pt x="16233" y="4305"/>
                  <a:pt x="16269" y="4254"/>
                  <a:pt x="16321" y="4242"/>
                </a:cubicBezTo>
                <a:cubicBezTo>
                  <a:pt x="16404" y="4223"/>
                  <a:pt x="16451" y="4290"/>
                  <a:pt x="16421" y="4366"/>
                </a:cubicBezTo>
                <a:cubicBezTo>
                  <a:pt x="16402" y="4414"/>
                  <a:pt x="16310" y="4477"/>
                  <a:pt x="16272" y="4514"/>
                </a:cubicBezTo>
                <a:cubicBezTo>
                  <a:pt x="16329" y="4458"/>
                  <a:pt x="16372" y="4441"/>
                  <a:pt x="16446" y="4490"/>
                </a:cubicBezTo>
                <a:cubicBezTo>
                  <a:pt x="16507" y="4530"/>
                  <a:pt x="16498" y="4561"/>
                  <a:pt x="16470" y="4614"/>
                </a:cubicBezTo>
                <a:cubicBezTo>
                  <a:pt x="16436" y="4678"/>
                  <a:pt x="16383" y="4738"/>
                  <a:pt x="16297" y="4713"/>
                </a:cubicBezTo>
                <a:cubicBezTo>
                  <a:pt x="16286" y="4710"/>
                  <a:pt x="16181" y="4688"/>
                  <a:pt x="16247" y="4688"/>
                </a:cubicBezTo>
              </a:path>
              <a:path w="3374" h="3474">
                <a:moveTo>
                  <a:pt x="17636" y="5333"/>
                </a:moveTo>
                <a:cubicBezTo>
                  <a:pt x="17674" y="5310"/>
                  <a:pt x="17760" y="5267"/>
                  <a:pt x="17810" y="5283"/>
                </a:cubicBezTo>
                <a:cubicBezTo>
                  <a:pt x="17858" y="5298"/>
                  <a:pt x="17926" y="5311"/>
                  <a:pt x="17909" y="5383"/>
                </a:cubicBezTo>
                <a:cubicBezTo>
                  <a:pt x="17897" y="5433"/>
                  <a:pt x="17845" y="5473"/>
                  <a:pt x="17810" y="5507"/>
                </a:cubicBezTo>
                <a:cubicBezTo>
                  <a:pt x="17765" y="5551"/>
                  <a:pt x="17758" y="5608"/>
                  <a:pt x="17711" y="5655"/>
                </a:cubicBezTo>
                <a:cubicBezTo>
                  <a:pt x="17788" y="5655"/>
                  <a:pt x="17950" y="5679"/>
                  <a:pt x="17983" y="5631"/>
                </a:cubicBezTo>
              </a:path>
              <a:path w="3374" h="3474">
                <a:moveTo>
                  <a:pt x="18554" y="6623"/>
                </a:moveTo>
                <a:cubicBezTo>
                  <a:pt x="18554" y="6729"/>
                  <a:pt x="18560" y="6829"/>
                  <a:pt x="18579" y="6921"/>
                </a:cubicBezTo>
                <a:cubicBezTo>
                  <a:pt x="18579" y="6962"/>
                  <a:pt x="18587" y="6978"/>
                  <a:pt x="18554" y="6970"/>
                </a:cubicBezTo>
              </a:path>
              <a:path w="3374" h="3474">
                <a:moveTo>
                  <a:pt x="16098" y="4291"/>
                </a:moveTo>
                <a:cubicBezTo>
                  <a:pt x="16121" y="4374"/>
                  <a:pt x="16132" y="4446"/>
                  <a:pt x="16123" y="4514"/>
                </a:cubicBezTo>
                <a:cubicBezTo>
                  <a:pt x="16115" y="4577"/>
                  <a:pt x="16151" y="4745"/>
                  <a:pt x="16123" y="4688"/>
                </a:cubicBezTo>
                <a:cubicBezTo>
                  <a:pt x="16071" y="4581"/>
                  <a:pt x="16116" y="4317"/>
                  <a:pt x="16098" y="4192"/>
                </a:cubicBezTo>
                <a:cubicBezTo>
                  <a:pt x="16086" y="4111"/>
                  <a:pt x="16126" y="4072"/>
                  <a:pt x="16197" y="4068"/>
                </a:cubicBezTo>
                <a:cubicBezTo>
                  <a:pt x="16276" y="4063"/>
                  <a:pt x="16346" y="4046"/>
                  <a:pt x="16421" y="4043"/>
                </a:cubicBezTo>
                <a:cubicBezTo>
                  <a:pt x="16485" y="4041"/>
                  <a:pt x="16592" y="4026"/>
                  <a:pt x="16619" y="4068"/>
                </a:cubicBezTo>
              </a:path>
              <a:path w="3374" h="3474">
                <a:moveTo>
                  <a:pt x="16718" y="5407"/>
                </a:moveTo>
                <a:cubicBezTo>
                  <a:pt x="16718" y="5498"/>
                  <a:pt x="16718" y="5589"/>
                  <a:pt x="16718" y="5680"/>
                </a:cubicBezTo>
                <a:cubicBezTo>
                  <a:pt x="16718" y="5561"/>
                  <a:pt x="16671" y="5299"/>
                  <a:pt x="16743" y="5209"/>
                </a:cubicBezTo>
                <a:cubicBezTo>
                  <a:pt x="16794" y="5145"/>
                  <a:pt x="16837" y="5159"/>
                  <a:pt x="16917" y="5159"/>
                </a:cubicBezTo>
                <a:cubicBezTo>
                  <a:pt x="17005" y="5159"/>
                  <a:pt x="17090" y="5150"/>
                  <a:pt x="17165" y="5135"/>
                </a:cubicBezTo>
                <a:cubicBezTo>
                  <a:pt x="17206" y="5135"/>
                  <a:pt x="17230" y="5135"/>
                  <a:pt x="17190" y="5135"/>
                </a:cubicBezTo>
              </a:path>
              <a:path w="3374" h="3474">
                <a:moveTo>
                  <a:pt x="17512" y="5333"/>
                </a:moveTo>
                <a:cubicBezTo>
                  <a:pt x="17520" y="5398"/>
                  <a:pt x="17552" y="5462"/>
                  <a:pt x="17537" y="5531"/>
                </a:cubicBezTo>
                <a:cubicBezTo>
                  <a:pt x="17515" y="5596"/>
                  <a:pt x="17507" y="5611"/>
                  <a:pt x="17512" y="5655"/>
                </a:cubicBezTo>
                <a:cubicBezTo>
                  <a:pt x="17481" y="5594"/>
                  <a:pt x="17487" y="5531"/>
                  <a:pt x="17487" y="5457"/>
                </a:cubicBezTo>
                <a:cubicBezTo>
                  <a:pt x="17487" y="5370"/>
                  <a:pt x="17462" y="5296"/>
                  <a:pt x="17462" y="5209"/>
                </a:cubicBezTo>
                <a:cubicBezTo>
                  <a:pt x="17462" y="5126"/>
                  <a:pt x="17510" y="5114"/>
                  <a:pt x="17587" y="5110"/>
                </a:cubicBezTo>
                <a:cubicBezTo>
                  <a:pt x="17722" y="5102"/>
                  <a:pt x="17862" y="5109"/>
                  <a:pt x="17983" y="5085"/>
                </a:cubicBezTo>
                <a:cubicBezTo>
                  <a:pt x="18038" y="5074"/>
                  <a:pt x="18046" y="5061"/>
                  <a:pt x="18058" y="5085"/>
                </a:cubicBezTo>
              </a:path>
              <a:path w="3374" h="3474">
                <a:moveTo>
                  <a:pt x="17587" y="6623"/>
                </a:moveTo>
                <a:cubicBezTo>
                  <a:pt x="17593" y="6712"/>
                  <a:pt x="17611" y="6782"/>
                  <a:pt x="17611" y="6871"/>
                </a:cubicBezTo>
                <a:cubicBezTo>
                  <a:pt x="17611" y="6888"/>
                  <a:pt x="17611" y="6904"/>
                  <a:pt x="17611" y="6921"/>
                </a:cubicBezTo>
                <a:cubicBezTo>
                  <a:pt x="17611" y="6843"/>
                  <a:pt x="17561" y="6465"/>
                  <a:pt x="17587" y="6424"/>
                </a:cubicBezTo>
                <a:cubicBezTo>
                  <a:pt x="17619" y="6373"/>
                  <a:pt x="17762" y="6400"/>
                  <a:pt x="17810" y="6400"/>
                </a:cubicBezTo>
                <a:cubicBezTo>
                  <a:pt x="17879" y="6400"/>
                  <a:pt x="17978" y="6312"/>
                  <a:pt x="18008" y="6375"/>
                </a:cubicBezTo>
                <a:cubicBezTo>
                  <a:pt x="18000" y="6383"/>
                  <a:pt x="17991" y="6392"/>
                  <a:pt x="17983" y="6400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Ink 9"/>
          <p:cNvSpPr/>
          <p:nvPr/>
        </p:nvSpPr>
        <p:spPr>
          <a:xfrm>
            <a:off x="5902200" y="2384280"/>
            <a:ext cx="258840" cy="420840"/>
          </a:xfrm>
          <a:custGeom>
            <a:avLst/>
            <a:gdLst/>
            <a:ahLst/>
            <a:rect l="l" t="t" r="r" b="b"/>
            <a:pathLst>
              <a:path w="720" h="1167">
                <a:moveTo>
                  <a:pt x="16396" y="6672"/>
                </a:moveTo>
                <a:cubicBezTo>
                  <a:pt x="16553" y="6672"/>
                  <a:pt x="16710" y="6672"/>
                  <a:pt x="16867" y="6672"/>
                </a:cubicBezTo>
              </a:path>
              <a:path w="720" h="1167">
                <a:moveTo>
                  <a:pt x="16669" y="6623"/>
                </a:moveTo>
                <a:cubicBezTo>
                  <a:pt x="16658" y="6696"/>
                  <a:pt x="16593" y="6903"/>
                  <a:pt x="16619" y="6995"/>
                </a:cubicBezTo>
                <a:cubicBezTo>
                  <a:pt x="16637" y="7061"/>
                  <a:pt x="16634" y="7068"/>
                  <a:pt x="16669" y="7045"/>
                </a:cubicBezTo>
              </a:path>
              <a:path w="720" h="1167">
                <a:moveTo>
                  <a:pt x="16743" y="6722"/>
                </a:moveTo>
                <a:cubicBezTo>
                  <a:pt x="16730" y="6836"/>
                  <a:pt x="16717" y="6900"/>
                  <a:pt x="16768" y="6995"/>
                </a:cubicBezTo>
                <a:cubicBezTo>
                  <a:pt x="16800" y="7055"/>
                  <a:pt x="16809" y="7056"/>
                  <a:pt x="16818" y="7119"/>
                </a:cubicBezTo>
              </a:path>
              <a:path w="720" h="1167">
                <a:moveTo>
                  <a:pt x="16446" y="7119"/>
                </a:moveTo>
                <a:cubicBezTo>
                  <a:pt x="16535" y="7119"/>
                  <a:pt x="16608" y="7099"/>
                  <a:pt x="16694" y="7094"/>
                </a:cubicBezTo>
                <a:cubicBezTo>
                  <a:pt x="16786" y="7089"/>
                  <a:pt x="16834" y="7086"/>
                  <a:pt x="16917" y="7045"/>
                </a:cubicBezTo>
              </a:path>
              <a:path w="720" h="1167">
                <a:moveTo>
                  <a:pt x="16694" y="7268"/>
                </a:moveTo>
                <a:cubicBezTo>
                  <a:pt x="16694" y="7358"/>
                  <a:pt x="16675" y="7460"/>
                  <a:pt x="16718" y="7541"/>
                </a:cubicBezTo>
                <a:cubicBezTo>
                  <a:pt x="16735" y="7572"/>
                  <a:pt x="16813" y="7632"/>
                  <a:pt x="16842" y="7640"/>
                </a:cubicBezTo>
                <a:cubicBezTo>
                  <a:pt x="16899" y="7655"/>
                  <a:pt x="17015" y="7639"/>
                  <a:pt x="17066" y="7615"/>
                </a:cubicBezTo>
                <a:cubicBezTo>
                  <a:pt x="17142" y="7579"/>
                  <a:pt x="17121" y="7447"/>
                  <a:pt x="17090" y="7392"/>
                </a:cubicBezTo>
                <a:cubicBezTo>
                  <a:pt x="17082" y="7384"/>
                  <a:pt x="17074" y="7375"/>
                  <a:pt x="17066" y="7367"/>
                </a:cubicBezTo>
                <a:cubicBezTo>
                  <a:pt x="17013" y="7397"/>
                  <a:pt x="16940" y="7457"/>
                  <a:pt x="16917" y="7516"/>
                </a:cubicBezTo>
                <a:cubicBezTo>
                  <a:pt x="16899" y="7562"/>
                  <a:pt x="16916" y="7710"/>
                  <a:pt x="16966" y="7739"/>
                </a:cubicBezTo>
                <a:cubicBezTo>
                  <a:pt x="17018" y="7739"/>
                  <a:pt x="17036" y="7741"/>
                  <a:pt x="17041" y="7789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Ink 10"/>
          <p:cNvSpPr/>
          <p:nvPr/>
        </p:nvSpPr>
        <p:spPr>
          <a:xfrm>
            <a:off x="5572080" y="2027160"/>
            <a:ext cx="169920" cy="339840"/>
          </a:xfrm>
          <a:custGeom>
            <a:avLst/>
            <a:gdLst/>
            <a:ahLst/>
            <a:rect l="l" t="t" r="r" b="b"/>
            <a:pathLst>
              <a:path w="472" h="943">
                <a:moveTo>
                  <a:pt x="15478" y="5655"/>
                </a:moveTo>
                <a:cubicBezTo>
                  <a:pt x="15555" y="5647"/>
                  <a:pt x="15622" y="5631"/>
                  <a:pt x="15701" y="5631"/>
                </a:cubicBezTo>
                <a:cubicBezTo>
                  <a:pt x="15759" y="5631"/>
                  <a:pt x="15817" y="5631"/>
                  <a:pt x="15875" y="5631"/>
                </a:cubicBezTo>
              </a:path>
              <a:path w="472" h="943">
                <a:moveTo>
                  <a:pt x="15751" y="5631"/>
                </a:moveTo>
                <a:cubicBezTo>
                  <a:pt x="15711" y="5700"/>
                  <a:pt x="15687" y="5799"/>
                  <a:pt x="15677" y="5879"/>
                </a:cubicBezTo>
                <a:cubicBezTo>
                  <a:pt x="15669" y="5947"/>
                  <a:pt x="15669" y="6022"/>
                  <a:pt x="15701" y="6077"/>
                </a:cubicBezTo>
              </a:path>
              <a:path w="472" h="943">
                <a:moveTo>
                  <a:pt x="15801" y="5655"/>
                </a:moveTo>
                <a:cubicBezTo>
                  <a:pt x="15816" y="5727"/>
                  <a:pt x="15837" y="5816"/>
                  <a:pt x="15850" y="5879"/>
                </a:cubicBezTo>
                <a:cubicBezTo>
                  <a:pt x="15858" y="5917"/>
                  <a:pt x="15850" y="5964"/>
                  <a:pt x="15850" y="6003"/>
                </a:cubicBezTo>
              </a:path>
              <a:path w="472" h="943">
                <a:moveTo>
                  <a:pt x="15503" y="6077"/>
                </a:moveTo>
                <a:cubicBezTo>
                  <a:pt x="15616" y="6054"/>
                  <a:pt x="15710" y="6052"/>
                  <a:pt x="15825" y="6052"/>
                </a:cubicBezTo>
                <a:cubicBezTo>
                  <a:pt x="15877" y="6052"/>
                  <a:pt x="15895" y="6051"/>
                  <a:pt x="15925" y="6028"/>
                </a:cubicBezTo>
              </a:path>
              <a:path w="472" h="943">
                <a:moveTo>
                  <a:pt x="15701" y="6201"/>
                </a:moveTo>
                <a:cubicBezTo>
                  <a:pt x="15681" y="6314"/>
                  <a:pt x="15678" y="6344"/>
                  <a:pt x="15801" y="6350"/>
                </a:cubicBezTo>
                <a:cubicBezTo>
                  <a:pt x="15875" y="6354"/>
                  <a:pt x="15899" y="6352"/>
                  <a:pt x="15949" y="6300"/>
                </a:cubicBezTo>
              </a:path>
              <a:path w="472" h="943">
                <a:moveTo>
                  <a:pt x="15949" y="6102"/>
                </a:moveTo>
                <a:cubicBezTo>
                  <a:pt x="15907" y="6273"/>
                  <a:pt x="15900" y="6303"/>
                  <a:pt x="15925" y="6449"/>
                </a:cubicBezTo>
                <a:cubicBezTo>
                  <a:pt x="15935" y="6506"/>
                  <a:pt x="15921" y="6524"/>
                  <a:pt x="15949" y="6573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Ink 11"/>
          <p:cNvSpPr/>
          <p:nvPr/>
        </p:nvSpPr>
        <p:spPr>
          <a:xfrm>
            <a:off x="5634000" y="2714760"/>
            <a:ext cx="162000" cy="125280"/>
          </a:xfrm>
          <a:custGeom>
            <a:avLst/>
            <a:gdLst/>
            <a:ahLst/>
            <a:rect l="l" t="t" r="r" b="b"/>
            <a:pathLst>
              <a:path w="447" h="348">
                <a:moveTo>
                  <a:pt x="15677" y="7541"/>
                </a:moveTo>
                <a:cubicBezTo>
                  <a:pt x="15760" y="7547"/>
                  <a:pt x="15857" y="7541"/>
                  <a:pt x="15825" y="7665"/>
                </a:cubicBezTo>
                <a:cubicBezTo>
                  <a:pt x="15813" y="7712"/>
                  <a:pt x="15758" y="7709"/>
                  <a:pt x="15726" y="7714"/>
                </a:cubicBezTo>
                <a:cubicBezTo>
                  <a:pt x="15785" y="7722"/>
                  <a:pt x="15825" y="7734"/>
                  <a:pt x="15875" y="7764"/>
                </a:cubicBezTo>
                <a:cubicBezTo>
                  <a:pt x="15869" y="7802"/>
                  <a:pt x="15852" y="7873"/>
                  <a:pt x="15801" y="7888"/>
                </a:cubicBezTo>
                <a:cubicBezTo>
                  <a:pt x="15747" y="7904"/>
                  <a:pt x="15699" y="7881"/>
                  <a:pt x="15652" y="7863"/>
                </a:cubicBezTo>
              </a:path>
              <a:path w="447" h="348">
                <a:moveTo>
                  <a:pt x="15974" y="7565"/>
                </a:moveTo>
                <a:cubicBezTo>
                  <a:pt x="15930" y="7621"/>
                  <a:pt x="15904" y="7667"/>
                  <a:pt x="15900" y="7739"/>
                </a:cubicBezTo>
                <a:cubicBezTo>
                  <a:pt x="15898" y="7780"/>
                  <a:pt x="15888" y="7875"/>
                  <a:pt x="15949" y="7888"/>
                </a:cubicBezTo>
                <a:cubicBezTo>
                  <a:pt x="15996" y="7898"/>
                  <a:pt x="16082" y="7870"/>
                  <a:pt x="16098" y="7813"/>
                </a:cubicBezTo>
                <a:cubicBezTo>
                  <a:pt x="16118" y="7743"/>
                  <a:pt x="16083" y="7677"/>
                  <a:pt x="16073" y="7615"/>
                </a:cubicBezTo>
                <a:cubicBezTo>
                  <a:pt x="16060" y="7535"/>
                  <a:pt x="16058" y="7541"/>
                  <a:pt x="15974" y="7541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Ink 12"/>
          <p:cNvSpPr/>
          <p:nvPr/>
        </p:nvSpPr>
        <p:spPr>
          <a:xfrm>
            <a:off x="5322960" y="2367000"/>
            <a:ext cx="195120" cy="150840"/>
          </a:xfrm>
          <a:custGeom>
            <a:avLst/>
            <a:gdLst/>
            <a:ahLst/>
            <a:rect l="l" t="t" r="r" b="b"/>
            <a:pathLst>
              <a:path w="546" h="423">
                <a:moveTo>
                  <a:pt x="14883" y="6573"/>
                </a:moveTo>
                <a:cubicBezTo>
                  <a:pt x="14852" y="6604"/>
                  <a:pt x="14795" y="6656"/>
                  <a:pt x="14784" y="6697"/>
                </a:cubicBezTo>
                <a:cubicBezTo>
                  <a:pt x="14760" y="6791"/>
                  <a:pt x="14850" y="6772"/>
                  <a:pt x="14908" y="6772"/>
                </a:cubicBezTo>
                <a:cubicBezTo>
                  <a:pt x="14965" y="6772"/>
                  <a:pt x="14984" y="6782"/>
                  <a:pt x="15007" y="6747"/>
                </a:cubicBezTo>
              </a:path>
              <a:path w="546" h="423">
                <a:moveTo>
                  <a:pt x="14982" y="6598"/>
                </a:moveTo>
                <a:cubicBezTo>
                  <a:pt x="14982" y="6678"/>
                  <a:pt x="14997" y="6755"/>
                  <a:pt x="15007" y="6821"/>
                </a:cubicBezTo>
                <a:cubicBezTo>
                  <a:pt x="15015" y="6876"/>
                  <a:pt x="15018" y="6965"/>
                  <a:pt x="15007" y="6970"/>
                </a:cubicBezTo>
              </a:path>
              <a:path w="546" h="423">
                <a:moveTo>
                  <a:pt x="15329" y="6623"/>
                </a:moveTo>
                <a:cubicBezTo>
                  <a:pt x="15263" y="6623"/>
                  <a:pt x="15197" y="6623"/>
                  <a:pt x="15131" y="6623"/>
                </a:cubicBezTo>
                <a:cubicBezTo>
                  <a:pt x="15164" y="6678"/>
                  <a:pt x="15156" y="6728"/>
                  <a:pt x="15156" y="6796"/>
                </a:cubicBezTo>
                <a:cubicBezTo>
                  <a:pt x="15238" y="6796"/>
                  <a:pt x="15293" y="6779"/>
                  <a:pt x="15304" y="6871"/>
                </a:cubicBezTo>
                <a:cubicBezTo>
                  <a:pt x="15311" y="6930"/>
                  <a:pt x="15265" y="6981"/>
                  <a:pt x="15205" y="6995"/>
                </a:cubicBezTo>
                <a:cubicBezTo>
                  <a:pt x="15140" y="7010"/>
                  <a:pt x="15083" y="6950"/>
                  <a:pt x="15032" y="6921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Ink 13"/>
          <p:cNvSpPr/>
          <p:nvPr/>
        </p:nvSpPr>
        <p:spPr>
          <a:xfrm>
            <a:off x="4991040" y="2187720"/>
            <a:ext cx="179280" cy="13464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13915" y="6077"/>
                </a:moveTo>
                <a:cubicBezTo>
                  <a:pt x="13907" y="6133"/>
                  <a:pt x="13876" y="6177"/>
                  <a:pt x="13866" y="6226"/>
                </a:cubicBezTo>
                <a:cubicBezTo>
                  <a:pt x="13857" y="6273"/>
                  <a:pt x="13867" y="6397"/>
                  <a:pt x="13915" y="6424"/>
                </a:cubicBezTo>
                <a:cubicBezTo>
                  <a:pt x="13971" y="6456"/>
                  <a:pt x="14029" y="6410"/>
                  <a:pt x="14064" y="6375"/>
                </a:cubicBezTo>
                <a:cubicBezTo>
                  <a:pt x="14101" y="6338"/>
                  <a:pt x="14089" y="6302"/>
                  <a:pt x="14089" y="6251"/>
                </a:cubicBezTo>
                <a:cubicBezTo>
                  <a:pt x="14031" y="6299"/>
                  <a:pt x="14021" y="6340"/>
                  <a:pt x="14015" y="6424"/>
                </a:cubicBezTo>
                <a:cubicBezTo>
                  <a:pt x="14015" y="6432"/>
                  <a:pt x="14015" y="6441"/>
                  <a:pt x="14015" y="6449"/>
                </a:cubicBezTo>
              </a:path>
              <a:path w="497" h="373">
                <a:moveTo>
                  <a:pt x="14213" y="6102"/>
                </a:moveTo>
                <a:cubicBezTo>
                  <a:pt x="14213" y="6193"/>
                  <a:pt x="14188" y="6321"/>
                  <a:pt x="14238" y="6400"/>
                </a:cubicBezTo>
                <a:cubicBezTo>
                  <a:pt x="14246" y="6408"/>
                  <a:pt x="14255" y="6416"/>
                  <a:pt x="14263" y="6424"/>
                </a:cubicBezTo>
                <a:cubicBezTo>
                  <a:pt x="14310" y="6387"/>
                  <a:pt x="14368" y="6346"/>
                  <a:pt x="14362" y="6276"/>
                </a:cubicBezTo>
                <a:cubicBezTo>
                  <a:pt x="14353" y="6178"/>
                  <a:pt x="14294" y="6160"/>
                  <a:pt x="14238" y="6127"/>
                </a:cubicBezTo>
                <a:cubicBezTo>
                  <a:pt x="14215" y="6104"/>
                  <a:pt x="14207" y="6093"/>
                  <a:pt x="14213" y="6127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Ink 14"/>
          <p:cNvSpPr/>
          <p:nvPr/>
        </p:nvSpPr>
        <p:spPr>
          <a:xfrm>
            <a:off x="4491000" y="1571760"/>
            <a:ext cx="196920" cy="285480"/>
          </a:xfrm>
          <a:custGeom>
            <a:avLst/>
            <a:gdLst/>
            <a:ahLst/>
            <a:rect l="l" t="t" r="r" b="b"/>
            <a:pathLst>
              <a:path w="546" h="794">
                <a:moveTo>
                  <a:pt x="12502" y="4440"/>
                </a:moveTo>
                <a:cubicBezTo>
                  <a:pt x="12563" y="4414"/>
                  <a:pt x="12651" y="4394"/>
                  <a:pt x="12725" y="4390"/>
                </a:cubicBezTo>
                <a:cubicBezTo>
                  <a:pt x="12779" y="4387"/>
                  <a:pt x="12820" y="4372"/>
                  <a:pt x="12874" y="4366"/>
                </a:cubicBezTo>
              </a:path>
              <a:path w="546" h="794">
                <a:moveTo>
                  <a:pt x="12650" y="4390"/>
                </a:moveTo>
                <a:cubicBezTo>
                  <a:pt x="12650" y="4504"/>
                  <a:pt x="12639" y="4631"/>
                  <a:pt x="12675" y="4738"/>
                </a:cubicBezTo>
                <a:cubicBezTo>
                  <a:pt x="12675" y="4730"/>
                  <a:pt x="12675" y="4721"/>
                  <a:pt x="12675" y="4713"/>
                </a:cubicBezTo>
              </a:path>
              <a:path w="546" h="794">
                <a:moveTo>
                  <a:pt x="12799" y="4390"/>
                </a:moveTo>
                <a:cubicBezTo>
                  <a:pt x="12819" y="4489"/>
                  <a:pt x="12842" y="4588"/>
                  <a:pt x="12849" y="4688"/>
                </a:cubicBezTo>
                <a:cubicBezTo>
                  <a:pt x="12849" y="4696"/>
                  <a:pt x="12849" y="4705"/>
                  <a:pt x="12849" y="4713"/>
                </a:cubicBezTo>
              </a:path>
              <a:path w="546" h="794">
                <a:moveTo>
                  <a:pt x="12477" y="4762"/>
                </a:moveTo>
                <a:cubicBezTo>
                  <a:pt x="12592" y="4762"/>
                  <a:pt x="12690" y="4750"/>
                  <a:pt x="12799" y="4738"/>
                </a:cubicBezTo>
                <a:cubicBezTo>
                  <a:pt x="12857" y="4738"/>
                  <a:pt x="12865" y="4738"/>
                  <a:pt x="12898" y="4738"/>
                </a:cubicBezTo>
              </a:path>
              <a:path w="546" h="794">
                <a:moveTo>
                  <a:pt x="12675" y="4887"/>
                </a:moveTo>
                <a:cubicBezTo>
                  <a:pt x="12741" y="4887"/>
                  <a:pt x="12823" y="4870"/>
                  <a:pt x="12874" y="4911"/>
                </a:cubicBezTo>
                <a:cubicBezTo>
                  <a:pt x="12916" y="4944"/>
                  <a:pt x="12863" y="5029"/>
                  <a:pt x="12824" y="5060"/>
                </a:cubicBezTo>
                <a:cubicBezTo>
                  <a:pt x="12789" y="5088"/>
                  <a:pt x="12739" y="5113"/>
                  <a:pt x="12700" y="5135"/>
                </a:cubicBezTo>
                <a:cubicBezTo>
                  <a:pt x="12786" y="5176"/>
                  <a:pt x="12831" y="5148"/>
                  <a:pt x="12923" y="5135"/>
                </a:cubicBezTo>
                <a:cubicBezTo>
                  <a:pt x="12976" y="5128"/>
                  <a:pt x="13002" y="5129"/>
                  <a:pt x="13022" y="5159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Ink 15"/>
          <p:cNvSpPr/>
          <p:nvPr/>
        </p:nvSpPr>
        <p:spPr>
          <a:xfrm>
            <a:off x="3054240" y="2017800"/>
            <a:ext cx="214560" cy="384120"/>
          </a:xfrm>
          <a:custGeom>
            <a:avLst/>
            <a:gdLst/>
            <a:ahLst/>
            <a:rect l="l" t="t" r="r" b="b"/>
            <a:pathLst>
              <a:path w="597" h="1067">
                <a:moveTo>
                  <a:pt x="8508" y="5705"/>
                </a:moveTo>
                <a:cubicBezTo>
                  <a:pt x="8493" y="5675"/>
                  <a:pt x="8502" y="5622"/>
                  <a:pt x="8558" y="5606"/>
                </a:cubicBezTo>
                <a:cubicBezTo>
                  <a:pt x="8607" y="5606"/>
                  <a:pt x="8624" y="5606"/>
                  <a:pt x="8657" y="5606"/>
                </a:cubicBezTo>
                <a:cubicBezTo>
                  <a:pt x="8645" y="5691"/>
                  <a:pt x="8599" y="5723"/>
                  <a:pt x="8533" y="5779"/>
                </a:cubicBezTo>
                <a:cubicBezTo>
                  <a:pt x="8525" y="5787"/>
                  <a:pt x="8516" y="5796"/>
                  <a:pt x="8508" y="5804"/>
                </a:cubicBezTo>
                <a:cubicBezTo>
                  <a:pt x="8590" y="5840"/>
                  <a:pt x="8717" y="5864"/>
                  <a:pt x="8706" y="5978"/>
                </a:cubicBezTo>
                <a:cubicBezTo>
                  <a:pt x="8701" y="6029"/>
                  <a:pt x="8607" y="6093"/>
                  <a:pt x="8558" y="6077"/>
                </a:cubicBezTo>
                <a:cubicBezTo>
                  <a:pt x="8524" y="6065"/>
                  <a:pt x="8495" y="6027"/>
                  <a:pt x="8483" y="6003"/>
                </a:cubicBezTo>
              </a:path>
              <a:path w="597" h="1067">
                <a:moveTo>
                  <a:pt x="8756" y="5655"/>
                </a:moveTo>
                <a:cubicBezTo>
                  <a:pt x="8847" y="5696"/>
                  <a:pt x="8887" y="5715"/>
                  <a:pt x="8979" y="5680"/>
                </a:cubicBezTo>
              </a:path>
              <a:path w="597" h="1067">
                <a:moveTo>
                  <a:pt x="8954" y="5631"/>
                </a:moveTo>
                <a:cubicBezTo>
                  <a:pt x="8924" y="5761"/>
                  <a:pt x="8844" y="5947"/>
                  <a:pt x="8905" y="6077"/>
                </a:cubicBezTo>
                <a:cubicBezTo>
                  <a:pt x="8913" y="6085"/>
                  <a:pt x="8922" y="6094"/>
                  <a:pt x="8930" y="6102"/>
                </a:cubicBezTo>
              </a:path>
              <a:path w="597" h="1067">
                <a:moveTo>
                  <a:pt x="9054" y="5680"/>
                </a:moveTo>
                <a:cubicBezTo>
                  <a:pt x="9054" y="5799"/>
                  <a:pt x="9019" y="5978"/>
                  <a:pt x="9079" y="6077"/>
                </a:cubicBezTo>
              </a:path>
              <a:path w="597" h="1067">
                <a:moveTo>
                  <a:pt x="8582" y="6176"/>
                </a:moveTo>
                <a:cubicBezTo>
                  <a:pt x="8674" y="6165"/>
                  <a:pt x="8758" y="6152"/>
                  <a:pt x="8855" y="6152"/>
                </a:cubicBezTo>
                <a:cubicBezTo>
                  <a:pt x="8919" y="6152"/>
                  <a:pt x="8945" y="6149"/>
                  <a:pt x="9004" y="6127"/>
                </a:cubicBezTo>
              </a:path>
              <a:path w="597" h="1067">
                <a:moveTo>
                  <a:pt x="8830" y="6176"/>
                </a:moveTo>
                <a:cubicBezTo>
                  <a:pt x="8783" y="6224"/>
                  <a:pt x="8710" y="6279"/>
                  <a:pt x="8781" y="6350"/>
                </a:cubicBezTo>
                <a:cubicBezTo>
                  <a:pt x="8839" y="6409"/>
                  <a:pt x="8919" y="6364"/>
                  <a:pt x="8979" y="6350"/>
                </a:cubicBezTo>
                <a:cubicBezTo>
                  <a:pt x="8987" y="6350"/>
                  <a:pt x="8996" y="6350"/>
                  <a:pt x="9004" y="6350"/>
                </a:cubicBezTo>
              </a:path>
              <a:path w="597" h="1067">
                <a:moveTo>
                  <a:pt x="9054" y="6127"/>
                </a:moveTo>
                <a:cubicBezTo>
                  <a:pt x="8992" y="6256"/>
                  <a:pt x="8934" y="6356"/>
                  <a:pt x="8930" y="6499"/>
                </a:cubicBezTo>
                <a:cubicBezTo>
                  <a:pt x="8930" y="6598"/>
                  <a:pt x="8930" y="6614"/>
                  <a:pt x="8930" y="6672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Ink 16"/>
          <p:cNvSpPr/>
          <p:nvPr/>
        </p:nvSpPr>
        <p:spPr>
          <a:xfrm>
            <a:off x="3490920" y="1724040"/>
            <a:ext cx="260280" cy="357120"/>
          </a:xfrm>
          <a:custGeom>
            <a:avLst/>
            <a:gdLst/>
            <a:ahLst/>
            <a:rect l="l" t="t" r="r" b="b"/>
            <a:pathLst>
              <a:path w="720" h="993">
                <a:moveTo>
                  <a:pt x="9699" y="4961"/>
                </a:moveTo>
                <a:cubicBezTo>
                  <a:pt x="9711" y="4917"/>
                  <a:pt x="9770" y="4824"/>
                  <a:pt x="9847" y="4862"/>
                </a:cubicBezTo>
                <a:cubicBezTo>
                  <a:pt x="9953" y="4914"/>
                  <a:pt x="9910" y="5008"/>
                  <a:pt x="9897" y="5085"/>
                </a:cubicBezTo>
                <a:cubicBezTo>
                  <a:pt x="9883" y="5167"/>
                  <a:pt x="9874" y="5215"/>
                  <a:pt x="9798" y="5259"/>
                </a:cubicBezTo>
                <a:cubicBezTo>
                  <a:pt x="9781" y="5267"/>
                  <a:pt x="9765" y="5275"/>
                  <a:pt x="9748" y="5283"/>
                </a:cubicBezTo>
                <a:cubicBezTo>
                  <a:pt x="9712" y="5224"/>
                  <a:pt x="9693" y="5169"/>
                  <a:pt x="9773" y="5159"/>
                </a:cubicBezTo>
                <a:cubicBezTo>
                  <a:pt x="9857" y="5148"/>
                  <a:pt x="9834" y="5216"/>
                  <a:pt x="9897" y="5234"/>
                </a:cubicBezTo>
                <a:cubicBezTo>
                  <a:pt x="9953" y="5250"/>
                  <a:pt x="9997" y="5273"/>
                  <a:pt x="10046" y="5234"/>
                </a:cubicBezTo>
                <a:cubicBezTo>
                  <a:pt x="10054" y="5226"/>
                  <a:pt x="10063" y="5217"/>
                  <a:pt x="10071" y="5209"/>
                </a:cubicBezTo>
              </a:path>
              <a:path w="720" h="993">
                <a:moveTo>
                  <a:pt x="10046" y="4862"/>
                </a:moveTo>
                <a:cubicBezTo>
                  <a:pt x="10121" y="4819"/>
                  <a:pt x="10153" y="4812"/>
                  <a:pt x="10244" y="4812"/>
                </a:cubicBezTo>
                <a:cubicBezTo>
                  <a:pt x="10302" y="4812"/>
                  <a:pt x="10327" y="4829"/>
                  <a:pt x="10319" y="4787"/>
                </a:cubicBezTo>
              </a:path>
              <a:path w="720" h="993">
                <a:moveTo>
                  <a:pt x="10220" y="4862"/>
                </a:moveTo>
                <a:cubicBezTo>
                  <a:pt x="10191" y="4924"/>
                  <a:pt x="10112" y="5062"/>
                  <a:pt x="10120" y="5135"/>
                </a:cubicBezTo>
                <a:cubicBezTo>
                  <a:pt x="10125" y="5175"/>
                  <a:pt x="10151" y="5227"/>
                  <a:pt x="10170" y="5259"/>
                </a:cubicBezTo>
              </a:path>
              <a:path w="720" h="993">
                <a:moveTo>
                  <a:pt x="10319" y="4911"/>
                </a:moveTo>
                <a:cubicBezTo>
                  <a:pt x="10326" y="4990"/>
                  <a:pt x="10347" y="5043"/>
                  <a:pt x="10368" y="5110"/>
                </a:cubicBezTo>
                <a:cubicBezTo>
                  <a:pt x="10388" y="5187"/>
                  <a:pt x="10380" y="5205"/>
                  <a:pt x="10418" y="5234"/>
                </a:cubicBezTo>
              </a:path>
              <a:path w="720" h="993">
                <a:moveTo>
                  <a:pt x="9773" y="5407"/>
                </a:moveTo>
                <a:cubicBezTo>
                  <a:pt x="9872" y="5387"/>
                  <a:pt x="9973" y="5372"/>
                  <a:pt x="10071" y="5358"/>
                </a:cubicBezTo>
                <a:cubicBezTo>
                  <a:pt x="10147" y="5348"/>
                  <a:pt x="10246" y="5354"/>
                  <a:pt x="10319" y="5333"/>
                </a:cubicBezTo>
                <a:cubicBezTo>
                  <a:pt x="10335" y="5325"/>
                  <a:pt x="10352" y="5316"/>
                  <a:pt x="10368" y="5308"/>
                </a:cubicBezTo>
              </a:path>
              <a:path w="720" h="993">
                <a:moveTo>
                  <a:pt x="10046" y="5482"/>
                </a:moveTo>
                <a:cubicBezTo>
                  <a:pt x="10128" y="5446"/>
                  <a:pt x="10210" y="5390"/>
                  <a:pt x="10294" y="5432"/>
                </a:cubicBezTo>
                <a:cubicBezTo>
                  <a:pt x="10302" y="5440"/>
                  <a:pt x="10311" y="5449"/>
                  <a:pt x="10319" y="5457"/>
                </a:cubicBezTo>
                <a:cubicBezTo>
                  <a:pt x="10272" y="5504"/>
                  <a:pt x="10280" y="5576"/>
                  <a:pt x="10220" y="5606"/>
                </a:cubicBezTo>
                <a:cubicBezTo>
                  <a:pt x="10203" y="5606"/>
                  <a:pt x="10187" y="5606"/>
                  <a:pt x="10170" y="5606"/>
                </a:cubicBezTo>
                <a:cubicBezTo>
                  <a:pt x="10222" y="5554"/>
                  <a:pt x="10230" y="5547"/>
                  <a:pt x="10294" y="5581"/>
                </a:cubicBezTo>
                <a:cubicBezTo>
                  <a:pt x="10365" y="5619"/>
                  <a:pt x="10400" y="5652"/>
                  <a:pt x="10344" y="5730"/>
                </a:cubicBezTo>
                <a:cubicBezTo>
                  <a:pt x="10292" y="5803"/>
                  <a:pt x="10265" y="5766"/>
                  <a:pt x="10195" y="5755"/>
                </a:cubicBezTo>
                <a:cubicBezTo>
                  <a:pt x="10150" y="5755"/>
                  <a:pt x="10137" y="5751"/>
                  <a:pt x="10120" y="5779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Ink 17"/>
          <p:cNvSpPr/>
          <p:nvPr/>
        </p:nvSpPr>
        <p:spPr>
          <a:xfrm>
            <a:off x="4089240" y="1562040"/>
            <a:ext cx="189000" cy="135000"/>
          </a:xfrm>
          <a:custGeom>
            <a:avLst/>
            <a:gdLst/>
            <a:ahLst/>
            <a:rect l="l" t="t" r="r" b="b"/>
            <a:pathLst>
              <a:path w="521" h="373">
                <a:moveTo>
                  <a:pt x="11584" y="4390"/>
                </a:moveTo>
                <a:cubicBezTo>
                  <a:pt x="11535" y="4343"/>
                  <a:pt x="11529" y="4341"/>
                  <a:pt x="11460" y="4341"/>
                </a:cubicBezTo>
                <a:cubicBezTo>
                  <a:pt x="11395" y="4341"/>
                  <a:pt x="11338" y="4388"/>
                  <a:pt x="11361" y="4465"/>
                </a:cubicBezTo>
                <a:cubicBezTo>
                  <a:pt x="11369" y="4473"/>
                  <a:pt x="11377" y="4482"/>
                  <a:pt x="11385" y="4490"/>
                </a:cubicBezTo>
                <a:cubicBezTo>
                  <a:pt x="11419" y="4447"/>
                  <a:pt x="11445" y="4405"/>
                  <a:pt x="11485" y="4366"/>
                </a:cubicBezTo>
                <a:cubicBezTo>
                  <a:pt x="11485" y="4451"/>
                  <a:pt x="11456" y="4676"/>
                  <a:pt x="11509" y="4713"/>
                </a:cubicBezTo>
              </a:path>
              <a:path w="521" h="373">
                <a:moveTo>
                  <a:pt x="11733" y="4390"/>
                </a:moveTo>
                <a:cubicBezTo>
                  <a:pt x="11690" y="4433"/>
                  <a:pt x="11668" y="4478"/>
                  <a:pt x="11658" y="4539"/>
                </a:cubicBezTo>
                <a:cubicBezTo>
                  <a:pt x="11649" y="4595"/>
                  <a:pt x="11684" y="4688"/>
                  <a:pt x="11757" y="4663"/>
                </a:cubicBezTo>
                <a:cubicBezTo>
                  <a:pt x="11788" y="4653"/>
                  <a:pt x="11834" y="4588"/>
                  <a:pt x="11857" y="4564"/>
                </a:cubicBezTo>
                <a:cubicBezTo>
                  <a:pt x="11892" y="4528"/>
                  <a:pt x="11862" y="4410"/>
                  <a:pt x="11807" y="4390"/>
                </a:cubicBezTo>
                <a:cubicBezTo>
                  <a:pt x="11736" y="4365"/>
                  <a:pt x="11718" y="4397"/>
                  <a:pt x="11683" y="4440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Ink 18"/>
          <p:cNvSpPr/>
          <p:nvPr/>
        </p:nvSpPr>
        <p:spPr>
          <a:xfrm>
            <a:off x="4510080" y="1330200"/>
            <a:ext cx="169920" cy="17964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12874" y="4167"/>
                </a:moveTo>
                <a:cubicBezTo>
                  <a:pt x="12914" y="4116"/>
                  <a:pt x="12949" y="4055"/>
                  <a:pt x="12973" y="3994"/>
                </a:cubicBezTo>
                <a:cubicBezTo>
                  <a:pt x="13003" y="3917"/>
                  <a:pt x="13012" y="3847"/>
                  <a:pt x="12973" y="3770"/>
                </a:cubicBezTo>
                <a:cubicBezTo>
                  <a:pt x="12952" y="3728"/>
                  <a:pt x="12895" y="3688"/>
                  <a:pt x="12849" y="3696"/>
                </a:cubicBezTo>
                <a:cubicBezTo>
                  <a:pt x="12765" y="3711"/>
                  <a:pt x="12738" y="3754"/>
                  <a:pt x="12675" y="3795"/>
                </a:cubicBezTo>
                <a:cubicBezTo>
                  <a:pt x="12635" y="3821"/>
                  <a:pt x="12550" y="3852"/>
                  <a:pt x="12526" y="3894"/>
                </a:cubicBezTo>
                <a:cubicBezTo>
                  <a:pt x="12501" y="3938"/>
                  <a:pt x="12534" y="4029"/>
                  <a:pt x="12551" y="4068"/>
                </a:cubicBezTo>
                <a:cubicBezTo>
                  <a:pt x="12572" y="4115"/>
                  <a:pt x="12624" y="4178"/>
                  <a:pt x="12675" y="4192"/>
                </a:cubicBezTo>
                <a:cubicBezTo>
                  <a:pt x="12731" y="4207"/>
                  <a:pt x="12815" y="4192"/>
                  <a:pt x="12874" y="4192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Ink 19"/>
          <p:cNvSpPr/>
          <p:nvPr/>
        </p:nvSpPr>
        <p:spPr>
          <a:xfrm>
            <a:off x="4902120" y="1295280"/>
            <a:ext cx="1800" cy="204840"/>
          </a:xfrm>
          <a:custGeom>
            <a:avLst/>
            <a:gdLst/>
            <a:ahLst/>
            <a:rect l="l" t="t" r="r" b="b"/>
            <a:pathLst>
              <a:path w="1" h="571">
                <a:moveTo>
                  <a:pt x="13618" y="4167"/>
                </a:moveTo>
                <a:cubicBezTo>
                  <a:pt x="13618" y="3969"/>
                  <a:pt x="13618" y="3423"/>
                  <a:pt x="13618" y="3621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Ink 20"/>
          <p:cNvSpPr/>
          <p:nvPr/>
        </p:nvSpPr>
        <p:spPr>
          <a:xfrm>
            <a:off x="2911320" y="2374920"/>
            <a:ext cx="642960" cy="465120"/>
          </a:xfrm>
          <a:custGeom>
            <a:avLst/>
            <a:gdLst/>
            <a:ahLst/>
            <a:rect l="l" t="t" r="r" b="b"/>
            <a:pathLst>
              <a:path w="1787" h="1291">
                <a:moveTo>
                  <a:pt x="9227" y="6598"/>
                </a:moveTo>
                <a:cubicBezTo>
                  <a:pt x="9227" y="6734"/>
                  <a:pt x="9234" y="6874"/>
                  <a:pt x="9252" y="6995"/>
                </a:cubicBezTo>
                <a:cubicBezTo>
                  <a:pt x="9263" y="7070"/>
                  <a:pt x="9240" y="7065"/>
                  <a:pt x="9227" y="7119"/>
                </a:cubicBezTo>
              </a:path>
              <a:path w="1787" h="1291">
                <a:moveTo>
                  <a:pt x="9376" y="6672"/>
                </a:moveTo>
                <a:cubicBezTo>
                  <a:pt x="9432" y="6618"/>
                  <a:pt x="9448" y="6593"/>
                  <a:pt x="9525" y="6623"/>
                </a:cubicBezTo>
                <a:cubicBezTo>
                  <a:pt x="9622" y="6661"/>
                  <a:pt x="9574" y="6729"/>
                  <a:pt x="9525" y="6772"/>
                </a:cubicBezTo>
                <a:cubicBezTo>
                  <a:pt x="9499" y="6795"/>
                  <a:pt x="9475" y="6821"/>
                  <a:pt x="9451" y="6846"/>
                </a:cubicBezTo>
                <a:cubicBezTo>
                  <a:pt x="9504" y="6802"/>
                  <a:pt x="9540" y="6773"/>
                  <a:pt x="9599" y="6821"/>
                </a:cubicBezTo>
                <a:cubicBezTo>
                  <a:pt x="9646" y="6859"/>
                  <a:pt x="9630" y="6930"/>
                  <a:pt x="9599" y="6970"/>
                </a:cubicBezTo>
                <a:cubicBezTo>
                  <a:pt x="9562" y="7017"/>
                  <a:pt x="9495" y="7013"/>
                  <a:pt x="9451" y="6995"/>
                </a:cubicBezTo>
                <a:cubicBezTo>
                  <a:pt x="9403" y="6971"/>
                  <a:pt x="9388" y="6963"/>
                  <a:pt x="9351" y="6970"/>
                </a:cubicBezTo>
              </a:path>
              <a:path w="1787" h="1291">
                <a:moveTo>
                  <a:pt x="9823" y="6648"/>
                </a:moveTo>
                <a:cubicBezTo>
                  <a:pt x="9777" y="6621"/>
                  <a:pt x="9757" y="6623"/>
                  <a:pt x="9699" y="6623"/>
                </a:cubicBezTo>
                <a:cubicBezTo>
                  <a:pt x="9699" y="6673"/>
                  <a:pt x="9699" y="6722"/>
                  <a:pt x="9699" y="6772"/>
                </a:cubicBezTo>
                <a:cubicBezTo>
                  <a:pt x="9745" y="6772"/>
                  <a:pt x="9829" y="6758"/>
                  <a:pt x="9847" y="6821"/>
                </a:cubicBezTo>
                <a:cubicBezTo>
                  <a:pt x="9863" y="6879"/>
                  <a:pt x="9873" y="6942"/>
                  <a:pt x="9847" y="6995"/>
                </a:cubicBezTo>
                <a:cubicBezTo>
                  <a:pt x="9820" y="7050"/>
                  <a:pt x="9731" y="7021"/>
                  <a:pt x="9699" y="6995"/>
                </a:cubicBezTo>
                <a:cubicBezTo>
                  <a:pt x="9691" y="6987"/>
                  <a:pt x="9682" y="6978"/>
                  <a:pt x="9674" y="6970"/>
                </a:cubicBezTo>
              </a:path>
              <a:path w="1787" h="1291">
                <a:moveTo>
                  <a:pt x="8359" y="7491"/>
                </a:moveTo>
                <a:cubicBezTo>
                  <a:pt x="8380" y="7547"/>
                  <a:pt x="8385" y="7617"/>
                  <a:pt x="8409" y="7665"/>
                </a:cubicBezTo>
                <a:cubicBezTo>
                  <a:pt x="8435" y="7717"/>
                  <a:pt x="8453" y="7777"/>
                  <a:pt x="8458" y="7838"/>
                </a:cubicBezTo>
                <a:cubicBezTo>
                  <a:pt x="8458" y="7846"/>
                  <a:pt x="8458" y="7855"/>
                  <a:pt x="8458" y="7863"/>
                </a:cubicBezTo>
              </a:path>
              <a:path w="1787" h="1291">
                <a:moveTo>
                  <a:pt x="8607" y="7491"/>
                </a:moveTo>
                <a:cubicBezTo>
                  <a:pt x="8597" y="7563"/>
                  <a:pt x="8582" y="7606"/>
                  <a:pt x="8582" y="7689"/>
                </a:cubicBezTo>
                <a:cubicBezTo>
                  <a:pt x="8582" y="7740"/>
                  <a:pt x="8601" y="7799"/>
                  <a:pt x="8632" y="7838"/>
                </a:cubicBezTo>
                <a:cubicBezTo>
                  <a:pt x="8674" y="7890"/>
                  <a:pt x="8726" y="7860"/>
                  <a:pt x="8756" y="7813"/>
                </a:cubicBezTo>
                <a:cubicBezTo>
                  <a:pt x="8795" y="7754"/>
                  <a:pt x="8787" y="7705"/>
                  <a:pt x="8781" y="7665"/>
                </a:cubicBezTo>
                <a:cubicBezTo>
                  <a:pt x="8781" y="7620"/>
                  <a:pt x="8784" y="7607"/>
                  <a:pt x="8756" y="7590"/>
                </a:cubicBezTo>
                <a:cubicBezTo>
                  <a:pt x="8722" y="7632"/>
                  <a:pt x="8691" y="7692"/>
                  <a:pt x="8682" y="7739"/>
                </a:cubicBezTo>
                <a:cubicBezTo>
                  <a:pt x="8673" y="7784"/>
                  <a:pt x="8682" y="7842"/>
                  <a:pt x="8682" y="7888"/>
                </a:cubicBezTo>
              </a:path>
              <a:path w="1787" h="1291">
                <a:moveTo>
                  <a:pt x="9054" y="7491"/>
                </a:moveTo>
                <a:cubicBezTo>
                  <a:pt x="9014" y="7491"/>
                  <a:pt x="8899" y="7468"/>
                  <a:pt x="8880" y="7516"/>
                </a:cubicBezTo>
                <a:cubicBezTo>
                  <a:pt x="8880" y="7560"/>
                  <a:pt x="8883" y="7574"/>
                  <a:pt x="8855" y="7590"/>
                </a:cubicBezTo>
                <a:cubicBezTo>
                  <a:pt x="8908" y="7622"/>
                  <a:pt x="8974" y="7615"/>
                  <a:pt x="9029" y="7640"/>
                </a:cubicBezTo>
                <a:cubicBezTo>
                  <a:pt x="9084" y="7666"/>
                  <a:pt x="9054" y="7758"/>
                  <a:pt x="9029" y="7789"/>
                </a:cubicBezTo>
                <a:cubicBezTo>
                  <a:pt x="8978" y="7851"/>
                  <a:pt x="8910" y="7846"/>
                  <a:pt x="8855" y="7813"/>
                </a:cubicBezTo>
              </a:path>
              <a:path w="1787" h="1291">
                <a:moveTo>
                  <a:pt x="8310" y="7466"/>
                </a:moveTo>
                <a:cubicBezTo>
                  <a:pt x="8310" y="7535"/>
                  <a:pt x="8306" y="7628"/>
                  <a:pt x="8334" y="7689"/>
                </a:cubicBezTo>
                <a:cubicBezTo>
                  <a:pt x="8359" y="7742"/>
                  <a:pt x="8378" y="7813"/>
                  <a:pt x="8409" y="7863"/>
                </a:cubicBezTo>
                <a:cubicBezTo>
                  <a:pt x="8417" y="7871"/>
                  <a:pt x="8426" y="7880"/>
                  <a:pt x="8434" y="7888"/>
                </a:cubicBezTo>
                <a:cubicBezTo>
                  <a:pt x="8486" y="7835"/>
                  <a:pt x="8481" y="7798"/>
                  <a:pt x="8508" y="7739"/>
                </a:cubicBezTo>
                <a:cubicBezTo>
                  <a:pt x="8535" y="7680"/>
                  <a:pt x="8549" y="7611"/>
                  <a:pt x="8558" y="7541"/>
                </a:cubicBezTo>
                <a:cubicBezTo>
                  <a:pt x="8601" y="7596"/>
                  <a:pt x="8664" y="7670"/>
                  <a:pt x="8682" y="7739"/>
                </a:cubicBezTo>
                <a:cubicBezTo>
                  <a:pt x="8698" y="7800"/>
                  <a:pt x="8685" y="7792"/>
                  <a:pt x="8731" y="7838"/>
                </a:cubicBezTo>
                <a:cubicBezTo>
                  <a:pt x="8773" y="7796"/>
                  <a:pt x="8796" y="7760"/>
                  <a:pt x="8830" y="7714"/>
                </a:cubicBezTo>
                <a:cubicBezTo>
                  <a:pt x="8880" y="7647"/>
                  <a:pt x="8873" y="7591"/>
                  <a:pt x="8905" y="7516"/>
                </a:cubicBezTo>
                <a:cubicBezTo>
                  <a:pt x="8913" y="7499"/>
                  <a:pt x="8922" y="7483"/>
                  <a:pt x="8930" y="7466"/>
                </a:cubicBezTo>
                <a:cubicBezTo>
                  <a:pt x="8988" y="7513"/>
                  <a:pt x="8997" y="7530"/>
                  <a:pt x="9029" y="7590"/>
                </a:cubicBezTo>
                <a:cubicBezTo>
                  <a:pt x="9051" y="7631"/>
                  <a:pt x="9056" y="7740"/>
                  <a:pt x="9103" y="7764"/>
                </a:cubicBezTo>
                <a:cubicBezTo>
                  <a:pt x="9120" y="7764"/>
                  <a:pt x="9136" y="7764"/>
                  <a:pt x="9153" y="7764"/>
                </a:cubicBezTo>
              </a:path>
              <a:path w="1787" h="1291">
                <a:moveTo>
                  <a:pt x="8111" y="6970"/>
                </a:moveTo>
                <a:cubicBezTo>
                  <a:pt x="8111" y="7088"/>
                  <a:pt x="8144" y="7271"/>
                  <a:pt x="8086" y="7367"/>
                </a:cubicBezTo>
              </a:path>
              <a:path w="1787" h="1291">
                <a:moveTo>
                  <a:pt x="8409" y="6970"/>
                </a:moveTo>
                <a:cubicBezTo>
                  <a:pt x="8369" y="6970"/>
                  <a:pt x="8254" y="6947"/>
                  <a:pt x="8235" y="6995"/>
                </a:cubicBezTo>
                <a:cubicBezTo>
                  <a:pt x="8235" y="7045"/>
                  <a:pt x="8235" y="7061"/>
                  <a:pt x="8235" y="7094"/>
                </a:cubicBezTo>
                <a:cubicBezTo>
                  <a:pt x="8282" y="7094"/>
                  <a:pt x="8366" y="7080"/>
                  <a:pt x="8384" y="7144"/>
                </a:cubicBezTo>
                <a:cubicBezTo>
                  <a:pt x="8403" y="7210"/>
                  <a:pt x="8376" y="7270"/>
                  <a:pt x="8334" y="7317"/>
                </a:cubicBezTo>
                <a:cubicBezTo>
                  <a:pt x="8285" y="7372"/>
                  <a:pt x="8231" y="7333"/>
                  <a:pt x="8186" y="7293"/>
                </a:cubicBezTo>
                <a:cubicBezTo>
                  <a:pt x="8163" y="7270"/>
                  <a:pt x="8155" y="7266"/>
                  <a:pt x="8161" y="7243"/>
                </a:cubicBezTo>
              </a:path>
              <a:path w="1787" h="1291">
                <a:moveTo>
                  <a:pt x="8558" y="6995"/>
                </a:moveTo>
                <a:cubicBezTo>
                  <a:pt x="8558" y="7073"/>
                  <a:pt x="8521" y="7143"/>
                  <a:pt x="8533" y="7218"/>
                </a:cubicBezTo>
                <a:cubicBezTo>
                  <a:pt x="8541" y="7272"/>
                  <a:pt x="8585" y="7366"/>
                  <a:pt x="8657" y="7342"/>
                </a:cubicBezTo>
                <a:cubicBezTo>
                  <a:pt x="8728" y="7318"/>
                  <a:pt x="8752" y="7261"/>
                  <a:pt x="8756" y="7193"/>
                </a:cubicBezTo>
                <a:cubicBezTo>
                  <a:pt x="8759" y="7138"/>
                  <a:pt x="8769" y="7022"/>
                  <a:pt x="8706" y="6995"/>
                </a:cubicBezTo>
                <a:cubicBezTo>
                  <a:pt x="8657" y="6995"/>
                  <a:pt x="8640" y="6995"/>
                  <a:pt x="8607" y="6995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Ink 21"/>
          <p:cNvSpPr/>
          <p:nvPr/>
        </p:nvSpPr>
        <p:spPr>
          <a:xfrm>
            <a:off x="3625920" y="2152800"/>
            <a:ext cx="276120" cy="16956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10071" y="6003"/>
                </a:moveTo>
                <a:cubicBezTo>
                  <a:pt x="10131" y="6093"/>
                  <a:pt x="10092" y="6156"/>
                  <a:pt x="10120" y="6251"/>
                </a:cubicBezTo>
                <a:cubicBezTo>
                  <a:pt x="10139" y="6314"/>
                  <a:pt x="10160" y="6381"/>
                  <a:pt x="10170" y="6449"/>
                </a:cubicBezTo>
              </a:path>
              <a:path w="770" h="472">
                <a:moveTo>
                  <a:pt x="10244" y="6003"/>
                </a:moveTo>
                <a:cubicBezTo>
                  <a:pt x="10300" y="5970"/>
                  <a:pt x="10360" y="5961"/>
                  <a:pt x="10418" y="6003"/>
                </a:cubicBezTo>
                <a:cubicBezTo>
                  <a:pt x="10443" y="6028"/>
                  <a:pt x="10451" y="6036"/>
                  <a:pt x="10468" y="6052"/>
                </a:cubicBezTo>
                <a:cubicBezTo>
                  <a:pt x="10438" y="6102"/>
                  <a:pt x="10433" y="6149"/>
                  <a:pt x="10393" y="6201"/>
                </a:cubicBezTo>
                <a:cubicBezTo>
                  <a:pt x="10365" y="6238"/>
                  <a:pt x="10353" y="6307"/>
                  <a:pt x="10418" y="6325"/>
                </a:cubicBezTo>
                <a:cubicBezTo>
                  <a:pt x="10468" y="6339"/>
                  <a:pt x="10521" y="6338"/>
                  <a:pt x="10567" y="6350"/>
                </a:cubicBezTo>
              </a:path>
              <a:path w="770" h="472">
                <a:moveTo>
                  <a:pt x="10666" y="6003"/>
                </a:moveTo>
                <a:cubicBezTo>
                  <a:pt x="10613" y="6056"/>
                  <a:pt x="10616" y="6076"/>
                  <a:pt x="10616" y="6152"/>
                </a:cubicBezTo>
                <a:cubicBezTo>
                  <a:pt x="10616" y="6195"/>
                  <a:pt x="10602" y="6287"/>
                  <a:pt x="10666" y="6300"/>
                </a:cubicBezTo>
                <a:cubicBezTo>
                  <a:pt x="10747" y="6317"/>
                  <a:pt x="10766" y="6275"/>
                  <a:pt x="10815" y="6226"/>
                </a:cubicBezTo>
                <a:cubicBezTo>
                  <a:pt x="10864" y="6177"/>
                  <a:pt x="10848" y="6085"/>
                  <a:pt x="10815" y="6028"/>
                </a:cubicBezTo>
                <a:cubicBezTo>
                  <a:pt x="10783" y="5972"/>
                  <a:pt x="10731" y="6013"/>
                  <a:pt x="10691" y="6028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Ink 22"/>
          <p:cNvSpPr/>
          <p:nvPr/>
        </p:nvSpPr>
        <p:spPr>
          <a:xfrm>
            <a:off x="1714680" y="3562200"/>
            <a:ext cx="80640" cy="9720"/>
          </a:xfrm>
          <a:custGeom>
            <a:avLst/>
            <a:gdLst/>
            <a:ahLst/>
            <a:rect l="l" t="t" r="r" b="b"/>
            <a:pathLst>
              <a:path w="225" h="26">
                <a:moveTo>
                  <a:pt x="4986" y="9922"/>
                </a:moveTo>
                <a:cubicBezTo>
                  <a:pt x="4907" y="9922"/>
                  <a:pt x="4826" y="9935"/>
                  <a:pt x="4762" y="9897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Ink 23"/>
          <p:cNvSpPr/>
          <p:nvPr/>
        </p:nvSpPr>
        <p:spPr>
          <a:xfrm>
            <a:off x="1884240" y="3456000"/>
            <a:ext cx="17640" cy="196920"/>
          </a:xfrm>
          <a:custGeom>
            <a:avLst/>
            <a:gdLst/>
            <a:ahLst/>
            <a:rect l="l" t="t" r="r" b="b"/>
            <a:pathLst>
              <a:path w="50" h="547">
                <a:moveTo>
                  <a:pt x="5259" y="9599"/>
                </a:moveTo>
                <a:cubicBezTo>
                  <a:pt x="5267" y="9607"/>
                  <a:pt x="5275" y="9616"/>
                  <a:pt x="5283" y="9624"/>
                </a:cubicBezTo>
                <a:cubicBezTo>
                  <a:pt x="5264" y="9663"/>
                  <a:pt x="5262" y="9688"/>
                  <a:pt x="5259" y="9748"/>
                </a:cubicBezTo>
                <a:cubicBezTo>
                  <a:pt x="5254" y="9828"/>
                  <a:pt x="5245" y="9838"/>
                  <a:pt x="5259" y="9922"/>
                </a:cubicBezTo>
                <a:cubicBezTo>
                  <a:pt x="5271" y="9996"/>
                  <a:pt x="5249" y="10054"/>
                  <a:pt x="5234" y="10120"/>
                </a:cubicBezTo>
                <a:cubicBezTo>
                  <a:pt x="5234" y="10128"/>
                  <a:pt x="5234" y="10137"/>
                  <a:pt x="5234" y="10145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Ink 24"/>
          <p:cNvSpPr/>
          <p:nvPr/>
        </p:nvSpPr>
        <p:spPr>
          <a:xfrm>
            <a:off x="2071800" y="3446640"/>
            <a:ext cx="152280" cy="223560"/>
          </a:xfrm>
          <a:custGeom>
            <a:avLst/>
            <a:gdLst/>
            <a:ahLst/>
            <a:rect l="l" t="t" r="r" b="b"/>
            <a:pathLst>
              <a:path w="422" h="621">
                <a:moveTo>
                  <a:pt x="6003" y="10120"/>
                </a:moveTo>
                <a:cubicBezTo>
                  <a:pt x="6045" y="10079"/>
                  <a:pt x="6074" y="10048"/>
                  <a:pt x="6102" y="9996"/>
                </a:cubicBezTo>
                <a:cubicBezTo>
                  <a:pt x="6139" y="9927"/>
                  <a:pt x="6187" y="9910"/>
                  <a:pt x="6176" y="9823"/>
                </a:cubicBezTo>
                <a:cubicBezTo>
                  <a:pt x="6164" y="9731"/>
                  <a:pt x="6138" y="9685"/>
                  <a:pt x="6077" y="9624"/>
                </a:cubicBezTo>
                <a:cubicBezTo>
                  <a:pt x="6018" y="9565"/>
                  <a:pt x="5976" y="9567"/>
                  <a:pt x="5904" y="9599"/>
                </a:cubicBezTo>
                <a:cubicBezTo>
                  <a:pt x="5865" y="9616"/>
                  <a:pt x="5768" y="9676"/>
                  <a:pt x="5755" y="9723"/>
                </a:cubicBezTo>
                <a:cubicBezTo>
                  <a:pt x="5739" y="9780"/>
                  <a:pt x="5744" y="9878"/>
                  <a:pt x="5779" y="9922"/>
                </a:cubicBezTo>
                <a:cubicBezTo>
                  <a:pt x="5821" y="9976"/>
                  <a:pt x="5837" y="10041"/>
                  <a:pt x="5879" y="10096"/>
                </a:cubicBezTo>
                <a:cubicBezTo>
                  <a:pt x="5906" y="10131"/>
                  <a:pt x="5920" y="10151"/>
                  <a:pt x="5928" y="10195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Ink 25"/>
          <p:cNvSpPr/>
          <p:nvPr/>
        </p:nvSpPr>
        <p:spPr>
          <a:xfrm>
            <a:off x="2320920" y="3490920"/>
            <a:ext cx="144360" cy="15228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6449" y="9748"/>
                </a:moveTo>
                <a:cubicBezTo>
                  <a:pt x="6523" y="9748"/>
                  <a:pt x="6577" y="9727"/>
                  <a:pt x="6648" y="9723"/>
                </a:cubicBezTo>
                <a:cubicBezTo>
                  <a:pt x="6722" y="9719"/>
                  <a:pt x="6782" y="9730"/>
                  <a:pt x="6846" y="9699"/>
                </a:cubicBezTo>
              </a:path>
              <a:path w="398" h="422">
                <a:moveTo>
                  <a:pt x="6598" y="9723"/>
                </a:moveTo>
                <a:cubicBezTo>
                  <a:pt x="6592" y="9844"/>
                  <a:pt x="6567" y="9940"/>
                  <a:pt x="6548" y="10046"/>
                </a:cubicBezTo>
                <a:cubicBezTo>
                  <a:pt x="6548" y="10091"/>
                  <a:pt x="6545" y="10111"/>
                  <a:pt x="6573" y="10071"/>
                </a:cubicBezTo>
              </a:path>
              <a:path w="398" h="422">
                <a:moveTo>
                  <a:pt x="6722" y="9723"/>
                </a:moveTo>
                <a:cubicBezTo>
                  <a:pt x="6722" y="9855"/>
                  <a:pt x="6722" y="9988"/>
                  <a:pt x="6722" y="10120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Ink 26"/>
          <p:cNvSpPr/>
          <p:nvPr/>
        </p:nvSpPr>
        <p:spPr>
          <a:xfrm>
            <a:off x="2724120" y="3473280"/>
            <a:ext cx="2761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7565" y="9699"/>
                </a:moveTo>
                <a:cubicBezTo>
                  <a:pt x="7565" y="9797"/>
                  <a:pt x="7576" y="9877"/>
                  <a:pt x="7590" y="9971"/>
                </a:cubicBezTo>
                <a:cubicBezTo>
                  <a:pt x="7599" y="10033"/>
                  <a:pt x="7603" y="10086"/>
                  <a:pt x="7615" y="10145"/>
                </a:cubicBezTo>
              </a:path>
              <a:path w="770" h="547">
                <a:moveTo>
                  <a:pt x="7913" y="9674"/>
                </a:moveTo>
                <a:cubicBezTo>
                  <a:pt x="7891" y="9711"/>
                  <a:pt x="7849" y="9776"/>
                  <a:pt x="7838" y="9823"/>
                </a:cubicBezTo>
                <a:cubicBezTo>
                  <a:pt x="7825" y="9878"/>
                  <a:pt x="7879" y="9942"/>
                  <a:pt x="7938" y="9922"/>
                </a:cubicBezTo>
                <a:cubicBezTo>
                  <a:pt x="7994" y="9903"/>
                  <a:pt x="8009" y="9819"/>
                  <a:pt x="8012" y="9773"/>
                </a:cubicBezTo>
                <a:cubicBezTo>
                  <a:pt x="8017" y="9676"/>
                  <a:pt x="7974" y="9692"/>
                  <a:pt x="7913" y="9699"/>
                </a:cubicBezTo>
                <a:cubicBezTo>
                  <a:pt x="7871" y="9699"/>
                  <a:pt x="7863" y="9699"/>
                  <a:pt x="7838" y="9699"/>
                </a:cubicBezTo>
              </a:path>
              <a:path w="770" h="547">
                <a:moveTo>
                  <a:pt x="7863" y="9922"/>
                </a:moveTo>
                <a:cubicBezTo>
                  <a:pt x="7834" y="9969"/>
                  <a:pt x="7816" y="10014"/>
                  <a:pt x="7813" y="10071"/>
                </a:cubicBezTo>
                <a:cubicBezTo>
                  <a:pt x="7810" y="10116"/>
                  <a:pt x="7862" y="10198"/>
                  <a:pt x="7913" y="10195"/>
                </a:cubicBezTo>
                <a:cubicBezTo>
                  <a:pt x="7961" y="10193"/>
                  <a:pt x="8076" y="10147"/>
                  <a:pt x="8111" y="10120"/>
                </a:cubicBezTo>
                <a:cubicBezTo>
                  <a:pt x="8171" y="10073"/>
                  <a:pt x="8123" y="9993"/>
                  <a:pt x="8086" y="9947"/>
                </a:cubicBezTo>
                <a:cubicBezTo>
                  <a:pt x="8062" y="9922"/>
                  <a:pt x="8054" y="9913"/>
                  <a:pt x="8037" y="9897"/>
                </a:cubicBezTo>
              </a:path>
              <a:path w="770" h="547">
                <a:moveTo>
                  <a:pt x="8210" y="9649"/>
                </a:moveTo>
                <a:cubicBezTo>
                  <a:pt x="8161" y="9712"/>
                  <a:pt x="8145" y="9792"/>
                  <a:pt x="8136" y="9872"/>
                </a:cubicBezTo>
                <a:cubicBezTo>
                  <a:pt x="8126" y="9961"/>
                  <a:pt x="8134" y="10026"/>
                  <a:pt x="8186" y="10096"/>
                </a:cubicBezTo>
                <a:cubicBezTo>
                  <a:pt x="8226" y="10150"/>
                  <a:pt x="8315" y="10132"/>
                  <a:pt x="8334" y="10071"/>
                </a:cubicBezTo>
                <a:cubicBezTo>
                  <a:pt x="8359" y="9988"/>
                  <a:pt x="8339" y="9750"/>
                  <a:pt x="8310" y="9699"/>
                </a:cubicBezTo>
                <a:cubicBezTo>
                  <a:pt x="8282" y="9671"/>
                  <a:pt x="8268" y="9662"/>
                  <a:pt x="8235" y="9674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Ink 27"/>
          <p:cNvSpPr/>
          <p:nvPr/>
        </p:nvSpPr>
        <p:spPr>
          <a:xfrm>
            <a:off x="2901960" y="4197240"/>
            <a:ext cx="260280" cy="152640"/>
          </a:xfrm>
          <a:custGeom>
            <a:avLst/>
            <a:gdLst/>
            <a:ahLst/>
            <a:rect l="l" t="t" r="r" b="b"/>
            <a:pathLst>
              <a:path w="720" h="423">
                <a:moveTo>
                  <a:pt x="8062" y="11782"/>
                </a:moveTo>
                <a:cubicBezTo>
                  <a:pt x="8087" y="11738"/>
                  <a:pt x="8101" y="11718"/>
                  <a:pt x="8136" y="11683"/>
                </a:cubicBezTo>
                <a:cubicBezTo>
                  <a:pt x="8162" y="11727"/>
                  <a:pt x="8177" y="11800"/>
                  <a:pt x="8161" y="11857"/>
                </a:cubicBezTo>
                <a:cubicBezTo>
                  <a:pt x="8143" y="11921"/>
                  <a:pt x="8134" y="11959"/>
                  <a:pt x="8086" y="12005"/>
                </a:cubicBezTo>
                <a:cubicBezTo>
                  <a:pt x="8152" y="12005"/>
                  <a:pt x="8219" y="12005"/>
                  <a:pt x="8285" y="12005"/>
                </a:cubicBezTo>
              </a:path>
              <a:path w="720" h="423">
                <a:moveTo>
                  <a:pt x="8384" y="11733"/>
                </a:moveTo>
                <a:cubicBezTo>
                  <a:pt x="8384" y="11849"/>
                  <a:pt x="8384" y="11964"/>
                  <a:pt x="8384" y="12080"/>
                </a:cubicBezTo>
              </a:path>
              <a:path w="720" h="423">
                <a:moveTo>
                  <a:pt x="8607" y="11708"/>
                </a:moveTo>
                <a:cubicBezTo>
                  <a:pt x="8576" y="11760"/>
                  <a:pt x="8568" y="11843"/>
                  <a:pt x="8558" y="11906"/>
                </a:cubicBezTo>
                <a:cubicBezTo>
                  <a:pt x="8551" y="11950"/>
                  <a:pt x="8580" y="12040"/>
                  <a:pt x="8632" y="12055"/>
                </a:cubicBezTo>
                <a:cubicBezTo>
                  <a:pt x="8725" y="12082"/>
                  <a:pt x="8746" y="11938"/>
                  <a:pt x="8756" y="11881"/>
                </a:cubicBezTo>
                <a:cubicBezTo>
                  <a:pt x="8771" y="11791"/>
                  <a:pt x="8775" y="11801"/>
                  <a:pt x="8731" y="11733"/>
                </a:cubicBezTo>
                <a:cubicBezTo>
                  <a:pt x="8674" y="11646"/>
                  <a:pt x="8692" y="11666"/>
                  <a:pt x="8607" y="11683"/>
                </a:cubicBezTo>
                <a:cubicBezTo>
                  <a:pt x="8591" y="11683"/>
                  <a:pt x="8574" y="11683"/>
                  <a:pt x="8558" y="11683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Ink 28"/>
          <p:cNvSpPr/>
          <p:nvPr/>
        </p:nvSpPr>
        <p:spPr>
          <a:xfrm>
            <a:off x="3081240" y="4572000"/>
            <a:ext cx="633600" cy="366840"/>
          </a:xfrm>
          <a:custGeom>
            <a:avLst/>
            <a:gdLst/>
            <a:ahLst/>
            <a:rect l="l" t="t" r="r" b="b"/>
            <a:pathLst>
              <a:path w="1762" h="1018">
                <a:moveTo>
                  <a:pt x="8607" y="12774"/>
                </a:moveTo>
                <a:cubicBezTo>
                  <a:pt x="8654" y="12729"/>
                  <a:pt x="8673" y="12705"/>
                  <a:pt x="8731" y="12750"/>
                </a:cubicBezTo>
                <a:cubicBezTo>
                  <a:pt x="8796" y="12801"/>
                  <a:pt x="8734" y="12850"/>
                  <a:pt x="8706" y="12898"/>
                </a:cubicBezTo>
                <a:cubicBezTo>
                  <a:pt x="8675" y="12950"/>
                  <a:pt x="8650" y="12980"/>
                  <a:pt x="8607" y="13022"/>
                </a:cubicBezTo>
                <a:cubicBezTo>
                  <a:pt x="8582" y="13047"/>
                  <a:pt x="8574" y="13055"/>
                  <a:pt x="8558" y="13072"/>
                </a:cubicBezTo>
                <a:cubicBezTo>
                  <a:pt x="8634" y="13098"/>
                  <a:pt x="8699" y="13097"/>
                  <a:pt x="8781" y="13097"/>
                </a:cubicBezTo>
                <a:cubicBezTo>
                  <a:pt x="8822" y="13097"/>
                  <a:pt x="8830" y="13097"/>
                  <a:pt x="8855" y="13097"/>
                </a:cubicBezTo>
              </a:path>
              <a:path w="1762" h="1018">
                <a:moveTo>
                  <a:pt x="8905" y="12750"/>
                </a:moveTo>
                <a:cubicBezTo>
                  <a:pt x="8947" y="12729"/>
                  <a:pt x="9051" y="12698"/>
                  <a:pt x="9079" y="12774"/>
                </a:cubicBezTo>
                <a:cubicBezTo>
                  <a:pt x="9102" y="12837"/>
                  <a:pt x="9064" y="12923"/>
                  <a:pt x="9029" y="12973"/>
                </a:cubicBezTo>
                <a:cubicBezTo>
                  <a:pt x="8998" y="13018"/>
                  <a:pt x="8944" y="13058"/>
                  <a:pt x="8905" y="13097"/>
                </a:cubicBezTo>
                <a:cubicBezTo>
                  <a:pt x="8964" y="13097"/>
                  <a:pt x="9052" y="13138"/>
                  <a:pt x="9103" y="13122"/>
                </a:cubicBezTo>
                <a:cubicBezTo>
                  <a:pt x="9111" y="13114"/>
                  <a:pt x="9120" y="13105"/>
                  <a:pt x="9128" y="13097"/>
                </a:cubicBezTo>
              </a:path>
              <a:path w="1762" h="1018">
                <a:moveTo>
                  <a:pt x="9426" y="12725"/>
                </a:moveTo>
                <a:cubicBezTo>
                  <a:pt x="9368" y="12696"/>
                  <a:pt x="9279" y="12664"/>
                  <a:pt x="9252" y="12750"/>
                </a:cubicBezTo>
                <a:cubicBezTo>
                  <a:pt x="9237" y="12799"/>
                  <a:pt x="9252" y="12872"/>
                  <a:pt x="9252" y="12923"/>
                </a:cubicBezTo>
                <a:cubicBezTo>
                  <a:pt x="9297" y="12896"/>
                  <a:pt x="9395" y="12875"/>
                  <a:pt x="9426" y="12948"/>
                </a:cubicBezTo>
                <a:cubicBezTo>
                  <a:pt x="9443" y="12989"/>
                  <a:pt x="9428" y="13082"/>
                  <a:pt x="9376" y="13097"/>
                </a:cubicBezTo>
                <a:cubicBezTo>
                  <a:pt x="9318" y="13114"/>
                  <a:pt x="9274" y="13084"/>
                  <a:pt x="9227" y="13072"/>
                </a:cubicBezTo>
              </a:path>
              <a:path w="1762" h="1018">
                <a:moveTo>
                  <a:pt x="9475" y="13320"/>
                </a:moveTo>
                <a:cubicBezTo>
                  <a:pt x="9531" y="13250"/>
                  <a:pt x="9531" y="13246"/>
                  <a:pt x="9624" y="13246"/>
                </a:cubicBezTo>
                <a:cubicBezTo>
                  <a:pt x="9624" y="13323"/>
                  <a:pt x="9615" y="13376"/>
                  <a:pt x="9575" y="13444"/>
                </a:cubicBezTo>
                <a:cubicBezTo>
                  <a:pt x="9544" y="13496"/>
                  <a:pt x="9503" y="13535"/>
                  <a:pt x="9475" y="13593"/>
                </a:cubicBezTo>
                <a:cubicBezTo>
                  <a:pt x="9467" y="13610"/>
                  <a:pt x="9459" y="13626"/>
                  <a:pt x="9451" y="13643"/>
                </a:cubicBezTo>
                <a:cubicBezTo>
                  <a:pt x="9517" y="13682"/>
                  <a:pt x="9559" y="13655"/>
                  <a:pt x="9624" y="13643"/>
                </a:cubicBezTo>
                <a:cubicBezTo>
                  <a:pt x="9676" y="13643"/>
                  <a:pt x="9694" y="13641"/>
                  <a:pt x="9699" y="13593"/>
                </a:cubicBezTo>
              </a:path>
              <a:path w="1762" h="1018">
                <a:moveTo>
                  <a:pt x="9823" y="13246"/>
                </a:moveTo>
                <a:cubicBezTo>
                  <a:pt x="9815" y="13310"/>
                  <a:pt x="9764" y="13372"/>
                  <a:pt x="9798" y="13419"/>
                </a:cubicBezTo>
                <a:cubicBezTo>
                  <a:pt x="9842" y="13482"/>
                  <a:pt x="9930" y="13469"/>
                  <a:pt x="9996" y="13469"/>
                </a:cubicBezTo>
                <a:cubicBezTo>
                  <a:pt x="10013" y="13469"/>
                  <a:pt x="10029" y="13469"/>
                  <a:pt x="10046" y="13469"/>
                </a:cubicBezTo>
              </a:path>
              <a:path w="1762" h="1018">
                <a:moveTo>
                  <a:pt x="9996" y="13221"/>
                </a:moveTo>
                <a:cubicBezTo>
                  <a:pt x="9996" y="13386"/>
                  <a:pt x="9996" y="13552"/>
                  <a:pt x="9996" y="13717"/>
                </a:cubicBezTo>
              </a:path>
              <a:path w="1762" h="1018">
                <a:moveTo>
                  <a:pt x="10145" y="13345"/>
                </a:moveTo>
                <a:cubicBezTo>
                  <a:pt x="10104" y="13426"/>
                  <a:pt x="10131" y="13461"/>
                  <a:pt x="10145" y="13543"/>
                </a:cubicBezTo>
                <a:cubicBezTo>
                  <a:pt x="10160" y="13635"/>
                  <a:pt x="10203" y="13627"/>
                  <a:pt x="10269" y="13568"/>
                </a:cubicBezTo>
                <a:cubicBezTo>
                  <a:pt x="10317" y="13525"/>
                  <a:pt x="10334" y="13487"/>
                  <a:pt x="10319" y="13419"/>
                </a:cubicBezTo>
                <a:cubicBezTo>
                  <a:pt x="10309" y="13374"/>
                  <a:pt x="10270" y="13293"/>
                  <a:pt x="10220" y="13271"/>
                </a:cubicBezTo>
                <a:cubicBezTo>
                  <a:pt x="10212" y="13271"/>
                  <a:pt x="10203" y="13271"/>
                  <a:pt x="10195" y="13271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Ink 29"/>
          <p:cNvSpPr/>
          <p:nvPr/>
        </p:nvSpPr>
        <p:spPr>
          <a:xfrm>
            <a:off x="4456080" y="5537160"/>
            <a:ext cx="330120" cy="169920"/>
          </a:xfrm>
          <a:custGeom>
            <a:avLst/>
            <a:gdLst/>
            <a:ahLst/>
            <a:rect l="l" t="t" r="r" b="b"/>
            <a:pathLst>
              <a:path w="918" h="472">
                <a:moveTo>
                  <a:pt x="12378" y="15478"/>
                </a:moveTo>
                <a:cubicBezTo>
                  <a:pt x="12453" y="15467"/>
                  <a:pt x="12477" y="15451"/>
                  <a:pt x="12551" y="15503"/>
                </a:cubicBezTo>
                <a:cubicBezTo>
                  <a:pt x="12616" y="15548"/>
                  <a:pt x="12606" y="15586"/>
                  <a:pt x="12576" y="15652"/>
                </a:cubicBezTo>
                <a:cubicBezTo>
                  <a:pt x="12554" y="15701"/>
                  <a:pt x="12551" y="15734"/>
                  <a:pt x="12526" y="15776"/>
                </a:cubicBezTo>
                <a:cubicBezTo>
                  <a:pt x="12562" y="15804"/>
                  <a:pt x="12654" y="15857"/>
                  <a:pt x="12700" y="15850"/>
                </a:cubicBezTo>
                <a:cubicBezTo>
                  <a:pt x="12708" y="15842"/>
                  <a:pt x="12717" y="15833"/>
                  <a:pt x="12725" y="15825"/>
                </a:cubicBezTo>
              </a:path>
              <a:path w="918" h="472">
                <a:moveTo>
                  <a:pt x="12774" y="15404"/>
                </a:moveTo>
                <a:cubicBezTo>
                  <a:pt x="12849" y="15404"/>
                  <a:pt x="12870" y="15401"/>
                  <a:pt x="12923" y="15453"/>
                </a:cubicBezTo>
                <a:cubicBezTo>
                  <a:pt x="12978" y="15507"/>
                  <a:pt x="12885" y="15564"/>
                  <a:pt x="12874" y="15627"/>
                </a:cubicBezTo>
                <a:cubicBezTo>
                  <a:pt x="12862" y="15698"/>
                  <a:pt x="12839" y="15742"/>
                  <a:pt x="12874" y="15801"/>
                </a:cubicBezTo>
              </a:path>
              <a:path w="918" h="472">
                <a:moveTo>
                  <a:pt x="13122" y="15429"/>
                </a:moveTo>
                <a:cubicBezTo>
                  <a:pt x="13093" y="15487"/>
                  <a:pt x="13036" y="15571"/>
                  <a:pt x="13022" y="15627"/>
                </a:cubicBezTo>
                <a:cubicBezTo>
                  <a:pt x="13011" y="15672"/>
                  <a:pt x="13016" y="15781"/>
                  <a:pt x="13072" y="15801"/>
                </a:cubicBezTo>
                <a:cubicBezTo>
                  <a:pt x="13146" y="15827"/>
                  <a:pt x="13171" y="15783"/>
                  <a:pt x="13221" y="15751"/>
                </a:cubicBezTo>
                <a:cubicBezTo>
                  <a:pt x="13285" y="15710"/>
                  <a:pt x="13318" y="15661"/>
                  <a:pt x="13295" y="15577"/>
                </a:cubicBezTo>
                <a:cubicBezTo>
                  <a:pt x="13280" y="15521"/>
                  <a:pt x="13231" y="15450"/>
                  <a:pt x="13196" y="15404"/>
                </a:cubicBezTo>
                <a:cubicBezTo>
                  <a:pt x="13173" y="15381"/>
                  <a:pt x="13169" y="15373"/>
                  <a:pt x="13146" y="15379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Ink 30"/>
          <p:cNvSpPr/>
          <p:nvPr/>
        </p:nvSpPr>
        <p:spPr>
          <a:xfrm>
            <a:off x="5160960" y="4795920"/>
            <a:ext cx="295200" cy="169920"/>
          </a:xfrm>
          <a:custGeom>
            <a:avLst/>
            <a:gdLst/>
            <a:ahLst/>
            <a:rect l="l" t="t" r="r" b="b"/>
            <a:pathLst>
              <a:path w="820" h="472">
                <a:moveTo>
                  <a:pt x="14387" y="13345"/>
                </a:moveTo>
                <a:cubicBezTo>
                  <a:pt x="14439" y="13314"/>
                  <a:pt x="14479" y="13324"/>
                  <a:pt x="14536" y="13345"/>
                </a:cubicBezTo>
                <a:cubicBezTo>
                  <a:pt x="14590" y="13364"/>
                  <a:pt x="14650" y="13431"/>
                  <a:pt x="14610" y="13494"/>
                </a:cubicBezTo>
                <a:cubicBezTo>
                  <a:pt x="14586" y="13531"/>
                  <a:pt x="14479" y="13519"/>
                  <a:pt x="14436" y="13519"/>
                </a:cubicBezTo>
                <a:cubicBezTo>
                  <a:pt x="14480" y="13561"/>
                  <a:pt x="14542" y="13583"/>
                  <a:pt x="14560" y="13643"/>
                </a:cubicBezTo>
                <a:cubicBezTo>
                  <a:pt x="14571" y="13681"/>
                  <a:pt x="14526" y="13755"/>
                  <a:pt x="14486" y="13767"/>
                </a:cubicBezTo>
                <a:cubicBezTo>
                  <a:pt x="14443" y="13779"/>
                  <a:pt x="14351" y="13740"/>
                  <a:pt x="14337" y="13692"/>
                </a:cubicBezTo>
                <a:cubicBezTo>
                  <a:pt x="14337" y="13676"/>
                  <a:pt x="14337" y="13659"/>
                  <a:pt x="14337" y="13643"/>
                </a:cubicBezTo>
              </a:path>
              <a:path w="820" h="472">
                <a:moveTo>
                  <a:pt x="14734" y="13419"/>
                </a:moveTo>
                <a:cubicBezTo>
                  <a:pt x="14652" y="13511"/>
                  <a:pt x="14616" y="13568"/>
                  <a:pt x="14610" y="13692"/>
                </a:cubicBezTo>
                <a:cubicBezTo>
                  <a:pt x="14607" y="13750"/>
                  <a:pt x="14640" y="13807"/>
                  <a:pt x="14709" y="13791"/>
                </a:cubicBezTo>
                <a:cubicBezTo>
                  <a:pt x="14791" y="13772"/>
                  <a:pt x="14787" y="13725"/>
                  <a:pt x="14808" y="13667"/>
                </a:cubicBezTo>
                <a:cubicBezTo>
                  <a:pt x="14837" y="13584"/>
                  <a:pt x="14837" y="13552"/>
                  <a:pt x="14808" y="13469"/>
                </a:cubicBezTo>
                <a:cubicBezTo>
                  <a:pt x="14788" y="13408"/>
                  <a:pt x="14790" y="13394"/>
                  <a:pt x="14759" y="13370"/>
                </a:cubicBezTo>
              </a:path>
              <a:path w="820" h="472">
                <a:moveTo>
                  <a:pt x="14932" y="13444"/>
                </a:moveTo>
                <a:cubicBezTo>
                  <a:pt x="14905" y="13520"/>
                  <a:pt x="14887" y="13585"/>
                  <a:pt x="14883" y="13667"/>
                </a:cubicBezTo>
                <a:cubicBezTo>
                  <a:pt x="14879" y="13754"/>
                  <a:pt x="14921" y="13812"/>
                  <a:pt x="15007" y="13767"/>
                </a:cubicBezTo>
                <a:cubicBezTo>
                  <a:pt x="15109" y="13713"/>
                  <a:pt x="15092" y="13695"/>
                  <a:pt x="15131" y="13618"/>
                </a:cubicBezTo>
                <a:cubicBezTo>
                  <a:pt x="15158" y="13565"/>
                  <a:pt x="15161" y="13519"/>
                  <a:pt x="15106" y="13469"/>
                </a:cubicBezTo>
                <a:cubicBezTo>
                  <a:pt x="15069" y="13436"/>
                  <a:pt x="15025" y="13405"/>
                  <a:pt x="14982" y="13395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Ink 31"/>
          <p:cNvSpPr/>
          <p:nvPr/>
        </p:nvSpPr>
        <p:spPr>
          <a:xfrm>
            <a:off x="5214960" y="4330800"/>
            <a:ext cx="544320" cy="393480"/>
          </a:xfrm>
          <a:custGeom>
            <a:avLst/>
            <a:gdLst/>
            <a:ahLst/>
            <a:rect l="l" t="t" r="r" b="b"/>
            <a:pathLst>
              <a:path w="1514" h="1093">
                <a:moveTo>
                  <a:pt x="15329" y="12650"/>
                </a:moveTo>
                <a:cubicBezTo>
                  <a:pt x="15381" y="12620"/>
                  <a:pt x="15435" y="12614"/>
                  <a:pt x="15478" y="12675"/>
                </a:cubicBezTo>
                <a:cubicBezTo>
                  <a:pt x="15519" y="12733"/>
                  <a:pt x="15511" y="12786"/>
                  <a:pt x="15453" y="12824"/>
                </a:cubicBezTo>
                <a:cubicBezTo>
                  <a:pt x="15405" y="12848"/>
                  <a:pt x="15391" y="12857"/>
                  <a:pt x="15354" y="12849"/>
                </a:cubicBezTo>
                <a:cubicBezTo>
                  <a:pt x="15425" y="12858"/>
                  <a:pt x="15452" y="12872"/>
                  <a:pt x="15503" y="12923"/>
                </a:cubicBezTo>
                <a:cubicBezTo>
                  <a:pt x="15567" y="12987"/>
                  <a:pt x="15497" y="13032"/>
                  <a:pt x="15429" y="13047"/>
                </a:cubicBezTo>
                <a:cubicBezTo>
                  <a:pt x="15375" y="13059"/>
                  <a:pt x="15318" y="13007"/>
                  <a:pt x="15280" y="12973"/>
                </a:cubicBezTo>
                <a:cubicBezTo>
                  <a:pt x="15272" y="12965"/>
                  <a:pt x="15263" y="12956"/>
                  <a:pt x="15255" y="12948"/>
                </a:cubicBezTo>
              </a:path>
              <a:path w="1514" h="1093">
                <a:moveTo>
                  <a:pt x="15577" y="12675"/>
                </a:moveTo>
                <a:cubicBezTo>
                  <a:pt x="15629" y="12654"/>
                  <a:pt x="15726" y="12653"/>
                  <a:pt x="15726" y="12750"/>
                </a:cubicBezTo>
                <a:cubicBezTo>
                  <a:pt x="15726" y="12808"/>
                  <a:pt x="15525" y="12798"/>
                  <a:pt x="15577" y="12824"/>
                </a:cubicBezTo>
                <a:cubicBezTo>
                  <a:pt x="15641" y="12856"/>
                  <a:pt x="15666" y="12815"/>
                  <a:pt x="15726" y="12874"/>
                </a:cubicBezTo>
                <a:cubicBezTo>
                  <a:pt x="15762" y="12910"/>
                  <a:pt x="15771" y="12988"/>
                  <a:pt x="15726" y="13022"/>
                </a:cubicBezTo>
                <a:cubicBezTo>
                  <a:pt x="15670" y="13066"/>
                  <a:pt x="15603" y="13053"/>
                  <a:pt x="15553" y="13022"/>
                </a:cubicBezTo>
              </a:path>
              <a:path w="1514" h="1093">
                <a:moveTo>
                  <a:pt x="15900" y="12700"/>
                </a:moveTo>
                <a:cubicBezTo>
                  <a:pt x="15882" y="12731"/>
                  <a:pt x="15810" y="12793"/>
                  <a:pt x="15801" y="12824"/>
                </a:cubicBezTo>
                <a:cubicBezTo>
                  <a:pt x="15794" y="12850"/>
                  <a:pt x="15748" y="12985"/>
                  <a:pt x="15751" y="12998"/>
                </a:cubicBezTo>
                <a:cubicBezTo>
                  <a:pt x="15767" y="13078"/>
                  <a:pt x="15842" y="13089"/>
                  <a:pt x="15900" y="13047"/>
                </a:cubicBezTo>
                <a:cubicBezTo>
                  <a:pt x="15944" y="13015"/>
                  <a:pt x="15987" y="12950"/>
                  <a:pt x="15999" y="12898"/>
                </a:cubicBezTo>
                <a:cubicBezTo>
                  <a:pt x="16012" y="12842"/>
                  <a:pt x="15994" y="12763"/>
                  <a:pt x="15949" y="12725"/>
                </a:cubicBezTo>
                <a:cubicBezTo>
                  <a:pt x="15933" y="12717"/>
                  <a:pt x="15916" y="12708"/>
                  <a:pt x="15900" y="12700"/>
                </a:cubicBezTo>
              </a:path>
              <a:path w="1514" h="1093">
                <a:moveTo>
                  <a:pt x="15404" y="12750"/>
                </a:moveTo>
                <a:cubicBezTo>
                  <a:pt x="15386" y="12701"/>
                  <a:pt x="15379" y="12666"/>
                  <a:pt x="15354" y="12626"/>
                </a:cubicBezTo>
                <a:cubicBezTo>
                  <a:pt x="15427" y="12661"/>
                  <a:pt x="15500" y="12688"/>
                  <a:pt x="15577" y="12700"/>
                </a:cubicBezTo>
                <a:cubicBezTo>
                  <a:pt x="15659" y="12713"/>
                  <a:pt x="15774" y="12720"/>
                  <a:pt x="15850" y="12750"/>
                </a:cubicBezTo>
                <a:cubicBezTo>
                  <a:pt x="15883" y="12763"/>
                  <a:pt x="15921" y="12801"/>
                  <a:pt x="15949" y="12824"/>
                </a:cubicBezTo>
                <a:cubicBezTo>
                  <a:pt x="15826" y="12849"/>
                  <a:pt x="15697" y="12824"/>
                  <a:pt x="15577" y="12849"/>
                </a:cubicBezTo>
                <a:cubicBezTo>
                  <a:pt x="15497" y="12866"/>
                  <a:pt x="15410" y="12885"/>
                  <a:pt x="15329" y="12898"/>
                </a:cubicBezTo>
                <a:cubicBezTo>
                  <a:pt x="15313" y="12898"/>
                  <a:pt x="15296" y="12898"/>
                  <a:pt x="15280" y="12898"/>
                </a:cubicBezTo>
                <a:cubicBezTo>
                  <a:pt x="15356" y="12960"/>
                  <a:pt x="15387" y="12930"/>
                  <a:pt x="15478" y="12948"/>
                </a:cubicBezTo>
                <a:cubicBezTo>
                  <a:pt x="15566" y="12965"/>
                  <a:pt x="15666" y="12953"/>
                  <a:pt x="15751" y="12973"/>
                </a:cubicBezTo>
                <a:cubicBezTo>
                  <a:pt x="15834" y="12992"/>
                  <a:pt x="15913" y="13010"/>
                  <a:pt x="15974" y="13072"/>
                </a:cubicBezTo>
                <a:cubicBezTo>
                  <a:pt x="15877" y="13072"/>
                  <a:pt x="15791" y="13086"/>
                  <a:pt x="15701" y="13097"/>
                </a:cubicBezTo>
                <a:cubicBezTo>
                  <a:pt x="15625" y="13107"/>
                  <a:pt x="15598" y="13095"/>
                  <a:pt x="15528" y="13122"/>
                </a:cubicBezTo>
              </a:path>
              <a:path w="1514" h="1093">
                <a:moveTo>
                  <a:pt x="14585" y="12055"/>
                </a:moveTo>
                <a:cubicBezTo>
                  <a:pt x="14642" y="12026"/>
                  <a:pt x="14704" y="12011"/>
                  <a:pt x="14759" y="12055"/>
                </a:cubicBezTo>
                <a:cubicBezTo>
                  <a:pt x="14834" y="12115"/>
                  <a:pt x="14813" y="12195"/>
                  <a:pt x="14759" y="12254"/>
                </a:cubicBezTo>
                <a:cubicBezTo>
                  <a:pt x="14723" y="12293"/>
                  <a:pt x="14637" y="12296"/>
                  <a:pt x="14585" y="12303"/>
                </a:cubicBezTo>
                <a:cubicBezTo>
                  <a:pt x="14659" y="12311"/>
                  <a:pt x="14738" y="12313"/>
                  <a:pt x="14759" y="12402"/>
                </a:cubicBezTo>
                <a:cubicBezTo>
                  <a:pt x="14759" y="12419"/>
                  <a:pt x="14759" y="12435"/>
                  <a:pt x="14759" y="12452"/>
                </a:cubicBezTo>
                <a:cubicBezTo>
                  <a:pt x="14703" y="12485"/>
                  <a:pt x="14643" y="12494"/>
                  <a:pt x="14585" y="12452"/>
                </a:cubicBezTo>
                <a:cubicBezTo>
                  <a:pt x="14522" y="12406"/>
                  <a:pt x="14497" y="12404"/>
                  <a:pt x="14486" y="12328"/>
                </a:cubicBezTo>
              </a:path>
              <a:path w="1514" h="1093">
                <a:moveTo>
                  <a:pt x="14932" y="12129"/>
                </a:moveTo>
                <a:cubicBezTo>
                  <a:pt x="14912" y="12204"/>
                  <a:pt x="14887" y="12277"/>
                  <a:pt x="14883" y="12353"/>
                </a:cubicBezTo>
                <a:cubicBezTo>
                  <a:pt x="14880" y="12403"/>
                  <a:pt x="14872" y="12475"/>
                  <a:pt x="14858" y="12526"/>
                </a:cubicBezTo>
                <a:cubicBezTo>
                  <a:pt x="14838" y="12567"/>
                  <a:pt x="14840" y="12583"/>
                  <a:pt x="14808" y="12576"/>
                </a:cubicBezTo>
              </a:path>
              <a:path w="1514" h="1093">
                <a:moveTo>
                  <a:pt x="15205" y="12154"/>
                </a:moveTo>
                <a:cubicBezTo>
                  <a:pt x="15130" y="12154"/>
                  <a:pt x="15108" y="12151"/>
                  <a:pt x="15056" y="12204"/>
                </a:cubicBezTo>
                <a:cubicBezTo>
                  <a:pt x="14963" y="12299"/>
                  <a:pt x="15123" y="12252"/>
                  <a:pt x="15131" y="12254"/>
                </a:cubicBezTo>
                <a:cubicBezTo>
                  <a:pt x="15180" y="12263"/>
                  <a:pt x="15214" y="12362"/>
                  <a:pt x="15205" y="12402"/>
                </a:cubicBezTo>
                <a:cubicBezTo>
                  <a:pt x="15191" y="12465"/>
                  <a:pt x="15176" y="12506"/>
                  <a:pt x="15131" y="12551"/>
                </a:cubicBezTo>
                <a:cubicBezTo>
                  <a:pt x="15088" y="12594"/>
                  <a:pt x="15025" y="12586"/>
                  <a:pt x="14982" y="12551"/>
                </a:cubicBezTo>
                <a:cubicBezTo>
                  <a:pt x="14951" y="12526"/>
                  <a:pt x="14941" y="12511"/>
                  <a:pt x="14932" y="12477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Ink 32"/>
          <p:cNvSpPr/>
          <p:nvPr/>
        </p:nvSpPr>
        <p:spPr>
          <a:xfrm>
            <a:off x="5688000" y="3946680"/>
            <a:ext cx="403200" cy="438120"/>
          </a:xfrm>
          <a:custGeom>
            <a:avLst/>
            <a:gdLst/>
            <a:ahLst/>
            <a:rect l="l" t="t" r="r" b="b"/>
            <a:pathLst>
              <a:path w="1117" h="1216">
                <a:moveTo>
                  <a:pt x="15999" y="11683"/>
                </a:moveTo>
                <a:cubicBezTo>
                  <a:pt x="16044" y="11689"/>
                  <a:pt x="16148" y="11712"/>
                  <a:pt x="16148" y="11782"/>
                </a:cubicBezTo>
                <a:cubicBezTo>
                  <a:pt x="16148" y="11847"/>
                  <a:pt x="15940" y="11853"/>
                  <a:pt x="15999" y="11881"/>
                </a:cubicBezTo>
                <a:cubicBezTo>
                  <a:pt x="16064" y="11911"/>
                  <a:pt x="16108" y="11871"/>
                  <a:pt x="16173" y="11931"/>
                </a:cubicBezTo>
                <a:cubicBezTo>
                  <a:pt x="16216" y="11970"/>
                  <a:pt x="16192" y="12046"/>
                  <a:pt x="16148" y="12080"/>
                </a:cubicBezTo>
                <a:cubicBezTo>
                  <a:pt x="16125" y="12098"/>
                  <a:pt x="16032" y="12136"/>
                  <a:pt x="15999" y="12129"/>
                </a:cubicBezTo>
                <a:cubicBezTo>
                  <a:pt x="15919" y="12111"/>
                  <a:pt x="15925" y="12046"/>
                  <a:pt x="15925" y="11981"/>
                </a:cubicBezTo>
              </a:path>
              <a:path w="1117" h="1216">
                <a:moveTo>
                  <a:pt x="16222" y="11658"/>
                </a:moveTo>
                <a:cubicBezTo>
                  <a:pt x="16214" y="11720"/>
                  <a:pt x="16179" y="11791"/>
                  <a:pt x="16197" y="11857"/>
                </a:cubicBezTo>
                <a:cubicBezTo>
                  <a:pt x="16205" y="11873"/>
                  <a:pt x="16214" y="11890"/>
                  <a:pt x="16222" y="11906"/>
                </a:cubicBezTo>
              </a:path>
              <a:path w="1117" h="1216">
                <a:moveTo>
                  <a:pt x="16247" y="11559"/>
                </a:moveTo>
                <a:cubicBezTo>
                  <a:pt x="16255" y="11567"/>
                  <a:pt x="16264" y="11576"/>
                  <a:pt x="16272" y="11584"/>
                </a:cubicBezTo>
                <a:cubicBezTo>
                  <a:pt x="16239" y="11639"/>
                  <a:pt x="16226" y="11683"/>
                  <a:pt x="16197" y="11733"/>
                </a:cubicBezTo>
                <a:cubicBezTo>
                  <a:pt x="16159" y="11799"/>
                  <a:pt x="16165" y="11827"/>
                  <a:pt x="16247" y="11832"/>
                </a:cubicBezTo>
                <a:cubicBezTo>
                  <a:pt x="16308" y="11836"/>
                  <a:pt x="16383" y="11881"/>
                  <a:pt x="16446" y="11857"/>
                </a:cubicBezTo>
                <a:cubicBezTo>
                  <a:pt x="16454" y="11849"/>
                  <a:pt x="16462" y="11840"/>
                  <a:pt x="16470" y="11832"/>
                </a:cubicBezTo>
              </a:path>
              <a:path w="1117" h="1216">
                <a:moveTo>
                  <a:pt x="16346" y="11534"/>
                </a:moveTo>
                <a:cubicBezTo>
                  <a:pt x="16346" y="11638"/>
                  <a:pt x="16332" y="11731"/>
                  <a:pt x="16321" y="11832"/>
                </a:cubicBezTo>
                <a:cubicBezTo>
                  <a:pt x="16308" y="11945"/>
                  <a:pt x="16321" y="12065"/>
                  <a:pt x="16321" y="12179"/>
                </a:cubicBezTo>
              </a:path>
              <a:path w="1117" h="1216">
                <a:moveTo>
                  <a:pt x="16694" y="11683"/>
                </a:moveTo>
                <a:cubicBezTo>
                  <a:pt x="16664" y="11665"/>
                  <a:pt x="16568" y="11622"/>
                  <a:pt x="16545" y="11683"/>
                </a:cubicBezTo>
                <a:cubicBezTo>
                  <a:pt x="16533" y="11714"/>
                  <a:pt x="16494" y="11812"/>
                  <a:pt x="16545" y="11832"/>
                </a:cubicBezTo>
                <a:cubicBezTo>
                  <a:pt x="16590" y="11850"/>
                  <a:pt x="16673" y="11808"/>
                  <a:pt x="16694" y="11881"/>
                </a:cubicBezTo>
                <a:cubicBezTo>
                  <a:pt x="16707" y="11925"/>
                  <a:pt x="16706" y="12027"/>
                  <a:pt x="16669" y="12055"/>
                </a:cubicBezTo>
                <a:cubicBezTo>
                  <a:pt x="16626" y="12088"/>
                  <a:pt x="16550" y="12103"/>
                  <a:pt x="16520" y="12080"/>
                </a:cubicBezTo>
                <a:cubicBezTo>
                  <a:pt x="16497" y="12057"/>
                  <a:pt x="16489" y="12053"/>
                  <a:pt x="16495" y="12030"/>
                </a:cubicBezTo>
              </a:path>
              <a:path w="1117" h="1216">
                <a:moveTo>
                  <a:pt x="15825" y="11708"/>
                </a:moveTo>
                <a:cubicBezTo>
                  <a:pt x="15956" y="11672"/>
                  <a:pt x="16085" y="11683"/>
                  <a:pt x="16222" y="11683"/>
                </a:cubicBezTo>
                <a:cubicBezTo>
                  <a:pt x="16376" y="11683"/>
                  <a:pt x="16523" y="11685"/>
                  <a:pt x="16669" y="11708"/>
                </a:cubicBezTo>
                <a:cubicBezTo>
                  <a:pt x="16747" y="11720"/>
                  <a:pt x="16838" y="11708"/>
                  <a:pt x="16917" y="11708"/>
                </a:cubicBezTo>
              </a:path>
              <a:path w="1117" h="1216">
                <a:moveTo>
                  <a:pt x="15925" y="11807"/>
                </a:moveTo>
                <a:cubicBezTo>
                  <a:pt x="16111" y="11807"/>
                  <a:pt x="16290" y="11807"/>
                  <a:pt x="16470" y="11832"/>
                </a:cubicBezTo>
                <a:cubicBezTo>
                  <a:pt x="16557" y="11844"/>
                  <a:pt x="16640" y="11830"/>
                  <a:pt x="16718" y="11857"/>
                </a:cubicBezTo>
                <a:cubicBezTo>
                  <a:pt x="16772" y="11875"/>
                  <a:pt x="16814" y="11886"/>
                  <a:pt x="16867" y="11906"/>
                </a:cubicBezTo>
              </a:path>
              <a:path w="1117" h="1216">
                <a:moveTo>
                  <a:pt x="15850" y="11038"/>
                </a:moveTo>
                <a:cubicBezTo>
                  <a:pt x="15927" y="10994"/>
                  <a:pt x="15932" y="10968"/>
                  <a:pt x="16024" y="10964"/>
                </a:cubicBezTo>
                <a:cubicBezTo>
                  <a:pt x="16121" y="10959"/>
                  <a:pt x="16096" y="11016"/>
                  <a:pt x="16049" y="11063"/>
                </a:cubicBezTo>
                <a:cubicBezTo>
                  <a:pt x="16002" y="11109"/>
                  <a:pt x="15990" y="11123"/>
                  <a:pt x="15949" y="11137"/>
                </a:cubicBezTo>
                <a:cubicBezTo>
                  <a:pt x="15979" y="11167"/>
                  <a:pt x="16061" y="11202"/>
                  <a:pt x="16073" y="11237"/>
                </a:cubicBezTo>
                <a:cubicBezTo>
                  <a:pt x="16105" y="11329"/>
                  <a:pt x="16052" y="11357"/>
                  <a:pt x="15974" y="11361"/>
                </a:cubicBezTo>
                <a:cubicBezTo>
                  <a:pt x="15916" y="11364"/>
                  <a:pt x="15868" y="11325"/>
                  <a:pt x="15825" y="11286"/>
                </a:cubicBezTo>
                <a:cubicBezTo>
                  <a:pt x="15798" y="11258"/>
                  <a:pt x="15790" y="11244"/>
                  <a:pt x="15801" y="11212"/>
                </a:cubicBezTo>
              </a:path>
              <a:path w="1117" h="1216">
                <a:moveTo>
                  <a:pt x="16123" y="10964"/>
                </a:moveTo>
                <a:cubicBezTo>
                  <a:pt x="16198" y="10964"/>
                  <a:pt x="16219" y="10961"/>
                  <a:pt x="16272" y="11013"/>
                </a:cubicBezTo>
                <a:cubicBezTo>
                  <a:pt x="16325" y="11065"/>
                  <a:pt x="16240" y="11100"/>
                  <a:pt x="16197" y="11112"/>
                </a:cubicBezTo>
                <a:cubicBezTo>
                  <a:pt x="16249" y="11142"/>
                  <a:pt x="16306" y="11172"/>
                  <a:pt x="16321" y="11237"/>
                </a:cubicBezTo>
                <a:cubicBezTo>
                  <a:pt x="16338" y="11311"/>
                  <a:pt x="16278" y="11333"/>
                  <a:pt x="16222" y="11336"/>
                </a:cubicBezTo>
                <a:cubicBezTo>
                  <a:pt x="16163" y="11340"/>
                  <a:pt x="16145" y="11330"/>
                  <a:pt x="16123" y="11286"/>
                </a:cubicBezTo>
              </a:path>
              <a:path w="1117" h="1216">
                <a:moveTo>
                  <a:pt x="16470" y="11038"/>
                </a:moveTo>
                <a:cubicBezTo>
                  <a:pt x="16447" y="11101"/>
                  <a:pt x="16442" y="11155"/>
                  <a:pt x="16421" y="11212"/>
                </a:cubicBezTo>
                <a:cubicBezTo>
                  <a:pt x="16403" y="11262"/>
                  <a:pt x="16406" y="11352"/>
                  <a:pt x="16495" y="11336"/>
                </a:cubicBezTo>
                <a:cubicBezTo>
                  <a:pt x="16569" y="11323"/>
                  <a:pt x="16644" y="11205"/>
                  <a:pt x="16644" y="11137"/>
                </a:cubicBezTo>
                <a:cubicBezTo>
                  <a:pt x="16644" y="11078"/>
                  <a:pt x="16556" y="11045"/>
                  <a:pt x="16520" y="11038"/>
                </a:cubicBezTo>
                <a:cubicBezTo>
                  <a:pt x="16478" y="11038"/>
                  <a:pt x="16462" y="11030"/>
                  <a:pt x="16470" y="11063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Ink 33"/>
          <p:cNvSpPr/>
          <p:nvPr/>
        </p:nvSpPr>
        <p:spPr>
          <a:xfrm>
            <a:off x="5813280" y="3483000"/>
            <a:ext cx="303480" cy="34776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16148" y="9748"/>
                </a:moveTo>
                <a:cubicBezTo>
                  <a:pt x="16192" y="9704"/>
                  <a:pt x="16228" y="9664"/>
                  <a:pt x="16297" y="9674"/>
                </a:cubicBezTo>
                <a:cubicBezTo>
                  <a:pt x="16401" y="9689"/>
                  <a:pt x="16462" y="9733"/>
                  <a:pt x="16421" y="9847"/>
                </a:cubicBezTo>
                <a:cubicBezTo>
                  <a:pt x="16403" y="9896"/>
                  <a:pt x="16248" y="9905"/>
                  <a:pt x="16297" y="9922"/>
                </a:cubicBezTo>
                <a:cubicBezTo>
                  <a:pt x="16342" y="9937"/>
                  <a:pt x="16446" y="9939"/>
                  <a:pt x="16470" y="9996"/>
                </a:cubicBezTo>
                <a:cubicBezTo>
                  <a:pt x="16506" y="10082"/>
                  <a:pt x="16455" y="10151"/>
                  <a:pt x="16371" y="10170"/>
                </a:cubicBezTo>
                <a:cubicBezTo>
                  <a:pt x="16325" y="10180"/>
                  <a:pt x="16190" y="10185"/>
                  <a:pt x="16173" y="10120"/>
                </a:cubicBezTo>
                <a:cubicBezTo>
                  <a:pt x="16173" y="10095"/>
                  <a:pt x="16173" y="10071"/>
                  <a:pt x="16173" y="10046"/>
                </a:cubicBezTo>
              </a:path>
              <a:path w="844" h="968">
                <a:moveTo>
                  <a:pt x="16520" y="9748"/>
                </a:moveTo>
                <a:cubicBezTo>
                  <a:pt x="16495" y="9822"/>
                  <a:pt x="16479" y="9915"/>
                  <a:pt x="16495" y="9996"/>
                </a:cubicBezTo>
                <a:cubicBezTo>
                  <a:pt x="16517" y="10061"/>
                  <a:pt x="16525" y="10076"/>
                  <a:pt x="16520" y="10120"/>
                </a:cubicBezTo>
                <a:cubicBezTo>
                  <a:pt x="16588" y="10112"/>
                  <a:pt x="16650" y="10102"/>
                  <a:pt x="16669" y="10021"/>
                </a:cubicBezTo>
                <a:cubicBezTo>
                  <a:pt x="16669" y="9976"/>
                  <a:pt x="16673" y="9963"/>
                  <a:pt x="16644" y="9947"/>
                </a:cubicBezTo>
                <a:cubicBezTo>
                  <a:pt x="16578" y="9984"/>
                  <a:pt x="16550" y="9994"/>
                  <a:pt x="16545" y="10071"/>
                </a:cubicBezTo>
                <a:cubicBezTo>
                  <a:pt x="16541" y="10134"/>
                  <a:pt x="16530" y="10178"/>
                  <a:pt x="16594" y="10195"/>
                </a:cubicBezTo>
              </a:path>
              <a:path w="844" h="968">
                <a:moveTo>
                  <a:pt x="16842" y="9798"/>
                </a:moveTo>
                <a:cubicBezTo>
                  <a:pt x="16811" y="9861"/>
                  <a:pt x="16779" y="9929"/>
                  <a:pt x="16768" y="9996"/>
                </a:cubicBezTo>
                <a:cubicBezTo>
                  <a:pt x="16760" y="10043"/>
                  <a:pt x="16759" y="10149"/>
                  <a:pt x="16818" y="10170"/>
                </a:cubicBezTo>
                <a:cubicBezTo>
                  <a:pt x="16873" y="10190"/>
                  <a:pt x="16931" y="10118"/>
                  <a:pt x="16942" y="10071"/>
                </a:cubicBezTo>
                <a:cubicBezTo>
                  <a:pt x="16966" y="9970"/>
                  <a:pt x="17009" y="9857"/>
                  <a:pt x="16991" y="9748"/>
                </a:cubicBezTo>
                <a:cubicBezTo>
                  <a:pt x="16981" y="9690"/>
                  <a:pt x="16880" y="9679"/>
                  <a:pt x="16842" y="9674"/>
                </a:cubicBezTo>
              </a:path>
              <a:path w="844" h="968">
                <a:moveTo>
                  <a:pt x="16867" y="10393"/>
                </a:moveTo>
                <a:cubicBezTo>
                  <a:pt x="16895" y="10323"/>
                  <a:pt x="16853" y="10286"/>
                  <a:pt x="16768" y="10269"/>
                </a:cubicBezTo>
                <a:cubicBezTo>
                  <a:pt x="16719" y="10259"/>
                  <a:pt x="16633" y="10274"/>
                  <a:pt x="16594" y="10294"/>
                </a:cubicBezTo>
                <a:cubicBezTo>
                  <a:pt x="16544" y="10319"/>
                  <a:pt x="16523" y="10370"/>
                  <a:pt x="16520" y="10418"/>
                </a:cubicBezTo>
                <a:cubicBezTo>
                  <a:pt x="16516" y="10488"/>
                  <a:pt x="16548" y="10521"/>
                  <a:pt x="16594" y="10567"/>
                </a:cubicBezTo>
                <a:cubicBezTo>
                  <a:pt x="16629" y="10603"/>
                  <a:pt x="16675" y="10632"/>
                  <a:pt x="16718" y="10641"/>
                </a:cubicBezTo>
                <a:cubicBezTo>
                  <a:pt x="16745" y="10646"/>
                  <a:pt x="16856" y="10620"/>
                  <a:pt x="16867" y="10592"/>
                </a:cubicBezTo>
                <a:cubicBezTo>
                  <a:pt x="16890" y="10534"/>
                  <a:pt x="16873" y="10465"/>
                  <a:pt x="16867" y="10418"/>
                </a:cubicBezTo>
                <a:cubicBezTo>
                  <a:pt x="16867" y="10373"/>
                  <a:pt x="16871" y="10360"/>
                  <a:pt x="16842" y="10344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Ink 34"/>
          <p:cNvSpPr/>
          <p:nvPr/>
        </p:nvSpPr>
        <p:spPr>
          <a:xfrm>
            <a:off x="4464000" y="5938920"/>
            <a:ext cx="117360" cy="17784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12650" y="16892"/>
                </a:moveTo>
                <a:cubicBezTo>
                  <a:pt x="12731" y="16846"/>
                  <a:pt x="12725" y="16836"/>
                  <a:pt x="12725" y="16743"/>
                </a:cubicBezTo>
                <a:cubicBezTo>
                  <a:pt x="12725" y="16689"/>
                  <a:pt x="12701" y="16555"/>
                  <a:pt x="12650" y="16520"/>
                </a:cubicBezTo>
                <a:cubicBezTo>
                  <a:pt x="12588" y="16477"/>
                  <a:pt x="12479" y="16490"/>
                  <a:pt x="12427" y="16545"/>
                </a:cubicBezTo>
                <a:cubicBezTo>
                  <a:pt x="12375" y="16600"/>
                  <a:pt x="12396" y="16733"/>
                  <a:pt x="12427" y="16793"/>
                </a:cubicBezTo>
                <a:cubicBezTo>
                  <a:pt x="12461" y="16861"/>
                  <a:pt x="12474" y="16914"/>
                  <a:pt x="12526" y="16966"/>
                </a:cubicBezTo>
                <a:cubicBezTo>
                  <a:pt x="12582" y="17022"/>
                  <a:pt x="12644" y="16978"/>
                  <a:pt x="12700" y="16942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Ink 35"/>
          <p:cNvSpPr/>
          <p:nvPr/>
        </p:nvSpPr>
        <p:spPr>
          <a:xfrm>
            <a:off x="4741920" y="5892840"/>
            <a:ext cx="115920" cy="19836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13221" y="16694"/>
                </a:moveTo>
                <a:cubicBezTo>
                  <a:pt x="13204" y="16702"/>
                  <a:pt x="13188" y="16710"/>
                  <a:pt x="13171" y="16718"/>
                </a:cubicBezTo>
                <a:cubicBezTo>
                  <a:pt x="13251" y="16729"/>
                  <a:pt x="13263" y="16729"/>
                  <a:pt x="13345" y="16718"/>
                </a:cubicBezTo>
                <a:cubicBezTo>
                  <a:pt x="13370" y="16718"/>
                  <a:pt x="13394" y="16718"/>
                  <a:pt x="13419" y="16718"/>
                </a:cubicBezTo>
              </a:path>
              <a:path w="324" h="547">
                <a:moveTo>
                  <a:pt x="13469" y="16371"/>
                </a:moveTo>
                <a:cubicBezTo>
                  <a:pt x="13502" y="16426"/>
                  <a:pt x="13494" y="16477"/>
                  <a:pt x="13494" y="16545"/>
                </a:cubicBezTo>
                <a:cubicBezTo>
                  <a:pt x="13494" y="16669"/>
                  <a:pt x="13494" y="16793"/>
                  <a:pt x="13494" y="16917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Ink 36"/>
          <p:cNvSpPr/>
          <p:nvPr/>
        </p:nvSpPr>
        <p:spPr>
          <a:xfrm>
            <a:off x="2044800" y="1473120"/>
            <a:ext cx="1322280" cy="1206720"/>
          </a:xfrm>
          <a:custGeom>
            <a:avLst/>
            <a:gdLst/>
            <a:ahLst/>
            <a:rect l="l" t="t" r="r" b="b"/>
            <a:pathLst>
              <a:path w="3672" h="3349">
                <a:moveTo>
                  <a:pt x="7838" y="4366"/>
                </a:moveTo>
                <a:cubicBezTo>
                  <a:pt x="7937" y="4366"/>
                  <a:pt x="8037" y="4366"/>
                  <a:pt x="8136" y="4366"/>
                </a:cubicBezTo>
              </a:path>
              <a:path w="3672" h="3349">
                <a:moveTo>
                  <a:pt x="8310" y="4093"/>
                </a:moveTo>
                <a:cubicBezTo>
                  <a:pt x="8310" y="4233"/>
                  <a:pt x="8310" y="4374"/>
                  <a:pt x="8310" y="4514"/>
                </a:cubicBezTo>
              </a:path>
              <a:path w="3672" h="3349">
                <a:moveTo>
                  <a:pt x="8086" y="4614"/>
                </a:moveTo>
                <a:cubicBezTo>
                  <a:pt x="8169" y="4591"/>
                  <a:pt x="8254" y="4610"/>
                  <a:pt x="8334" y="4589"/>
                </a:cubicBezTo>
                <a:cubicBezTo>
                  <a:pt x="8382" y="4565"/>
                  <a:pt x="8397" y="4557"/>
                  <a:pt x="8434" y="4564"/>
                </a:cubicBezTo>
              </a:path>
              <a:path w="3672" h="3349">
                <a:moveTo>
                  <a:pt x="8186" y="4738"/>
                </a:moveTo>
                <a:cubicBezTo>
                  <a:pt x="8223" y="4716"/>
                  <a:pt x="8329" y="4674"/>
                  <a:pt x="8359" y="4738"/>
                </a:cubicBezTo>
                <a:cubicBezTo>
                  <a:pt x="8397" y="4820"/>
                  <a:pt x="8322" y="4880"/>
                  <a:pt x="8285" y="4936"/>
                </a:cubicBezTo>
                <a:cubicBezTo>
                  <a:pt x="8249" y="4991"/>
                  <a:pt x="8208" y="5013"/>
                  <a:pt x="8161" y="5060"/>
                </a:cubicBezTo>
                <a:cubicBezTo>
                  <a:pt x="8153" y="5068"/>
                  <a:pt x="8144" y="5077"/>
                  <a:pt x="8136" y="5085"/>
                </a:cubicBezTo>
                <a:cubicBezTo>
                  <a:pt x="8239" y="5085"/>
                  <a:pt x="8339" y="5096"/>
                  <a:pt x="8434" y="5060"/>
                </a:cubicBezTo>
              </a:path>
              <a:path w="3672" h="3349">
                <a:moveTo>
                  <a:pt x="8731" y="4366"/>
                </a:moveTo>
                <a:cubicBezTo>
                  <a:pt x="8740" y="4443"/>
                  <a:pt x="8756" y="4510"/>
                  <a:pt x="8756" y="4589"/>
                </a:cubicBezTo>
                <a:cubicBezTo>
                  <a:pt x="8756" y="4605"/>
                  <a:pt x="8756" y="4622"/>
                  <a:pt x="8756" y="4638"/>
                </a:cubicBezTo>
                <a:cubicBezTo>
                  <a:pt x="8756" y="4571"/>
                  <a:pt x="8742" y="4519"/>
                  <a:pt x="8731" y="4465"/>
                </a:cubicBezTo>
                <a:cubicBezTo>
                  <a:pt x="8717" y="4397"/>
                  <a:pt x="8741" y="4344"/>
                  <a:pt x="8781" y="4291"/>
                </a:cubicBezTo>
                <a:cubicBezTo>
                  <a:pt x="8805" y="4258"/>
                  <a:pt x="8869" y="4202"/>
                  <a:pt x="8905" y="4192"/>
                </a:cubicBezTo>
                <a:cubicBezTo>
                  <a:pt x="8973" y="4174"/>
                  <a:pt x="9043" y="4173"/>
                  <a:pt x="9103" y="4142"/>
                </a:cubicBezTo>
              </a:path>
              <a:path w="3672" h="3349">
                <a:moveTo>
                  <a:pt x="8830" y="4415"/>
                </a:moveTo>
                <a:cubicBezTo>
                  <a:pt x="8924" y="4369"/>
                  <a:pt x="8979" y="4346"/>
                  <a:pt x="9079" y="4366"/>
                </a:cubicBezTo>
                <a:cubicBezTo>
                  <a:pt x="9108" y="4426"/>
                  <a:pt x="9057" y="4447"/>
                  <a:pt x="9004" y="4490"/>
                </a:cubicBezTo>
                <a:cubicBezTo>
                  <a:pt x="8974" y="4519"/>
                  <a:pt x="8960" y="4530"/>
                  <a:pt x="8930" y="4539"/>
                </a:cubicBezTo>
                <a:cubicBezTo>
                  <a:pt x="8979" y="4539"/>
                  <a:pt x="9083" y="4519"/>
                  <a:pt x="9103" y="4589"/>
                </a:cubicBezTo>
                <a:cubicBezTo>
                  <a:pt x="9136" y="4705"/>
                  <a:pt x="9026" y="4688"/>
                  <a:pt x="8954" y="4688"/>
                </a:cubicBezTo>
                <a:cubicBezTo>
                  <a:pt x="8946" y="4688"/>
                  <a:pt x="8938" y="4688"/>
                  <a:pt x="8930" y="4688"/>
                </a:cubicBezTo>
              </a:path>
              <a:path w="3672" h="3349">
                <a:moveTo>
                  <a:pt x="8806" y="4862"/>
                </a:moveTo>
                <a:cubicBezTo>
                  <a:pt x="8991" y="4813"/>
                  <a:pt x="8913" y="4796"/>
                  <a:pt x="9029" y="4862"/>
                </a:cubicBezTo>
                <a:cubicBezTo>
                  <a:pt x="9020" y="4921"/>
                  <a:pt x="8992" y="4959"/>
                  <a:pt x="8954" y="5011"/>
                </a:cubicBezTo>
                <a:cubicBezTo>
                  <a:pt x="8919" y="5058"/>
                  <a:pt x="8902" y="5076"/>
                  <a:pt x="8855" y="5110"/>
                </a:cubicBezTo>
                <a:cubicBezTo>
                  <a:pt x="8913" y="5179"/>
                  <a:pt x="8982" y="5164"/>
                  <a:pt x="9079" y="5135"/>
                </a:cubicBezTo>
                <a:cubicBezTo>
                  <a:pt x="9128" y="5110"/>
                  <a:pt x="9145" y="5101"/>
                  <a:pt x="9178" y="5085"/>
                </a:cubicBezTo>
              </a:path>
              <a:path w="3672" h="3349">
                <a:moveTo>
                  <a:pt x="8731" y="4713"/>
                </a:moveTo>
                <a:cubicBezTo>
                  <a:pt x="8808" y="4722"/>
                  <a:pt x="8875" y="4738"/>
                  <a:pt x="8954" y="4738"/>
                </a:cubicBezTo>
                <a:cubicBezTo>
                  <a:pt x="9086" y="4738"/>
                  <a:pt x="9219" y="4738"/>
                  <a:pt x="9351" y="4738"/>
                </a:cubicBezTo>
              </a:path>
              <a:path w="3672" h="3349">
                <a:moveTo>
                  <a:pt x="6424" y="5407"/>
                </a:moveTo>
                <a:cubicBezTo>
                  <a:pt x="6500" y="5407"/>
                  <a:pt x="6553" y="5408"/>
                  <a:pt x="6623" y="5383"/>
                </a:cubicBezTo>
              </a:path>
              <a:path w="3672" h="3349">
                <a:moveTo>
                  <a:pt x="6722" y="5283"/>
                </a:moveTo>
                <a:cubicBezTo>
                  <a:pt x="6738" y="5372"/>
                  <a:pt x="6725" y="5496"/>
                  <a:pt x="6747" y="5581"/>
                </a:cubicBezTo>
                <a:cubicBezTo>
                  <a:pt x="6755" y="5598"/>
                  <a:pt x="6764" y="5614"/>
                  <a:pt x="6772" y="5631"/>
                </a:cubicBezTo>
                <a:cubicBezTo>
                  <a:pt x="6731" y="5562"/>
                  <a:pt x="6726" y="5469"/>
                  <a:pt x="6722" y="5383"/>
                </a:cubicBezTo>
                <a:cubicBezTo>
                  <a:pt x="6719" y="5306"/>
                  <a:pt x="6731" y="5255"/>
                  <a:pt x="6747" y="5184"/>
                </a:cubicBezTo>
                <a:cubicBezTo>
                  <a:pt x="6762" y="5120"/>
                  <a:pt x="6789" y="5094"/>
                  <a:pt x="6846" y="5060"/>
                </a:cubicBezTo>
                <a:cubicBezTo>
                  <a:pt x="6901" y="5027"/>
                  <a:pt x="6983" y="5014"/>
                  <a:pt x="7045" y="5011"/>
                </a:cubicBezTo>
                <a:cubicBezTo>
                  <a:pt x="7096" y="5011"/>
                  <a:pt x="7115" y="5010"/>
                  <a:pt x="7144" y="4986"/>
                </a:cubicBezTo>
              </a:path>
              <a:path w="3672" h="3349">
                <a:moveTo>
                  <a:pt x="6896" y="5234"/>
                </a:moveTo>
                <a:cubicBezTo>
                  <a:pt x="6966" y="5207"/>
                  <a:pt x="7006" y="5195"/>
                  <a:pt x="7069" y="5234"/>
                </a:cubicBezTo>
                <a:cubicBezTo>
                  <a:pt x="7063" y="5281"/>
                  <a:pt x="7062" y="5380"/>
                  <a:pt x="7020" y="5407"/>
                </a:cubicBezTo>
                <a:cubicBezTo>
                  <a:pt x="6946" y="5455"/>
                  <a:pt x="6924" y="5454"/>
                  <a:pt x="6871" y="5507"/>
                </a:cubicBezTo>
                <a:cubicBezTo>
                  <a:pt x="6942" y="5548"/>
                  <a:pt x="6970" y="5519"/>
                  <a:pt x="7045" y="5507"/>
                </a:cubicBezTo>
                <a:cubicBezTo>
                  <a:pt x="7106" y="5497"/>
                  <a:pt x="7134" y="5505"/>
                  <a:pt x="7193" y="5482"/>
                </a:cubicBezTo>
              </a:path>
              <a:path w="3672" h="3349">
                <a:moveTo>
                  <a:pt x="6598" y="5680"/>
                </a:moveTo>
                <a:cubicBezTo>
                  <a:pt x="6673" y="5661"/>
                  <a:pt x="6778" y="5680"/>
                  <a:pt x="6846" y="5655"/>
                </a:cubicBezTo>
                <a:cubicBezTo>
                  <a:pt x="6909" y="5632"/>
                  <a:pt x="6971" y="5631"/>
                  <a:pt x="7045" y="5631"/>
                </a:cubicBezTo>
                <a:cubicBezTo>
                  <a:pt x="7053" y="5631"/>
                  <a:pt x="7061" y="5631"/>
                  <a:pt x="7069" y="5631"/>
                </a:cubicBezTo>
              </a:path>
              <a:path w="3672" h="3349">
                <a:moveTo>
                  <a:pt x="6672" y="5854"/>
                </a:moveTo>
                <a:cubicBezTo>
                  <a:pt x="6699" y="5847"/>
                  <a:pt x="6876" y="5789"/>
                  <a:pt x="6871" y="5879"/>
                </a:cubicBezTo>
                <a:cubicBezTo>
                  <a:pt x="6867" y="5949"/>
                  <a:pt x="6818" y="6006"/>
                  <a:pt x="6772" y="6052"/>
                </a:cubicBezTo>
                <a:cubicBezTo>
                  <a:pt x="6745" y="6079"/>
                  <a:pt x="6673" y="6148"/>
                  <a:pt x="6747" y="6176"/>
                </a:cubicBezTo>
                <a:cubicBezTo>
                  <a:pt x="6777" y="6187"/>
                  <a:pt x="6940" y="6163"/>
                  <a:pt x="6970" y="6152"/>
                </a:cubicBezTo>
                <a:cubicBezTo>
                  <a:pt x="6978" y="6144"/>
                  <a:pt x="6987" y="6135"/>
                  <a:pt x="6995" y="6127"/>
                </a:cubicBezTo>
              </a:path>
              <a:path w="3672" h="3349">
                <a:moveTo>
                  <a:pt x="7392" y="5407"/>
                </a:moveTo>
                <a:cubicBezTo>
                  <a:pt x="7419" y="5487"/>
                  <a:pt x="7417" y="5542"/>
                  <a:pt x="7417" y="5631"/>
                </a:cubicBezTo>
                <a:cubicBezTo>
                  <a:pt x="7389" y="5575"/>
                  <a:pt x="7371" y="5500"/>
                  <a:pt x="7367" y="5432"/>
                </a:cubicBezTo>
                <a:cubicBezTo>
                  <a:pt x="7363" y="5357"/>
                  <a:pt x="7392" y="5289"/>
                  <a:pt x="7441" y="5234"/>
                </a:cubicBezTo>
                <a:cubicBezTo>
                  <a:pt x="7484" y="5186"/>
                  <a:pt x="7558" y="5163"/>
                  <a:pt x="7615" y="5135"/>
                </a:cubicBezTo>
                <a:cubicBezTo>
                  <a:pt x="7664" y="5111"/>
                  <a:pt x="7686" y="5110"/>
                  <a:pt x="7739" y="5110"/>
                </a:cubicBezTo>
              </a:path>
              <a:path w="3672" h="3349">
                <a:moveTo>
                  <a:pt x="7466" y="5407"/>
                </a:moveTo>
                <a:cubicBezTo>
                  <a:pt x="7517" y="5389"/>
                  <a:pt x="7571" y="5346"/>
                  <a:pt x="7615" y="5333"/>
                </a:cubicBezTo>
                <a:cubicBezTo>
                  <a:pt x="7716" y="5304"/>
                  <a:pt x="7759" y="5368"/>
                  <a:pt x="7714" y="5457"/>
                </a:cubicBezTo>
                <a:cubicBezTo>
                  <a:pt x="7695" y="5496"/>
                  <a:pt x="7623" y="5523"/>
                  <a:pt x="7590" y="5556"/>
                </a:cubicBezTo>
                <a:cubicBezTo>
                  <a:pt x="7582" y="5564"/>
                  <a:pt x="7573" y="5573"/>
                  <a:pt x="7565" y="5581"/>
                </a:cubicBezTo>
                <a:cubicBezTo>
                  <a:pt x="7620" y="5614"/>
                  <a:pt x="7671" y="5606"/>
                  <a:pt x="7739" y="5606"/>
                </a:cubicBezTo>
                <a:cubicBezTo>
                  <a:pt x="7789" y="5606"/>
                  <a:pt x="7805" y="5606"/>
                  <a:pt x="7838" y="5606"/>
                </a:cubicBezTo>
              </a:path>
              <a:path w="3672" h="3349">
                <a:moveTo>
                  <a:pt x="7392" y="5705"/>
                </a:moveTo>
                <a:cubicBezTo>
                  <a:pt x="7400" y="5713"/>
                  <a:pt x="7409" y="5722"/>
                  <a:pt x="7417" y="5730"/>
                </a:cubicBezTo>
                <a:cubicBezTo>
                  <a:pt x="7469" y="5698"/>
                  <a:pt x="7574" y="5688"/>
                  <a:pt x="7640" y="5680"/>
                </a:cubicBezTo>
                <a:cubicBezTo>
                  <a:pt x="7709" y="5671"/>
                  <a:pt x="7770" y="5664"/>
                  <a:pt x="7838" y="5655"/>
                </a:cubicBezTo>
              </a:path>
              <a:path w="3672" h="3349">
                <a:moveTo>
                  <a:pt x="7466" y="5854"/>
                </a:moveTo>
                <a:cubicBezTo>
                  <a:pt x="7564" y="5830"/>
                  <a:pt x="7621" y="5819"/>
                  <a:pt x="7714" y="5854"/>
                </a:cubicBezTo>
                <a:cubicBezTo>
                  <a:pt x="7685" y="5913"/>
                  <a:pt x="7661" y="5957"/>
                  <a:pt x="7615" y="6003"/>
                </a:cubicBezTo>
                <a:cubicBezTo>
                  <a:pt x="7585" y="6033"/>
                  <a:pt x="7549" y="6051"/>
                  <a:pt x="7516" y="6077"/>
                </a:cubicBezTo>
                <a:cubicBezTo>
                  <a:pt x="7603" y="6130"/>
                  <a:pt x="7688" y="6086"/>
                  <a:pt x="7789" y="6077"/>
                </a:cubicBezTo>
                <a:cubicBezTo>
                  <a:pt x="7855" y="6077"/>
                  <a:pt x="7872" y="6077"/>
                  <a:pt x="7913" y="6077"/>
                </a:cubicBezTo>
              </a:path>
              <a:path w="3672" h="3349">
                <a:moveTo>
                  <a:pt x="5680" y="6747"/>
                </a:moveTo>
                <a:cubicBezTo>
                  <a:pt x="5738" y="6747"/>
                  <a:pt x="5796" y="6747"/>
                  <a:pt x="5854" y="6747"/>
                </a:cubicBezTo>
              </a:path>
              <a:path w="3672" h="3349">
                <a:moveTo>
                  <a:pt x="5928" y="6573"/>
                </a:moveTo>
                <a:cubicBezTo>
                  <a:pt x="5928" y="6681"/>
                  <a:pt x="5928" y="6788"/>
                  <a:pt x="5928" y="6896"/>
                </a:cubicBezTo>
                <a:cubicBezTo>
                  <a:pt x="5919" y="6817"/>
                  <a:pt x="5904" y="6755"/>
                  <a:pt x="5904" y="6672"/>
                </a:cubicBezTo>
                <a:cubicBezTo>
                  <a:pt x="5904" y="6603"/>
                  <a:pt x="5911" y="6539"/>
                  <a:pt x="5928" y="6474"/>
                </a:cubicBezTo>
                <a:cubicBezTo>
                  <a:pt x="5944" y="6414"/>
                  <a:pt x="6011" y="6338"/>
                  <a:pt x="6077" y="6325"/>
                </a:cubicBezTo>
                <a:cubicBezTo>
                  <a:pt x="6149" y="6311"/>
                  <a:pt x="6217" y="6289"/>
                  <a:pt x="6276" y="6325"/>
                </a:cubicBezTo>
              </a:path>
              <a:path w="3672" h="3349">
                <a:moveTo>
                  <a:pt x="6052" y="6499"/>
                </a:moveTo>
                <a:cubicBezTo>
                  <a:pt x="6135" y="6499"/>
                  <a:pt x="6176" y="6511"/>
                  <a:pt x="6251" y="6548"/>
                </a:cubicBezTo>
                <a:cubicBezTo>
                  <a:pt x="6222" y="6599"/>
                  <a:pt x="6194" y="6630"/>
                  <a:pt x="6152" y="6672"/>
                </a:cubicBezTo>
                <a:cubicBezTo>
                  <a:pt x="6124" y="6700"/>
                  <a:pt x="6110" y="6709"/>
                  <a:pt x="6077" y="6697"/>
                </a:cubicBezTo>
                <a:cubicBezTo>
                  <a:pt x="6145" y="6720"/>
                  <a:pt x="6210" y="6743"/>
                  <a:pt x="6276" y="6772"/>
                </a:cubicBezTo>
                <a:cubicBezTo>
                  <a:pt x="6244" y="6881"/>
                  <a:pt x="6197" y="6835"/>
                  <a:pt x="6102" y="6871"/>
                </a:cubicBezTo>
                <a:cubicBezTo>
                  <a:pt x="6045" y="6893"/>
                  <a:pt x="6028" y="6896"/>
                  <a:pt x="5953" y="6896"/>
                </a:cubicBezTo>
              </a:path>
              <a:path w="3672" h="3349">
                <a:moveTo>
                  <a:pt x="5755" y="6945"/>
                </a:moveTo>
                <a:cubicBezTo>
                  <a:pt x="5884" y="6945"/>
                  <a:pt x="6005" y="6936"/>
                  <a:pt x="6127" y="6921"/>
                </a:cubicBezTo>
                <a:cubicBezTo>
                  <a:pt x="6185" y="6921"/>
                  <a:pt x="6193" y="6921"/>
                  <a:pt x="6226" y="6921"/>
                </a:cubicBezTo>
              </a:path>
              <a:path w="3672" h="3349">
                <a:moveTo>
                  <a:pt x="5854" y="7119"/>
                </a:moveTo>
                <a:cubicBezTo>
                  <a:pt x="5907" y="7106"/>
                  <a:pt x="6027" y="7054"/>
                  <a:pt x="6052" y="7144"/>
                </a:cubicBezTo>
                <a:cubicBezTo>
                  <a:pt x="6076" y="7229"/>
                  <a:pt x="6004" y="7255"/>
                  <a:pt x="5953" y="7293"/>
                </a:cubicBezTo>
                <a:cubicBezTo>
                  <a:pt x="5895" y="7335"/>
                  <a:pt x="5896" y="7371"/>
                  <a:pt x="5904" y="7417"/>
                </a:cubicBezTo>
                <a:cubicBezTo>
                  <a:pt x="5973" y="7408"/>
                  <a:pt x="6038" y="7396"/>
                  <a:pt x="6102" y="7367"/>
                </a:cubicBezTo>
                <a:cubicBezTo>
                  <a:pt x="6150" y="7343"/>
                  <a:pt x="6164" y="7335"/>
                  <a:pt x="6201" y="7342"/>
                </a:cubicBezTo>
              </a:path>
              <a:path w="3672" h="3349">
                <a:moveTo>
                  <a:pt x="6747" y="6449"/>
                </a:moveTo>
                <a:cubicBezTo>
                  <a:pt x="6755" y="6530"/>
                  <a:pt x="6772" y="6585"/>
                  <a:pt x="6772" y="6672"/>
                </a:cubicBezTo>
                <a:cubicBezTo>
                  <a:pt x="6772" y="6744"/>
                  <a:pt x="6811" y="6754"/>
                  <a:pt x="6772" y="6821"/>
                </a:cubicBezTo>
              </a:path>
              <a:path w="3672" h="3349">
                <a:moveTo>
                  <a:pt x="6573" y="6921"/>
                </a:moveTo>
                <a:cubicBezTo>
                  <a:pt x="6662" y="6915"/>
                  <a:pt x="6732" y="6896"/>
                  <a:pt x="6821" y="6896"/>
                </a:cubicBezTo>
                <a:cubicBezTo>
                  <a:pt x="6874" y="6896"/>
                  <a:pt x="6919" y="6880"/>
                  <a:pt x="6970" y="6871"/>
                </a:cubicBezTo>
              </a:path>
              <a:path w="3672" h="3349">
                <a:moveTo>
                  <a:pt x="6648" y="7119"/>
                </a:moveTo>
                <a:cubicBezTo>
                  <a:pt x="6733" y="7098"/>
                  <a:pt x="6797" y="7075"/>
                  <a:pt x="6871" y="7119"/>
                </a:cubicBezTo>
                <a:cubicBezTo>
                  <a:pt x="6859" y="7204"/>
                  <a:pt x="6848" y="7253"/>
                  <a:pt x="6772" y="7317"/>
                </a:cubicBezTo>
                <a:cubicBezTo>
                  <a:pt x="6736" y="7348"/>
                  <a:pt x="6686" y="7361"/>
                  <a:pt x="6648" y="7392"/>
                </a:cubicBezTo>
                <a:cubicBezTo>
                  <a:pt x="6692" y="7479"/>
                  <a:pt x="6727" y="7432"/>
                  <a:pt x="6821" y="7417"/>
                </a:cubicBezTo>
                <a:cubicBezTo>
                  <a:pt x="6873" y="7417"/>
                  <a:pt x="6891" y="7416"/>
                  <a:pt x="6921" y="7392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Ink 37"/>
          <p:cNvSpPr/>
          <p:nvPr/>
        </p:nvSpPr>
        <p:spPr>
          <a:xfrm>
            <a:off x="2473200" y="4321080"/>
            <a:ext cx="223920" cy="447840"/>
          </a:xfrm>
          <a:custGeom>
            <a:avLst/>
            <a:gdLst/>
            <a:ahLst/>
            <a:rect l="l" t="t" r="r" b="b"/>
            <a:pathLst>
              <a:path w="621" h="1242">
                <a:moveTo>
                  <a:pt x="6871" y="12129"/>
                </a:moveTo>
                <a:cubicBezTo>
                  <a:pt x="6932" y="12113"/>
                  <a:pt x="7006" y="12075"/>
                  <a:pt x="7045" y="12105"/>
                </a:cubicBezTo>
                <a:cubicBezTo>
                  <a:pt x="7101" y="12148"/>
                  <a:pt x="7048" y="12221"/>
                  <a:pt x="7045" y="12278"/>
                </a:cubicBezTo>
                <a:cubicBezTo>
                  <a:pt x="7041" y="12357"/>
                  <a:pt x="7020" y="12418"/>
                  <a:pt x="7020" y="12502"/>
                </a:cubicBezTo>
                <a:cubicBezTo>
                  <a:pt x="7020" y="12580"/>
                  <a:pt x="7005" y="12598"/>
                  <a:pt x="7045" y="12626"/>
                </a:cubicBezTo>
              </a:path>
              <a:path w="621" h="1242">
                <a:moveTo>
                  <a:pt x="7193" y="12105"/>
                </a:moveTo>
                <a:cubicBezTo>
                  <a:pt x="7303" y="12105"/>
                  <a:pt x="7359" y="12122"/>
                  <a:pt x="7441" y="12055"/>
                </a:cubicBezTo>
              </a:path>
              <a:path w="621" h="1242">
                <a:moveTo>
                  <a:pt x="7317" y="12154"/>
                </a:moveTo>
                <a:cubicBezTo>
                  <a:pt x="7287" y="12283"/>
                  <a:pt x="7274" y="12314"/>
                  <a:pt x="7293" y="12427"/>
                </a:cubicBezTo>
                <a:cubicBezTo>
                  <a:pt x="7293" y="12472"/>
                  <a:pt x="7289" y="12485"/>
                  <a:pt x="7317" y="12502"/>
                </a:cubicBezTo>
              </a:path>
              <a:path w="621" h="1242">
                <a:moveTo>
                  <a:pt x="7417" y="12005"/>
                </a:moveTo>
                <a:cubicBezTo>
                  <a:pt x="7401" y="12135"/>
                  <a:pt x="7392" y="12248"/>
                  <a:pt x="7392" y="12378"/>
                </a:cubicBezTo>
                <a:cubicBezTo>
                  <a:pt x="7392" y="12454"/>
                  <a:pt x="7391" y="12483"/>
                  <a:pt x="7417" y="12551"/>
                </a:cubicBezTo>
              </a:path>
              <a:path w="621" h="1242">
                <a:moveTo>
                  <a:pt x="7045" y="12601"/>
                </a:moveTo>
                <a:cubicBezTo>
                  <a:pt x="7123" y="12619"/>
                  <a:pt x="7287" y="12685"/>
                  <a:pt x="7367" y="12675"/>
                </a:cubicBezTo>
                <a:cubicBezTo>
                  <a:pt x="7399" y="12671"/>
                  <a:pt x="7446" y="12631"/>
                  <a:pt x="7491" y="12626"/>
                </a:cubicBezTo>
              </a:path>
              <a:path w="621" h="1242">
                <a:moveTo>
                  <a:pt x="7342" y="12700"/>
                </a:moveTo>
                <a:cubicBezTo>
                  <a:pt x="7274" y="12773"/>
                  <a:pt x="7171" y="12869"/>
                  <a:pt x="7144" y="12973"/>
                </a:cubicBezTo>
                <a:cubicBezTo>
                  <a:pt x="7127" y="13039"/>
                  <a:pt x="7150" y="13098"/>
                  <a:pt x="7193" y="13146"/>
                </a:cubicBezTo>
                <a:cubicBezTo>
                  <a:pt x="7249" y="13208"/>
                  <a:pt x="7308" y="13203"/>
                  <a:pt x="7367" y="13171"/>
                </a:cubicBezTo>
                <a:cubicBezTo>
                  <a:pt x="7435" y="13135"/>
                  <a:pt x="7474" y="13100"/>
                  <a:pt x="7417" y="13022"/>
                </a:cubicBezTo>
                <a:cubicBezTo>
                  <a:pt x="7364" y="12948"/>
                  <a:pt x="7281" y="12997"/>
                  <a:pt x="7243" y="13072"/>
                </a:cubicBezTo>
                <a:cubicBezTo>
                  <a:pt x="7202" y="13153"/>
                  <a:pt x="7232" y="13175"/>
                  <a:pt x="7268" y="13246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Ink 38"/>
          <p:cNvSpPr/>
          <p:nvPr/>
        </p:nvSpPr>
        <p:spPr>
          <a:xfrm>
            <a:off x="2786040" y="4786200"/>
            <a:ext cx="642960" cy="768600"/>
          </a:xfrm>
          <a:custGeom>
            <a:avLst/>
            <a:gdLst/>
            <a:ahLst/>
            <a:rect l="l" t="t" r="r" b="b"/>
            <a:pathLst>
              <a:path w="1787" h="2135">
                <a:moveTo>
                  <a:pt x="7913" y="13345"/>
                </a:moveTo>
                <a:cubicBezTo>
                  <a:pt x="7965" y="13365"/>
                  <a:pt x="8053" y="13393"/>
                  <a:pt x="8111" y="13370"/>
                </a:cubicBezTo>
                <a:cubicBezTo>
                  <a:pt x="8119" y="13362"/>
                  <a:pt x="8128" y="13353"/>
                  <a:pt x="8136" y="13345"/>
                </a:cubicBezTo>
              </a:path>
              <a:path w="1787" h="2135">
                <a:moveTo>
                  <a:pt x="7863" y="13295"/>
                </a:moveTo>
                <a:cubicBezTo>
                  <a:pt x="7808" y="13340"/>
                  <a:pt x="7713" y="13396"/>
                  <a:pt x="7764" y="13469"/>
                </a:cubicBezTo>
                <a:cubicBezTo>
                  <a:pt x="7814" y="13540"/>
                  <a:pt x="7872" y="13498"/>
                  <a:pt x="7938" y="13543"/>
                </a:cubicBezTo>
                <a:cubicBezTo>
                  <a:pt x="8037" y="13611"/>
                  <a:pt x="8080" y="13633"/>
                  <a:pt x="8012" y="13742"/>
                </a:cubicBezTo>
                <a:cubicBezTo>
                  <a:pt x="7973" y="13804"/>
                  <a:pt x="7868" y="13857"/>
                  <a:pt x="7813" y="13791"/>
                </a:cubicBezTo>
                <a:cubicBezTo>
                  <a:pt x="7793" y="13751"/>
                  <a:pt x="7785" y="13744"/>
                  <a:pt x="7789" y="13717"/>
                </a:cubicBezTo>
              </a:path>
              <a:path w="1787" h="2135">
                <a:moveTo>
                  <a:pt x="8136" y="13395"/>
                </a:moveTo>
                <a:cubicBezTo>
                  <a:pt x="8173" y="13431"/>
                  <a:pt x="8263" y="13509"/>
                  <a:pt x="8260" y="13568"/>
                </a:cubicBezTo>
                <a:cubicBezTo>
                  <a:pt x="8236" y="13640"/>
                  <a:pt x="8230" y="13663"/>
                  <a:pt x="8186" y="13692"/>
                </a:cubicBezTo>
              </a:path>
              <a:path w="1787" h="2135">
                <a:moveTo>
                  <a:pt x="8409" y="13370"/>
                </a:moveTo>
                <a:cubicBezTo>
                  <a:pt x="8409" y="13527"/>
                  <a:pt x="8355" y="13787"/>
                  <a:pt x="8434" y="13915"/>
                </a:cubicBezTo>
              </a:path>
              <a:path w="1787" h="2135">
                <a:moveTo>
                  <a:pt x="8086" y="13320"/>
                </a:moveTo>
                <a:cubicBezTo>
                  <a:pt x="8194" y="13342"/>
                  <a:pt x="8323" y="13383"/>
                  <a:pt x="8434" y="13370"/>
                </a:cubicBezTo>
                <a:cubicBezTo>
                  <a:pt x="8508" y="13361"/>
                  <a:pt x="8586" y="13340"/>
                  <a:pt x="8657" y="13320"/>
                </a:cubicBezTo>
              </a:path>
              <a:path w="1787" h="2135">
                <a:moveTo>
                  <a:pt x="7962" y="13791"/>
                </a:moveTo>
                <a:cubicBezTo>
                  <a:pt x="8079" y="13809"/>
                  <a:pt x="8194" y="13836"/>
                  <a:pt x="8310" y="13841"/>
                </a:cubicBezTo>
                <a:cubicBezTo>
                  <a:pt x="8395" y="13845"/>
                  <a:pt x="8461" y="13840"/>
                  <a:pt x="8533" y="13791"/>
                </a:cubicBezTo>
                <a:cubicBezTo>
                  <a:pt x="8556" y="13769"/>
                  <a:pt x="8564" y="13764"/>
                  <a:pt x="8558" y="13742"/>
                </a:cubicBezTo>
              </a:path>
              <a:path w="1787" h="2135">
                <a:moveTo>
                  <a:pt x="8161" y="13891"/>
                </a:moveTo>
                <a:cubicBezTo>
                  <a:pt x="8148" y="13906"/>
                  <a:pt x="7997" y="14030"/>
                  <a:pt x="7987" y="14064"/>
                </a:cubicBezTo>
                <a:cubicBezTo>
                  <a:pt x="7974" y="14109"/>
                  <a:pt x="8026" y="14187"/>
                  <a:pt x="8062" y="14213"/>
                </a:cubicBezTo>
                <a:cubicBezTo>
                  <a:pt x="8110" y="14237"/>
                  <a:pt x="8124" y="14246"/>
                  <a:pt x="8161" y="14238"/>
                </a:cubicBezTo>
              </a:path>
              <a:path w="1787" h="2135">
                <a:moveTo>
                  <a:pt x="8359" y="13915"/>
                </a:moveTo>
                <a:cubicBezTo>
                  <a:pt x="8292" y="14000"/>
                  <a:pt x="8211" y="14090"/>
                  <a:pt x="8161" y="14188"/>
                </a:cubicBezTo>
                <a:cubicBezTo>
                  <a:pt x="8102" y="14303"/>
                  <a:pt x="8089" y="14441"/>
                  <a:pt x="8062" y="14560"/>
                </a:cubicBezTo>
                <a:cubicBezTo>
                  <a:pt x="8040" y="14625"/>
                  <a:pt x="8032" y="14640"/>
                  <a:pt x="8037" y="14684"/>
                </a:cubicBezTo>
              </a:path>
              <a:path w="1787" h="2135">
                <a:moveTo>
                  <a:pt x="9004" y="14188"/>
                </a:moveTo>
                <a:cubicBezTo>
                  <a:pt x="8994" y="14257"/>
                  <a:pt x="8934" y="14308"/>
                  <a:pt x="8954" y="14387"/>
                </a:cubicBezTo>
                <a:cubicBezTo>
                  <a:pt x="8968" y="14443"/>
                  <a:pt x="9061" y="14459"/>
                  <a:pt x="9103" y="14461"/>
                </a:cubicBezTo>
                <a:cubicBezTo>
                  <a:pt x="9120" y="14461"/>
                  <a:pt x="9136" y="14461"/>
                  <a:pt x="9153" y="14461"/>
                </a:cubicBezTo>
              </a:path>
              <a:path w="1787" h="2135">
                <a:moveTo>
                  <a:pt x="9227" y="14238"/>
                </a:moveTo>
                <a:cubicBezTo>
                  <a:pt x="9132" y="14348"/>
                  <a:pt x="9121" y="14433"/>
                  <a:pt x="9103" y="14585"/>
                </a:cubicBezTo>
                <a:cubicBezTo>
                  <a:pt x="9094" y="14657"/>
                  <a:pt x="9103" y="14735"/>
                  <a:pt x="9103" y="14808"/>
                </a:cubicBezTo>
              </a:path>
              <a:path w="1787" h="2135">
                <a:moveTo>
                  <a:pt x="9277" y="14362"/>
                </a:moveTo>
                <a:cubicBezTo>
                  <a:pt x="9333" y="14294"/>
                  <a:pt x="9384" y="14317"/>
                  <a:pt x="9475" y="14288"/>
                </a:cubicBezTo>
              </a:path>
              <a:path w="1787" h="2135">
                <a:moveTo>
                  <a:pt x="9401" y="14387"/>
                </a:moveTo>
                <a:cubicBezTo>
                  <a:pt x="9358" y="14497"/>
                  <a:pt x="9327" y="14569"/>
                  <a:pt x="9327" y="14684"/>
                </a:cubicBezTo>
              </a:path>
              <a:path w="1787" h="2135">
                <a:moveTo>
                  <a:pt x="9525" y="14312"/>
                </a:moveTo>
                <a:cubicBezTo>
                  <a:pt x="9501" y="14408"/>
                  <a:pt x="9464" y="14488"/>
                  <a:pt x="9451" y="14585"/>
                </a:cubicBezTo>
                <a:cubicBezTo>
                  <a:pt x="9451" y="14637"/>
                  <a:pt x="9450" y="14655"/>
                  <a:pt x="9426" y="14684"/>
                </a:cubicBezTo>
              </a:path>
              <a:path w="1787" h="2135">
                <a:moveTo>
                  <a:pt x="9029" y="14808"/>
                </a:moveTo>
                <a:cubicBezTo>
                  <a:pt x="9117" y="14832"/>
                  <a:pt x="9185" y="14833"/>
                  <a:pt x="9277" y="14833"/>
                </a:cubicBezTo>
                <a:cubicBezTo>
                  <a:pt x="9343" y="14833"/>
                  <a:pt x="9409" y="14833"/>
                  <a:pt x="9475" y="14833"/>
                </a:cubicBezTo>
              </a:path>
              <a:path w="1787" h="2135">
                <a:moveTo>
                  <a:pt x="9128" y="14957"/>
                </a:moveTo>
                <a:cubicBezTo>
                  <a:pt x="9213" y="14957"/>
                  <a:pt x="9263" y="14948"/>
                  <a:pt x="9327" y="15007"/>
                </a:cubicBezTo>
                <a:cubicBezTo>
                  <a:pt x="9360" y="15037"/>
                  <a:pt x="9431" y="15117"/>
                  <a:pt x="9376" y="15156"/>
                </a:cubicBezTo>
                <a:cubicBezTo>
                  <a:pt x="9316" y="15198"/>
                  <a:pt x="9265" y="15164"/>
                  <a:pt x="9203" y="15156"/>
                </a:cubicBezTo>
                <a:cubicBezTo>
                  <a:pt x="9251" y="15186"/>
                  <a:pt x="9286" y="15214"/>
                  <a:pt x="9327" y="15255"/>
                </a:cubicBezTo>
              </a:path>
              <a:path w="1787" h="2135">
                <a:moveTo>
                  <a:pt x="9327" y="15354"/>
                </a:moveTo>
                <a:cubicBezTo>
                  <a:pt x="9261" y="15429"/>
                  <a:pt x="9229" y="15451"/>
                  <a:pt x="9128" y="15404"/>
                </a:cubicBezTo>
                <a:cubicBezTo>
                  <a:pt x="9073" y="15379"/>
                  <a:pt x="9072" y="15303"/>
                  <a:pt x="9054" y="15255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Ink 39"/>
          <p:cNvSpPr/>
          <p:nvPr/>
        </p:nvSpPr>
        <p:spPr>
          <a:xfrm>
            <a:off x="2009880" y="4643280"/>
            <a:ext cx="1295280" cy="1374840"/>
          </a:xfrm>
          <a:custGeom>
            <a:avLst/>
            <a:gdLst/>
            <a:ahLst/>
            <a:rect l="l" t="t" r="r" b="b"/>
            <a:pathLst>
              <a:path w="3598" h="3821">
                <a:moveTo>
                  <a:pt x="5581" y="13395"/>
                </a:moveTo>
                <a:cubicBezTo>
                  <a:pt x="5645" y="13404"/>
                  <a:pt x="5684" y="13419"/>
                  <a:pt x="5755" y="13419"/>
                </a:cubicBezTo>
              </a:path>
              <a:path w="3598" h="3821">
                <a:moveTo>
                  <a:pt x="5854" y="13146"/>
                </a:moveTo>
                <a:cubicBezTo>
                  <a:pt x="5865" y="13232"/>
                  <a:pt x="5868" y="13262"/>
                  <a:pt x="5854" y="13345"/>
                </a:cubicBezTo>
                <a:cubicBezTo>
                  <a:pt x="5842" y="13418"/>
                  <a:pt x="5875" y="13473"/>
                  <a:pt x="5879" y="13543"/>
                </a:cubicBezTo>
                <a:cubicBezTo>
                  <a:pt x="5879" y="13560"/>
                  <a:pt x="5879" y="13576"/>
                  <a:pt x="5879" y="13593"/>
                </a:cubicBezTo>
                <a:cubicBezTo>
                  <a:pt x="5923" y="13520"/>
                  <a:pt x="5886" y="13457"/>
                  <a:pt x="5904" y="13370"/>
                </a:cubicBezTo>
                <a:cubicBezTo>
                  <a:pt x="5921" y="13283"/>
                  <a:pt x="5909" y="13238"/>
                  <a:pt x="5904" y="13146"/>
                </a:cubicBezTo>
                <a:cubicBezTo>
                  <a:pt x="5901" y="13078"/>
                  <a:pt x="5863" y="12986"/>
                  <a:pt x="5879" y="12923"/>
                </a:cubicBezTo>
                <a:cubicBezTo>
                  <a:pt x="5898" y="12849"/>
                  <a:pt x="6049" y="12918"/>
                  <a:pt x="6077" y="12923"/>
                </a:cubicBezTo>
                <a:cubicBezTo>
                  <a:pt x="6135" y="12934"/>
                  <a:pt x="6175" y="12960"/>
                  <a:pt x="6226" y="12973"/>
                </a:cubicBezTo>
              </a:path>
              <a:path w="3598" h="3821">
                <a:moveTo>
                  <a:pt x="5978" y="13221"/>
                </a:moveTo>
                <a:cubicBezTo>
                  <a:pt x="6019" y="13246"/>
                  <a:pt x="6053" y="13252"/>
                  <a:pt x="6102" y="13271"/>
                </a:cubicBezTo>
                <a:cubicBezTo>
                  <a:pt x="6061" y="13311"/>
                  <a:pt x="5996" y="13358"/>
                  <a:pt x="6052" y="13419"/>
                </a:cubicBezTo>
                <a:cubicBezTo>
                  <a:pt x="6068" y="13436"/>
                  <a:pt x="6178" y="13482"/>
                  <a:pt x="6176" y="13519"/>
                </a:cubicBezTo>
                <a:cubicBezTo>
                  <a:pt x="6172" y="13586"/>
                  <a:pt x="6085" y="13628"/>
                  <a:pt x="6028" y="13618"/>
                </a:cubicBezTo>
                <a:cubicBezTo>
                  <a:pt x="5959" y="13606"/>
                  <a:pt x="5946" y="13586"/>
                  <a:pt x="5904" y="13543"/>
                </a:cubicBezTo>
              </a:path>
              <a:path w="3598" h="3821">
                <a:moveTo>
                  <a:pt x="5705" y="13643"/>
                </a:moveTo>
                <a:cubicBezTo>
                  <a:pt x="5807" y="13670"/>
                  <a:pt x="5896" y="13667"/>
                  <a:pt x="6003" y="13667"/>
                </a:cubicBezTo>
                <a:cubicBezTo>
                  <a:pt x="6053" y="13667"/>
                  <a:pt x="6102" y="13667"/>
                  <a:pt x="6152" y="13667"/>
                </a:cubicBezTo>
              </a:path>
              <a:path w="3598" h="3821">
                <a:moveTo>
                  <a:pt x="5904" y="13866"/>
                </a:moveTo>
                <a:cubicBezTo>
                  <a:pt x="5951" y="13883"/>
                  <a:pt x="6102" y="13904"/>
                  <a:pt x="6102" y="13965"/>
                </a:cubicBezTo>
                <a:cubicBezTo>
                  <a:pt x="6102" y="13993"/>
                  <a:pt x="5998" y="14059"/>
                  <a:pt x="5978" y="14064"/>
                </a:cubicBezTo>
                <a:cubicBezTo>
                  <a:pt x="5933" y="14064"/>
                  <a:pt x="5920" y="14060"/>
                  <a:pt x="5904" y="14089"/>
                </a:cubicBezTo>
                <a:cubicBezTo>
                  <a:pt x="5963" y="14137"/>
                  <a:pt x="6021" y="14175"/>
                  <a:pt x="6102" y="14163"/>
                </a:cubicBezTo>
                <a:cubicBezTo>
                  <a:pt x="6169" y="14141"/>
                  <a:pt x="6187" y="14137"/>
                  <a:pt x="6226" y="14114"/>
                </a:cubicBezTo>
              </a:path>
              <a:path w="3598" h="3821">
                <a:moveTo>
                  <a:pt x="6424" y="13395"/>
                </a:moveTo>
                <a:cubicBezTo>
                  <a:pt x="6495" y="13381"/>
                  <a:pt x="6566" y="13374"/>
                  <a:pt x="6623" y="13345"/>
                </a:cubicBezTo>
              </a:path>
              <a:path w="3598" h="3821">
                <a:moveTo>
                  <a:pt x="6796" y="13047"/>
                </a:moveTo>
                <a:cubicBezTo>
                  <a:pt x="6767" y="13097"/>
                  <a:pt x="6734" y="13183"/>
                  <a:pt x="6722" y="13246"/>
                </a:cubicBezTo>
                <a:cubicBezTo>
                  <a:pt x="6707" y="13322"/>
                  <a:pt x="6697" y="13388"/>
                  <a:pt x="6697" y="13469"/>
                </a:cubicBezTo>
                <a:cubicBezTo>
                  <a:pt x="6697" y="13477"/>
                  <a:pt x="6697" y="13486"/>
                  <a:pt x="6697" y="13494"/>
                </a:cubicBezTo>
              </a:path>
              <a:path w="3598" h="3821">
                <a:moveTo>
                  <a:pt x="6548" y="13543"/>
                </a:moveTo>
                <a:cubicBezTo>
                  <a:pt x="6644" y="13525"/>
                  <a:pt x="6724" y="13519"/>
                  <a:pt x="6821" y="13519"/>
                </a:cubicBezTo>
                <a:cubicBezTo>
                  <a:pt x="6871" y="13519"/>
                  <a:pt x="6888" y="13519"/>
                  <a:pt x="6921" y="13519"/>
                </a:cubicBezTo>
              </a:path>
              <a:path w="3598" h="3821">
                <a:moveTo>
                  <a:pt x="6648" y="13717"/>
                </a:moveTo>
                <a:cubicBezTo>
                  <a:pt x="6727" y="13737"/>
                  <a:pt x="6826" y="13725"/>
                  <a:pt x="6896" y="13767"/>
                </a:cubicBezTo>
                <a:cubicBezTo>
                  <a:pt x="6921" y="13791"/>
                  <a:pt x="6929" y="13799"/>
                  <a:pt x="6945" y="13816"/>
                </a:cubicBezTo>
              </a:path>
              <a:path w="3598" h="3821">
                <a:moveTo>
                  <a:pt x="6747" y="13990"/>
                </a:moveTo>
                <a:cubicBezTo>
                  <a:pt x="6722" y="13998"/>
                  <a:pt x="6697" y="14007"/>
                  <a:pt x="6672" y="14015"/>
                </a:cubicBezTo>
                <a:cubicBezTo>
                  <a:pt x="6716" y="14040"/>
                  <a:pt x="6792" y="14055"/>
                  <a:pt x="6846" y="14064"/>
                </a:cubicBezTo>
                <a:cubicBezTo>
                  <a:pt x="6923" y="14077"/>
                  <a:pt x="6999" y="14066"/>
                  <a:pt x="7069" y="14039"/>
                </a:cubicBezTo>
              </a:path>
              <a:path w="3598" h="3821">
                <a:moveTo>
                  <a:pt x="5978" y="14610"/>
                </a:moveTo>
                <a:cubicBezTo>
                  <a:pt x="6068" y="14644"/>
                  <a:pt x="6152" y="14635"/>
                  <a:pt x="6251" y="14635"/>
                </a:cubicBezTo>
              </a:path>
              <a:path w="3598" h="3821">
                <a:moveTo>
                  <a:pt x="6598" y="14511"/>
                </a:moveTo>
                <a:cubicBezTo>
                  <a:pt x="6588" y="14600"/>
                  <a:pt x="6560" y="14676"/>
                  <a:pt x="6524" y="14759"/>
                </a:cubicBezTo>
                <a:cubicBezTo>
                  <a:pt x="6524" y="14687"/>
                  <a:pt x="6529" y="14603"/>
                  <a:pt x="6548" y="14536"/>
                </a:cubicBezTo>
                <a:cubicBezTo>
                  <a:pt x="6565" y="14476"/>
                  <a:pt x="6612" y="14420"/>
                  <a:pt x="6623" y="14362"/>
                </a:cubicBezTo>
                <a:cubicBezTo>
                  <a:pt x="6648" y="14228"/>
                  <a:pt x="6678" y="14269"/>
                  <a:pt x="6796" y="14288"/>
                </a:cubicBezTo>
                <a:cubicBezTo>
                  <a:pt x="6837" y="14288"/>
                  <a:pt x="6854" y="14279"/>
                  <a:pt x="6846" y="14312"/>
                </a:cubicBezTo>
              </a:path>
              <a:path w="3598" h="3821">
                <a:moveTo>
                  <a:pt x="6772" y="14436"/>
                </a:moveTo>
                <a:cubicBezTo>
                  <a:pt x="6837" y="14444"/>
                  <a:pt x="6951" y="14461"/>
                  <a:pt x="6871" y="14560"/>
                </a:cubicBezTo>
                <a:cubicBezTo>
                  <a:pt x="6837" y="14602"/>
                  <a:pt x="6743" y="14641"/>
                  <a:pt x="6697" y="14660"/>
                </a:cubicBezTo>
                <a:cubicBezTo>
                  <a:pt x="6747" y="14719"/>
                  <a:pt x="6804" y="14743"/>
                  <a:pt x="6896" y="14759"/>
                </a:cubicBezTo>
                <a:cubicBezTo>
                  <a:pt x="6935" y="14766"/>
                  <a:pt x="6981" y="14759"/>
                  <a:pt x="7020" y="14759"/>
                </a:cubicBezTo>
              </a:path>
              <a:path w="3598" h="3821">
                <a:moveTo>
                  <a:pt x="6449" y="14808"/>
                </a:moveTo>
                <a:cubicBezTo>
                  <a:pt x="6590" y="14822"/>
                  <a:pt x="6689" y="14859"/>
                  <a:pt x="6821" y="14908"/>
                </a:cubicBezTo>
                <a:cubicBezTo>
                  <a:pt x="6887" y="14929"/>
                  <a:pt x="6902" y="14937"/>
                  <a:pt x="6945" y="14932"/>
                </a:cubicBezTo>
              </a:path>
              <a:path w="3598" h="3821">
                <a:moveTo>
                  <a:pt x="6598" y="15007"/>
                </a:moveTo>
                <a:cubicBezTo>
                  <a:pt x="6674" y="15007"/>
                  <a:pt x="6777" y="15001"/>
                  <a:pt x="6846" y="15032"/>
                </a:cubicBezTo>
                <a:cubicBezTo>
                  <a:pt x="6906" y="15059"/>
                  <a:pt x="6906" y="15113"/>
                  <a:pt x="6871" y="15156"/>
                </a:cubicBezTo>
                <a:cubicBezTo>
                  <a:pt x="6841" y="15193"/>
                  <a:pt x="6720" y="15213"/>
                  <a:pt x="6672" y="15230"/>
                </a:cubicBezTo>
                <a:cubicBezTo>
                  <a:pt x="6598" y="15256"/>
                  <a:pt x="6527" y="15299"/>
                  <a:pt x="6573" y="15379"/>
                </a:cubicBezTo>
                <a:cubicBezTo>
                  <a:pt x="6609" y="15441"/>
                  <a:pt x="6708" y="15466"/>
                  <a:pt x="6772" y="15478"/>
                </a:cubicBezTo>
                <a:cubicBezTo>
                  <a:pt x="6840" y="15490"/>
                  <a:pt x="6898" y="15503"/>
                  <a:pt x="6970" y="15503"/>
                </a:cubicBezTo>
              </a:path>
              <a:path w="3598" h="3821">
                <a:moveTo>
                  <a:pt x="7392" y="14660"/>
                </a:moveTo>
                <a:cubicBezTo>
                  <a:pt x="7392" y="14742"/>
                  <a:pt x="7392" y="14759"/>
                  <a:pt x="7392" y="14808"/>
                </a:cubicBezTo>
              </a:path>
              <a:path w="3598" h="3821">
                <a:moveTo>
                  <a:pt x="7045" y="14461"/>
                </a:moveTo>
                <a:cubicBezTo>
                  <a:pt x="7129" y="14469"/>
                  <a:pt x="7182" y="14488"/>
                  <a:pt x="7268" y="14511"/>
                </a:cubicBezTo>
              </a:path>
              <a:path w="3598" h="3821">
                <a:moveTo>
                  <a:pt x="7367" y="14784"/>
                </a:moveTo>
                <a:cubicBezTo>
                  <a:pt x="7367" y="14800"/>
                  <a:pt x="7367" y="14817"/>
                  <a:pt x="7367" y="14833"/>
                </a:cubicBezTo>
                <a:cubicBezTo>
                  <a:pt x="7384" y="14770"/>
                  <a:pt x="7406" y="14690"/>
                  <a:pt x="7417" y="14635"/>
                </a:cubicBezTo>
                <a:cubicBezTo>
                  <a:pt x="7430" y="14571"/>
                  <a:pt x="7418" y="14471"/>
                  <a:pt x="7441" y="14412"/>
                </a:cubicBezTo>
                <a:cubicBezTo>
                  <a:pt x="7463" y="14355"/>
                  <a:pt x="7518" y="14250"/>
                  <a:pt x="7590" y="14263"/>
                </a:cubicBezTo>
                <a:cubicBezTo>
                  <a:pt x="7686" y="14280"/>
                  <a:pt x="7699" y="14356"/>
                  <a:pt x="7764" y="14387"/>
                </a:cubicBezTo>
                <a:cubicBezTo>
                  <a:pt x="7780" y="14387"/>
                  <a:pt x="7797" y="14387"/>
                  <a:pt x="7813" y="14387"/>
                </a:cubicBezTo>
              </a:path>
              <a:path w="3598" h="3821">
                <a:moveTo>
                  <a:pt x="7590" y="14486"/>
                </a:moveTo>
                <a:cubicBezTo>
                  <a:pt x="7641" y="14612"/>
                  <a:pt x="7639" y="14548"/>
                  <a:pt x="7739" y="14610"/>
                </a:cubicBezTo>
                <a:cubicBezTo>
                  <a:pt x="7818" y="14659"/>
                  <a:pt x="7775" y="14698"/>
                  <a:pt x="7714" y="14734"/>
                </a:cubicBezTo>
                <a:cubicBezTo>
                  <a:pt x="7655" y="14769"/>
                  <a:pt x="7593" y="14777"/>
                  <a:pt x="7541" y="14808"/>
                </a:cubicBezTo>
                <a:cubicBezTo>
                  <a:pt x="7594" y="14862"/>
                  <a:pt x="7623" y="14861"/>
                  <a:pt x="7689" y="14883"/>
                </a:cubicBezTo>
                <a:cubicBezTo>
                  <a:pt x="7754" y="14905"/>
                  <a:pt x="7747" y="14923"/>
                  <a:pt x="7813" y="14932"/>
                </a:cubicBezTo>
              </a:path>
              <a:path w="3598" h="3821">
                <a:moveTo>
                  <a:pt x="7342" y="14883"/>
                </a:moveTo>
                <a:cubicBezTo>
                  <a:pt x="7415" y="14954"/>
                  <a:pt x="7462" y="14968"/>
                  <a:pt x="7565" y="14982"/>
                </a:cubicBezTo>
                <a:cubicBezTo>
                  <a:pt x="7642" y="14993"/>
                  <a:pt x="7725" y="15000"/>
                  <a:pt x="7789" y="15032"/>
                </a:cubicBezTo>
              </a:path>
              <a:path w="3598" h="3821">
                <a:moveTo>
                  <a:pt x="7466" y="15255"/>
                </a:moveTo>
                <a:cubicBezTo>
                  <a:pt x="7466" y="15321"/>
                  <a:pt x="7466" y="15338"/>
                  <a:pt x="7466" y="15379"/>
                </a:cubicBezTo>
                <a:cubicBezTo>
                  <a:pt x="7494" y="15332"/>
                  <a:pt x="7510" y="15282"/>
                  <a:pt x="7541" y="15230"/>
                </a:cubicBezTo>
                <a:cubicBezTo>
                  <a:pt x="7572" y="15178"/>
                  <a:pt x="7565" y="15139"/>
                  <a:pt x="7565" y="15081"/>
                </a:cubicBezTo>
                <a:cubicBezTo>
                  <a:pt x="7635" y="15058"/>
                  <a:pt x="7672" y="15089"/>
                  <a:pt x="7739" y="15131"/>
                </a:cubicBezTo>
                <a:cubicBezTo>
                  <a:pt x="7805" y="15173"/>
                  <a:pt x="7872" y="15210"/>
                  <a:pt x="7938" y="15230"/>
                </a:cubicBezTo>
                <a:cubicBezTo>
                  <a:pt x="7946" y="15230"/>
                  <a:pt x="7954" y="15230"/>
                  <a:pt x="7962" y="15230"/>
                </a:cubicBezTo>
              </a:path>
              <a:path w="3598" h="3821">
                <a:moveTo>
                  <a:pt x="7590" y="15230"/>
                </a:moveTo>
                <a:cubicBezTo>
                  <a:pt x="7598" y="15230"/>
                  <a:pt x="7607" y="15230"/>
                  <a:pt x="7615" y="15230"/>
                </a:cubicBezTo>
              </a:path>
              <a:path w="3598" h="3821">
                <a:moveTo>
                  <a:pt x="7367" y="15056"/>
                </a:moveTo>
                <a:cubicBezTo>
                  <a:pt x="7462" y="15056"/>
                  <a:pt x="7665" y="15022"/>
                  <a:pt x="7739" y="15081"/>
                </a:cubicBezTo>
                <a:cubicBezTo>
                  <a:pt x="7831" y="15155"/>
                  <a:pt x="7766" y="15277"/>
                  <a:pt x="7714" y="15354"/>
                </a:cubicBezTo>
                <a:cubicBezTo>
                  <a:pt x="7670" y="15419"/>
                  <a:pt x="7583" y="15444"/>
                  <a:pt x="7516" y="15478"/>
                </a:cubicBezTo>
                <a:cubicBezTo>
                  <a:pt x="7449" y="15511"/>
                  <a:pt x="7402" y="15514"/>
                  <a:pt x="7342" y="15478"/>
                </a:cubicBezTo>
                <a:cubicBezTo>
                  <a:pt x="7347" y="15443"/>
                  <a:pt x="7366" y="15365"/>
                  <a:pt x="7417" y="15354"/>
                </a:cubicBezTo>
                <a:cubicBezTo>
                  <a:pt x="7496" y="15337"/>
                  <a:pt x="7545" y="15394"/>
                  <a:pt x="7590" y="15453"/>
                </a:cubicBezTo>
                <a:cubicBezTo>
                  <a:pt x="7639" y="15518"/>
                  <a:pt x="7681" y="15569"/>
                  <a:pt x="7739" y="15627"/>
                </a:cubicBezTo>
                <a:cubicBezTo>
                  <a:pt x="7747" y="15635"/>
                  <a:pt x="7756" y="15644"/>
                  <a:pt x="7764" y="15652"/>
                </a:cubicBezTo>
              </a:path>
              <a:path w="3598" h="3821">
                <a:moveTo>
                  <a:pt x="7466" y="15081"/>
                </a:moveTo>
                <a:cubicBezTo>
                  <a:pt x="7526" y="15045"/>
                  <a:pt x="7590" y="15056"/>
                  <a:pt x="7665" y="15056"/>
                </a:cubicBezTo>
                <a:cubicBezTo>
                  <a:pt x="7793" y="15056"/>
                  <a:pt x="7772" y="15145"/>
                  <a:pt x="7764" y="15230"/>
                </a:cubicBezTo>
                <a:cubicBezTo>
                  <a:pt x="7753" y="15342"/>
                  <a:pt x="7712" y="15358"/>
                  <a:pt x="7615" y="15404"/>
                </a:cubicBezTo>
                <a:cubicBezTo>
                  <a:pt x="7565" y="15428"/>
                  <a:pt x="7514" y="15468"/>
                  <a:pt x="7466" y="15478"/>
                </a:cubicBezTo>
                <a:cubicBezTo>
                  <a:pt x="7422" y="15478"/>
                  <a:pt x="7408" y="15481"/>
                  <a:pt x="7392" y="15453"/>
                </a:cubicBezTo>
                <a:cubicBezTo>
                  <a:pt x="7472" y="15390"/>
                  <a:pt x="7511" y="15387"/>
                  <a:pt x="7590" y="15453"/>
                </a:cubicBezTo>
                <a:cubicBezTo>
                  <a:pt x="7652" y="15505"/>
                  <a:pt x="7722" y="15569"/>
                  <a:pt x="7789" y="15602"/>
                </a:cubicBezTo>
              </a:path>
              <a:path w="3598" h="3821">
                <a:moveTo>
                  <a:pt x="7913" y="15677"/>
                </a:moveTo>
                <a:cubicBezTo>
                  <a:pt x="7957" y="15696"/>
                  <a:pt x="8074" y="15756"/>
                  <a:pt x="8111" y="15751"/>
                </a:cubicBezTo>
                <a:cubicBezTo>
                  <a:pt x="8128" y="15743"/>
                  <a:pt x="8144" y="15734"/>
                  <a:pt x="8161" y="15726"/>
                </a:cubicBezTo>
              </a:path>
              <a:path w="3598" h="3821">
                <a:moveTo>
                  <a:pt x="8310" y="15478"/>
                </a:moveTo>
                <a:cubicBezTo>
                  <a:pt x="8310" y="15569"/>
                  <a:pt x="8301" y="15663"/>
                  <a:pt x="8285" y="15751"/>
                </a:cubicBezTo>
                <a:cubicBezTo>
                  <a:pt x="8272" y="15824"/>
                  <a:pt x="8260" y="15883"/>
                  <a:pt x="8235" y="15949"/>
                </a:cubicBezTo>
              </a:path>
              <a:path w="3598" h="3821">
                <a:moveTo>
                  <a:pt x="7962" y="15974"/>
                </a:moveTo>
                <a:cubicBezTo>
                  <a:pt x="8094" y="15974"/>
                  <a:pt x="8227" y="15974"/>
                  <a:pt x="8359" y="15974"/>
                </a:cubicBezTo>
              </a:path>
              <a:path w="3598" h="3821">
                <a:moveTo>
                  <a:pt x="8111" y="16123"/>
                </a:moveTo>
                <a:cubicBezTo>
                  <a:pt x="8173" y="16123"/>
                  <a:pt x="8317" y="16094"/>
                  <a:pt x="8359" y="16148"/>
                </a:cubicBezTo>
                <a:cubicBezTo>
                  <a:pt x="8399" y="16200"/>
                  <a:pt x="8396" y="16275"/>
                  <a:pt x="8359" y="16321"/>
                </a:cubicBezTo>
                <a:cubicBezTo>
                  <a:pt x="8319" y="16370"/>
                  <a:pt x="8241" y="16393"/>
                  <a:pt x="8186" y="16421"/>
                </a:cubicBezTo>
                <a:cubicBezTo>
                  <a:pt x="8142" y="16443"/>
                  <a:pt x="8131" y="16446"/>
                  <a:pt x="8111" y="16470"/>
                </a:cubicBezTo>
                <a:cubicBezTo>
                  <a:pt x="8161" y="16520"/>
                  <a:pt x="8171" y="16527"/>
                  <a:pt x="8235" y="16545"/>
                </a:cubicBezTo>
                <a:cubicBezTo>
                  <a:pt x="8328" y="16571"/>
                  <a:pt x="8412" y="16570"/>
                  <a:pt x="8508" y="16570"/>
                </a:cubicBezTo>
              </a:path>
              <a:path w="3598" h="3821">
                <a:moveTo>
                  <a:pt x="8682" y="15652"/>
                </a:moveTo>
                <a:cubicBezTo>
                  <a:pt x="8754" y="15702"/>
                  <a:pt x="8756" y="15715"/>
                  <a:pt x="8830" y="15726"/>
                </a:cubicBezTo>
              </a:path>
              <a:path w="3598" h="3821">
                <a:moveTo>
                  <a:pt x="8830" y="15726"/>
                </a:moveTo>
                <a:cubicBezTo>
                  <a:pt x="8830" y="15825"/>
                  <a:pt x="8830" y="15842"/>
                  <a:pt x="8830" y="15900"/>
                </a:cubicBezTo>
                <a:cubicBezTo>
                  <a:pt x="8879" y="15838"/>
                  <a:pt x="8880" y="15804"/>
                  <a:pt x="8880" y="15726"/>
                </a:cubicBezTo>
                <a:cubicBezTo>
                  <a:pt x="8880" y="15649"/>
                  <a:pt x="8902" y="15596"/>
                  <a:pt x="8905" y="15528"/>
                </a:cubicBezTo>
                <a:cubicBezTo>
                  <a:pt x="8905" y="15450"/>
                  <a:pt x="8890" y="15432"/>
                  <a:pt x="8930" y="15404"/>
                </a:cubicBezTo>
                <a:cubicBezTo>
                  <a:pt x="9019" y="15412"/>
                  <a:pt x="9064" y="15414"/>
                  <a:pt x="9128" y="15478"/>
                </a:cubicBezTo>
                <a:cubicBezTo>
                  <a:pt x="9136" y="15486"/>
                  <a:pt x="9145" y="15495"/>
                  <a:pt x="9153" y="15503"/>
                </a:cubicBezTo>
              </a:path>
              <a:path w="3598" h="3821">
                <a:moveTo>
                  <a:pt x="9004" y="15627"/>
                </a:moveTo>
                <a:cubicBezTo>
                  <a:pt x="9044" y="15659"/>
                  <a:pt x="9121" y="15688"/>
                  <a:pt x="9153" y="15726"/>
                </a:cubicBezTo>
                <a:cubicBezTo>
                  <a:pt x="9225" y="15810"/>
                  <a:pt x="9122" y="15843"/>
                  <a:pt x="9054" y="15825"/>
                </a:cubicBezTo>
                <a:cubicBezTo>
                  <a:pt x="9037" y="15817"/>
                  <a:pt x="9021" y="15809"/>
                  <a:pt x="9004" y="15801"/>
                </a:cubicBezTo>
                <a:cubicBezTo>
                  <a:pt x="9044" y="15840"/>
                  <a:pt x="9066" y="15884"/>
                  <a:pt x="9103" y="15925"/>
                </a:cubicBezTo>
                <a:cubicBezTo>
                  <a:pt x="9129" y="15953"/>
                  <a:pt x="9159" y="16052"/>
                  <a:pt x="9103" y="16073"/>
                </a:cubicBezTo>
                <a:cubicBezTo>
                  <a:pt x="9033" y="16100"/>
                  <a:pt x="8958" y="16032"/>
                  <a:pt x="8905" y="15999"/>
                </a:cubicBezTo>
              </a:path>
              <a:path w="3598" h="3821">
                <a:moveTo>
                  <a:pt x="8731" y="15875"/>
                </a:moveTo>
                <a:cubicBezTo>
                  <a:pt x="8851" y="15973"/>
                  <a:pt x="8908" y="15974"/>
                  <a:pt x="9079" y="15999"/>
                </a:cubicBezTo>
                <a:cubicBezTo>
                  <a:pt x="9087" y="15999"/>
                  <a:pt x="9095" y="15999"/>
                  <a:pt x="9103" y="15999"/>
                </a:cubicBezTo>
              </a:path>
              <a:path w="3598" h="3821">
                <a:moveTo>
                  <a:pt x="8880" y="16123"/>
                </a:moveTo>
                <a:cubicBezTo>
                  <a:pt x="8957" y="16146"/>
                  <a:pt x="9057" y="16120"/>
                  <a:pt x="9128" y="16148"/>
                </a:cubicBezTo>
                <a:cubicBezTo>
                  <a:pt x="9197" y="16175"/>
                  <a:pt x="9203" y="16276"/>
                  <a:pt x="9153" y="16321"/>
                </a:cubicBezTo>
                <a:cubicBezTo>
                  <a:pt x="9096" y="16373"/>
                  <a:pt x="9004" y="16386"/>
                  <a:pt x="8930" y="16396"/>
                </a:cubicBezTo>
                <a:cubicBezTo>
                  <a:pt x="8878" y="16396"/>
                  <a:pt x="8860" y="16397"/>
                  <a:pt x="8830" y="16421"/>
                </a:cubicBezTo>
                <a:cubicBezTo>
                  <a:pt x="8876" y="16512"/>
                  <a:pt x="8901" y="16513"/>
                  <a:pt x="8979" y="16570"/>
                </a:cubicBezTo>
                <a:cubicBezTo>
                  <a:pt x="9046" y="16619"/>
                  <a:pt x="9114" y="16668"/>
                  <a:pt x="9178" y="16718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Ink 40"/>
          <p:cNvSpPr/>
          <p:nvPr/>
        </p:nvSpPr>
        <p:spPr>
          <a:xfrm>
            <a:off x="5626080" y="4643280"/>
            <a:ext cx="1231920" cy="1339920"/>
          </a:xfrm>
          <a:custGeom>
            <a:avLst/>
            <a:gdLst/>
            <a:ahLst/>
            <a:rect l="l" t="t" r="r" b="b"/>
            <a:pathLst>
              <a:path w="3424" h="3722">
                <a:moveTo>
                  <a:pt x="17859" y="13271"/>
                </a:moveTo>
                <a:cubicBezTo>
                  <a:pt x="17823" y="13335"/>
                  <a:pt x="17796" y="13405"/>
                  <a:pt x="17760" y="13469"/>
                </a:cubicBezTo>
                <a:cubicBezTo>
                  <a:pt x="17752" y="13477"/>
                  <a:pt x="17743" y="13486"/>
                  <a:pt x="17735" y="13494"/>
                </a:cubicBezTo>
                <a:cubicBezTo>
                  <a:pt x="17735" y="13326"/>
                  <a:pt x="17731" y="13150"/>
                  <a:pt x="17760" y="12998"/>
                </a:cubicBezTo>
                <a:cubicBezTo>
                  <a:pt x="17777" y="12908"/>
                  <a:pt x="17795" y="12900"/>
                  <a:pt x="17884" y="12923"/>
                </a:cubicBezTo>
                <a:cubicBezTo>
                  <a:pt x="17917" y="12931"/>
                  <a:pt x="17950" y="12940"/>
                  <a:pt x="17983" y="12948"/>
                </a:cubicBezTo>
              </a:path>
              <a:path w="3424" h="3722">
                <a:moveTo>
                  <a:pt x="18008" y="13146"/>
                </a:moveTo>
                <a:cubicBezTo>
                  <a:pt x="18082" y="13146"/>
                  <a:pt x="18138" y="13150"/>
                  <a:pt x="18207" y="13171"/>
                </a:cubicBezTo>
                <a:cubicBezTo>
                  <a:pt x="18222" y="13235"/>
                  <a:pt x="18224" y="13303"/>
                  <a:pt x="18132" y="13320"/>
                </a:cubicBezTo>
                <a:cubicBezTo>
                  <a:pt x="18066" y="13320"/>
                  <a:pt x="18049" y="13320"/>
                  <a:pt x="18008" y="13320"/>
                </a:cubicBezTo>
                <a:cubicBezTo>
                  <a:pt x="18049" y="13353"/>
                  <a:pt x="18139" y="13391"/>
                  <a:pt x="18157" y="13444"/>
                </a:cubicBezTo>
                <a:cubicBezTo>
                  <a:pt x="18196" y="13562"/>
                  <a:pt x="18074" y="13563"/>
                  <a:pt x="18008" y="13568"/>
                </a:cubicBezTo>
              </a:path>
              <a:path w="3424" h="3722">
                <a:moveTo>
                  <a:pt x="17636" y="13444"/>
                </a:moveTo>
                <a:cubicBezTo>
                  <a:pt x="17715" y="13514"/>
                  <a:pt x="17778" y="13529"/>
                  <a:pt x="17884" y="13543"/>
                </a:cubicBezTo>
                <a:cubicBezTo>
                  <a:pt x="17969" y="13554"/>
                  <a:pt x="18050" y="13558"/>
                  <a:pt x="18132" y="13568"/>
                </a:cubicBezTo>
              </a:path>
              <a:path w="3424" h="3722">
                <a:moveTo>
                  <a:pt x="17909" y="13717"/>
                </a:moveTo>
                <a:cubicBezTo>
                  <a:pt x="18013" y="13717"/>
                  <a:pt x="18147" y="13690"/>
                  <a:pt x="18231" y="13742"/>
                </a:cubicBezTo>
                <a:cubicBezTo>
                  <a:pt x="18182" y="13821"/>
                  <a:pt x="18141" y="13850"/>
                  <a:pt x="18058" y="13891"/>
                </a:cubicBezTo>
                <a:cubicBezTo>
                  <a:pt x="18014" y="13912"/>
                  <a:pt x="18002" y="13915"/>
                  <a:pt x="17983" y="13940"/>
                </a:cubicBezTo>
                <a:cubicBezTo>
                  <a:pt x="18037" y="14015"/>
                  <a:pt x="18062" y="14035"/>
                  <a:pt x="18157" y="14039"/>
                </a:cubicBezTo>
                <a:cubicBezTo>
                  <a:pt x="18252" y="14043"/>
                  <a:pt x="18263" y="14024"/>
                  <a:pt x="18331" y="13965"/>
                </a:cubicBezTo>
              </a:path>
              <a:path w="3424" h="3722">
                <a:moveTo>
                  <a:pt x="18355" y="13320"/>
                </a:moveTo>
                <a:cubicBezTo>
                  <a:pt x="18421" y="13291"/>
                  <a:pt x="18486" y="13269"/>
                  <a:pt x="18554" y="13246"/>
                </a:cubicBezTo>
              </a:path>
              <a:path w="3424" h="3722">
                <a:moveTo>
                  <a:pt x="18728" y="12998"/>
                </a:moveTo>
                <a:cubicBezTo>
                  <a:pt x="18709" y="13105"/>
                  <a:pt x="18703" y="13188"/>
                  <a:pt x="18703" y="13295"/>
                </a:cubicBezTo>
                <a:cubicBezTo>
                  <a:pt x="18703" y="13336"/>
                  <a:pt x="18703" y="13378"/>
                  <a:pt x="18703" y="13419"/>
                </a:cubicBezTo>
              </a:path>
              <a:path w="3424" h="3722">
                <a:moveTo>
                  <a:pt x="18628" y="13568"/>
                </a:moveTo>
                <a:cubicBezTo>
                  <a:pt x="18727" y="13568"/>
                  <a:pt x="18827" y="13568"/>
                  <a:pt x="18926" y="13568"/>
                </a:cubicBezTo>
              </a:path>
              <a:path w="3424" h="3722">
                <a:moveTo>
                  <a:pt x="18678" y="13667"/>
                </a:moveTo>
                <a:cubicBezTo>
                  <a:pt x="18765" y="13635"/>
                  <a:pt x="18791" y="13653"/>
                  <a:pt x="18876" y="13667"/>
                </a:cubicBezTo>
                <a:cubicBezTo>
                  <a:pt x="18935" y="13676"/>
                  <a:pt x="18953" y="13678"/>
                  <a:pt x="19000" y="13717"/>
                </a:cubicBezTo>
                <a:cubicBezTo>
                  <a:pt x="18975" y="13806"/>
                  <a:pt x="18895" y="13820"/>
                  <a:pt x="18802" y="13866"/>
                </a:cubicBezTo>
                <a:cubicBezTo>
                  <a:pt x="18752" y="13891"/>
                  <a:pt x="18736" y="13899"/>
                  <a:pt x="18703" y="13915"/>
                </a:cubicBezTo>
                <a:cubicBezTo>
                  <a:pt x="18743" y="14015"/>
                  <a:pt x="18757" y="14016"/>
                  <a:pt x="18852" y="14064"/>
                </a:cubicBezTo>
                <a:cubicBezTo>
                  <a:pt x="18913" y="14095"/>
                  <a:pt x="18981" y="14099"/>
                  <a:pt x="19050" y="14114"/>
                </a:cubicBezTo>
              </a:path>
              <a:path w="3424" h="3722">
                <a:moveTo>
                  <a:pt x="16942" y="14536"/>
                </a:moveTo>
                <a:cubicBezTo>
                  <a:pt x="16974" y="14590"/>
                  <a:pt x="16966" y="14642"/>
                  <a:pt x="16966" y="14709"/>
                </a:cubicBezTo>
                <a:cubicBezTo>
                  <a:pt x="16966" y="14759"/>
                  <a:pt x="16966" y="14808"/>
                  <a:pt x="16966" y="14858"/>
                </a:cubicBezTo>
                <a:cubicBezTo>
                  <a:pt x="16930" y="14796"/>
                  <a:pt x="16942" y="14727"/>
                  <a:pt x="16917" y="14660"/>
                </a:cubicBezTo>
                <a:cubicBezTo>
                  <a:pt x="16893" y="14597"/>
                  <a:pt x="16892" y="14536"/>
                  <a:pt x="16892" y="14461"/>
                </a:cubicBezTo>
                <a:cubicBezTo>
                  <a:pt x="16892" y="14387"/>
                  <a:pt x="16907" y="14307"/>
                  <a:pt x="16991" y="14288"/>
                </a:cubicBezTo>
                <a:cubicBezTo>
                  <a:pt x="17057" y="14273"/>
                  <a:pt x="17137" y="14284"/>
                  <a:pt x="17190" y="14312"/>
                </a:cubicBezTo>
                <a:cubicBezTo>
                  <a:pt x="17206" y="14320"/>
                  <a:pt x="17223" y="14329"/>
                  <a:pt x="17239" y="14337"/>
                </a:cubicBezTo>
              </a:path>
              <a:path w="3424" h="3722">
                <a:moveTo>
                  <a:pt x="17066" y="14536"/>
                </a:moveTo>
                <a:cubicBezTo>
                  <a:pt x="17115" y="14575"/>
                  <a:pt x="17178" y="14600"/>
                  <a:pt x="17239" y="14610"/>
                </a:cubicBezTo>
                <a:cubicBezTo>
                  <a:pt x="17256" y="14610"/>
                  <a:pt x="17272" y="14610"/>
                  <a:pt x="17289" y="14610"/>
                </a:cubicBezTo>
                <a:cubicBezTo>
                  <a:pt x="17237" y="14662"/>
                  <a:pt x="17175" y="14696"/>
                  <a:pt x="17115" y="14734"/>
                </a:cubicBezTo>
                <a:cubicBezTo>
                  <a:pt x="17061" y="14768"/>
                  <a:pt x="17035" y="14841"/>
                  <a:pt x="17115" y="14883"/>
                </a:cubicBezTo>
                <a:cubicBezTo>
                  <a:pt x="17185" y="14920"/>
                  <a:pt x="17229" y="14913"/>
                  <a:pt x="17289" y="14883"/>
                </a:cubicBezTo>
              </a:path>
              <a:path w="3424" h="3722">
                <a:moveTo>
                  <a:pt x="16892" y="14883"/>
                </a:moveTo>
                <a:cubicBezTo>
                  <a:pt x="17020" y="14946"/>
                  <a:pt x="17115" y="14950"/>
                  <a:pt x="17264" y="14957"/>
                </a:cubicBezTo>
              </a:path>
              <a:path w="3424" h="3722">
                <a:moveTo>
                  <a:pt x="17066" y="15056"/>
                </a:moveTo>
                <a:cubicBezTo>
                  <a:pt x="17151" y="15056"/>
                  <a:pt x="17245" y="15039"/>
                  <a:pt x="17314" y="15081"/>
                </a:cubicBezTo>
                <a:cubicBezTo>
                  <a:pt x="17300" y="15176"/>
                  <a:pt x="17300" y="15184"/>
                  <a:pt x="17214" y="15230"/>
                </a:cubicBezTo>
                <a:cubicBezTo>
                  <a:pt x="17145" y="15267"/>
                  <a:pt x="17119" y="15273"/>
                  <a:pt x="17041" y="15280"/>
                </a:cubicBezTo>
                <a:cubicBezTo>
                  <a:pt x="17050" y="15345"/>
                  <a:pt x="17068" y="15356"/>
                  <a:pt x="17115" y="15404"/>
                </a:cubicBezTo>
                <a:cubicBezTo>
                  <a:pt x="17165" y="15454"/>
                  <a:pt x="17269" y="15441"/>
                  <a:pt x="17338" y="15453"/>
                </a:cubicBezTo>
                <a:cubicBezTo>
                  <a:pt x="17379" y="15461"/>
                  <a:pt x="17421" y="15470"/>
                  <a:pt x="17462" y="15478"/>
                </a:cubicBezTo>
              </a:path>
              <a:path w="3424" h="3722">
                <a:moveTo>
                  <a:pt x="17835" y="14560"/>
                </a:moveTo>
                <a:cubicBezTo>
                  <a:pt x="17903" y="14570"/>
                  <a:pt x="17958" y="14602"/>
                  <a:pt x="18033" y="14610"/>
                </a:cubicBezTo>
              </a:path>
              <a:path w="3424" h="3722">
                <a:moveTo>
                  <a:pt x="18107" y="14759"/>
                </a:moveTo>
                <a:cubicBezTo>
                  <a:pt x="18107" y="14825"/>
                  <a:pt x="18107" y="14842"/>
                  <a:pt x="18107" y="14883"/>
                </a:cubicBezTo>
                <a:cubicBezTo>
                  <a:pt x="18181" y="14820"/>
                  <a:pt x="18178" y="14773"/>
                  <a:pt x="18207" y="14684"/>
                </a:cubicBezTo>
                <a:cubicBezTo>
                  <a:pt x="18236" y="14596"/>
                  <a:pt x="18238" y="14522"/>
                  <a:pt x="18281" y="14436"/>
                </a:cubicBezTo>
                <a:cubicBezTo>
                  <a:pt x="18331" y="14455"/>
                  <a:pt x="18419" y="14465"/>
                  <a:pt x="18455" y="14511"/>
                </a:cubicBezTo>
                <a:cubicBezTo>
                  <a:pt x="18455" y="14519"/>
                  <a:pt x="18455" y="14528"/>
                  <a:pt x="18455" y="14536"/>
                </a:cubicBezTo>
              </a:path>
              <a:path w="3424" h="3722">
                <a:moveTo>
                  <a:pt x="18231" y="14660"/>
                </a:moveTo>
                <a:cubicBezTo>
                  <a:pt x="18303" y="14670"/>
                  <a:pt x="18348" y="14684"/>
                  <a:pt x="18430" y="14684"/>
                </a:cubicBezTo>
                <a:cubicBezTo>
                  <a:pt x="18384" y="14730"/>
                  <a:pt x="18353" y="14769"/>
                  <a:pt x="18306" y="14808"/>
                </a:cubicBezTo>
                <a:cubicBezTo>
                  <a:pt x="18241" y="14862"/>
                  <a:pt x="18297" y="14930"/>
                  <a:pt x="18355" y="14957"/>
                </a:cubicBezTo>
                <a:cubicBezTo>
                  <a:pt x="18412" y="14983"/>
                  <a:pt x="18446" y="14982"/>
                  <a:pt x="18504" y="14982"/>
                </a:cubicBezTo>
              </a:path>
              <a:path w="3424" h="3722">
                <a:moveTo>
                  <a:pt x="18083" y="15032"/>
                </a:moveTo>
                <a:cubicBezTo>
                  <a:pt x="18158" y="15039"/>
                  <a:pt x="18393" y="15028"/>
                  <a:pt x="18479" y="15081"/>
                </a:cubicBezTo>
                <a:cubicBezTo>
                  <a:pt x="18487" y="15089"/>
                  <a:pt x="18496" y="15098"/>
                  <a:pt x="18504" y="15106"/>
                </a:cubicBezTo>
              </a:path>
              <a:path w="3424" h="3722">
                <a:moveTo>
                  <a:pt x="18132" y="15180"/>
                </a:moveTo>
                <a:cubicBezTo>
                  <a:pt x="18193" y="15186"/>
                  <a:pt x="18297" y="15184"/>
                  <a:pt x="18355" y="15205"/>
                </a:cubicBezTo>
                <a:cubicBezTo>
                  <a:pt x="18420" y="15228"/>
                  <a:pt x="18535" y="15274"/>
                  <a:pt x="18554" y="15354"/>
                </a:cubicBezTo>
                <a:cubicBezTo>
                  <a:pt x="18573" y="15435"/>
                  <a:pt x="18545" y="15460"/>
                  <a:pt x="18479" y="15478"/>
                </a:cubicBezTo>
                <a:cubicBezTo>
                  <a:pt x="18383" y="15504"/>
                  <a:pt x="18297" y="15519"/>
                  <a:pt x="18207" y="15553"/>
                </a:cubicBezTo>
                <a:cubicBezTo>
                  <a:pt x="18291" y="15620"/>
                  <a:pt x="18355" y="15611"/>
                  <a:pt x="18455" y="15652"/>
                </a:cubicBezTo>
                <a:cubicBezTo>
                  <a:pt x="18483" y="15681"/>
                  <a:pt x="18496" y="15689"/>
                  <a:pt x="18529" y="15677"/>
                </a:cubicBezTo>
              </a:path>
              <a:path w="3424" h="3722">
                <a:moveTo>
                  <a:pt x="15974" y="15304"/>
                </a:moveTo>
                <a:cubicBezTo>
                  <a:pt x="15954" y="15432"/>
                  <a:pt x="15907" y="15573"/>
                  <a:pt x="15900" y="15701"/>
                </a:cubicBezTo>
                <a:cubicBezTo>
                  <a:pt x="15897" y="15753"/>
                  <a:pt x="15886" y="15758"/>
                  <a:pt x="15875" y="15801"/>
                </a:cubicBezTo>
              </a:path>
              <a:path w="3424" h="3722">
                <a:moveTo>
                  <a:pt x="15627" y="15751"/>
                </a:moveTo>
                <a:cubicBezTo>
                  <a:pt x="15751" y="15778"/>
                  <a:pt x="15824" y="15755"/>
                  <a:pt x="15949" y="15751"/>
                </a:cubicBezTo>
                <a:cubicBezTo>
                  <a:pt x="15974" y="15751"/>
                  <a:pt x="15999" y="15751"/>
                  <a:pt x="16024" y="15751"/>
                </a:cubicBezTo>
              </a:path>
              <a:path w="3424" h="3722">
                <a:moveTo>
                  <a:pt x="15677" y="15875"/>
                </a:moveTo>
                <a:cubicBezTo>
                  <a:pt x="15725" y="15914"/>
                  <a:pt x="15789" y="15941"/>
                  <a:pt x="15850" y="15949"/>
                </a:cubicBezTo>
                <a:cubicBezTo>
                  <a:pt x="15938" y="15960"/>
                  <a:pt x="15919" y="15943"/>
                  <a:pt x="15974" y="15999"/>
                </a:cubicBezTo>
              </a:path>
              <a:path w="3424" h="3722">
                <a:moveTo>
                  <a:pt x="15726" y="16148"/>
                </a:moveTo>
                <a:cubicBezTo>
                  <a:pt x="15633" y="16200"/>
                  <a:pt x="15627" y="16240"/>
                  <a:pt x="15726" y="16321"/>
                </a:cubicBezTo>
                <a:cubicBezTo>
                  <a:pt x="15805" y="16385"/>
                  <a:pt x="15896" y="16419"/>
                  <a:pt x="15999" y="16396"/>
                </a:cubicBezTo>
                <a:cubicBezTo>
                  <a:pt x="16016" y="16388"/>
                  <a:pt x="16032" y="16379"/>
                  <a:pt x="16049" y="16371"/>
                </a:cubicBezTo>
              </a:path>
              <a:path w="3424" h="3722">
                <a:moveTo>
                  <a:pt x="16396" y="15553"/>
                </a:moveTo>
                <a:cubicBezTo>
                  <a:pt x="16389" y="15613"/>
                  <a:pt x="16393" y="15720"/>
                  <a:pt x="16371" y="15776"/>
                </a:cubicBezTo>
                <a:cubicBezTo>
                  <a:pt x="16363" y="15784"/>
                  <a:pt x="16354" y="15793"/>
                  <a:pt x="16346" y="15801"/>
                </a:cubicBezTo>
                <a:cubicBezTo>
                  <a:pt x="16346" y="15693"/>
                  <a:pt x="16354" y="15603"/>
                  <a:pt x="16371" y="15503"/>
                </a:cubicBezTo>
                <a:cubicBezTo>
                  <a:pt x="16388" y="15402"/>
                  <a:pt x="16387" y="15384"/>
                  <a:pt x="16495" y="15379"/>
                </a:cubicBezTo>
                <a:cubicBezTo>
                  <a:pt x="16554" y="15376"/>
                  <a:pt x="16612" y="15408"/>
                  <a:pt x="16669" y="15429"/>
                </a:cubicBezTo>
              </a:path>
              <a:path w="3424" h="3722">
                <a:moveTo>
                  <a:pt x="16024" y="15503"/>
                </a:moveTo>
                <a:cubicBezTo>
                  <a:pt x="16108" y="15577"/>
                  <a:pt x="16136" y="15577"/>
                  <a:pt x="16247" y="15577"/>
                </a:cubicBezTo>
              </a:path>
              <a:path w="3424" h="3722">
                <a:moveTo>
                  <a:pt x="16545" y="15577"/>
                </a:moveTo>
                <a:cubicBezTo>
                  <a:pt x="16630" y="15615"/>
                  <a:pt x="16681" y="15609"/>
                  <a:pt x="16694" y="15701"/>
                </a:cubicBezTo>
              </a:path>
              <a:path w="3424" h="3722">
                <a:moveTo>
                  <a:pt x="16594" y="15726"/>
                </a:moveTo>
                <a:cubicBezTo>
                  <a:pt x="16569" y="15718"/>
                  <a:pt x="16545" y="15709"/>
                  <a:pt x="16520" y="15701"/>
                </a:cubicBezTo>
                <a:cubicBezTo>
                  <a:pt x="16551" y="15739"/>
                  <a:pt x="16607" y="15800"/>
                  <a:pt x="16619" y="15850"/>
                </a:cubicBezTo>
                <a:cubicBezTo>
                  <a:pt x="16638" y="15932"/>
                  <a:pt x="16584" y="15975"/>
                  <a:pt x="16520" y="15925"/>
                </a:cubicBezTo>
                <a:cubicBezTo>
                  <a:pt x="16512" y="15917"/>
                  <a:pt x="16503" y="15908"/>
                  <a:pt x="16495" y="15900"/>
                </a:cubicBezTo>
              </a:path>
              <a:path w="3424" h="3722">
                <a:moveTo>
                  <a:pt x="16321" y="15825"/>
                </a:moveTo>
                <a:cubicBezTo>
                  <a:pt x="16443" y="15912"/>
                  <a:pt x="16493" y="15944"/>
                  <a:pt x="16644" y="15949"/>
                </a:cubicBezTo>
                <a:cubicBezTo>
                  <a:pt x="16669" y="15949"/>
                  <a:pt x="16693" y="15949"/>
                  <a:pt x="16718" y="15949"/>
                </a:cubicBezTo>
              </a:path>
              <a:path w="3424" h="3722">
                <a:moveTo>
                  <a:pt x="16545" y="16073"/>
                </a:moveTo>
                <a:cubicBezTo>
                  <a:pt x="16617" y="16119"/>
                  <a:pt x="16639" y="16138"/>
                  <a:pt x="16718" y="16148"/>
                </a:cubicBezTo>
                <a:cubicBezTo>
                  <a:pt x="16668" y="16237"/>
                  <a:pt x="16604" y="16238"/>
                  <a:pt x="16520" y="16297"/>
                </a:cubicBezTo>
                <a:cubicBezTo>
                  <a:pt x="16463" y="16337"/>
                  <a:pt x="16435" y="16382"/>
                  <a:pt x="16470" y="16446"/>
                </a:cubicBezTo>
                <a:cubicBezTo>
                  <a:pt x="16512" y="16525"/>
                  <a:pt x="16558" y="16557"/>
                  <a:pt x="16644" y="16594"/>
                </a:cubicBezTo>
                <a:cubicBezTo>
                  <a:pt x="16709" y="16616"/>
                  <a:pt x="16724" y="16624"/>
                  <a:pt x="16768" y="16619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Ink 41"/>
          <p:cNvSpPr/>
          <p:nvPr/>
        </p:nvSpPr>
        <p:spPr>
          <a:xfrm>
            <a:off x="4152960" y="5446800"/>
            <a:ext cx="222120" cy="411120"/>
          </a:xfrm>
          <a:custGeom>
            <a:avLst/>
            <a:gdLst/>
            <a:ahLst/>
            <a:rect l="l" t="t" r="r" b="b"/>
            <a:pathLst>
              <a:path w="621" h="1142">
                <a:moveTo>
                  <a:pt x="11584" y="15156"/>
                </a:moveTo>
                <a:cubicBezTo>
                  <a:pt x="11627" y="15167"/>
                  <a:pt x="11741" y="15171"/>
                  <a:pt x="11757" y="15230"/>
                </a:cubicBezTo>
                <a:cubicBezTo>
                  <a:pt x="11778" y="15307"/>
                  <a:pt x="11710" y="15322"/>
                  <a:pt x="11658" y="15329"/>
                </a:cubicBezTo>
                <a:cubicBezTo>
                  <a:pt x="11687" y="15406"/>
                  <a:pt x="11775" y="15436"/>
                  <a:pt x="11708" y="15528"/>
                </a:cubicBezTo>
                <a:cubicBezTo>
                  <a:pt x="11685" y="15559"/>
                  <a:pt x="11546" y="15581"/>
                  <a:pt x="11534" y="15528"/>
                </a:cubicBezTo>
                <a:cubicBezTo>
                  <a:pt x="11534" y="15495"/>
                  <a:pt x="11534" y="15462"/>
                  <a:pt x="11534" y="15429"/>
                </a:cubicBezTo>
              </a:path>
              <a:path w="621" h="1142">
                <a:moveTo>
                  <a:pt x="11857" y="15131"/>
                </a:moveTo>
                <a:cubicBezTo>
                  <a:pt x="11952" y="15148"/>
                  <a:pt x="12026" y="15179"/>
                  <a:pt x="12105" y="15131"/>
                </a:cubicBezTo>
              </a:path>
              <a:path w="621" h="1142">
                <a:moveTo>
                  <a:pt x="11906" y="15230"/>
                </a:moveTo>
                <a:cubicBezTo>
                  <a:pt x="11890" y="15345"/>
                  <a:pt x="11857" y="15446"/>
                  <a:pt x="11857" y="15553"/>
                </a:cubicBezTo>
              </a:path>
              <a:path w="621" h="1142">
                <a:moveTo>
                  <a:pt x="12055" y="15180"/>
                </a:moveTo>
                <a:cubicBezTo>
                  <a:pt x="12044" y="15275"/>
                  <a:pt x="12008" y="15356"/>
                  <a:pt x="12005" y="15453"/>
                </a:cubicBezTo>
                <a:cubicBezTo>
                  <a:pt x="12003" y="15527"/>
                  <a:pt x="12005" y="15602"/>
                  <a:pt x="12005" y="15677"/>
                </a:cubicBezTo>
              </a:path>
              <a:path w="621" h="1142">
                <a:moveTo>
                  <a:pt x="11609" y="15652"/>
                </a:moveTo>
                <a:cubicBezTo>
                  <a:pt x="11733" y="15620"/>
                  <a:pt x="11828" y="15647"/>
                  <a:pt x="11956" y="15652"/>
                </a:cubicBezTo>
                <a:cubicBezTo>
                  <a:pt x="12024" y="15655"/>
                  <a:pt x="12067" y="15648"/>
                  <a:pt x="12129" y="15627"/>
                </a:cubicBezTo>
              </a:path>
              <a:path w="621" h="1142">
                <a:moveTo>
                  <a:pt x="11757" y="15776"/>
                </a:moveTo>
                <a:cubicBezTo>
                  <a:pt x="11821" y="15815"/>
                  <a:pt x="11911" y="15797"/>
                  <a:pt x="11981" y="15825"/>
                </a:cubicBezTo>
                <a:cubicBezTo>
                  <a:pt x="12036" y="15847"/>
                  <a:pt x="12004" y="15945"/>
                  <a:pt x="11981" y="15974"/>
                </a:cubicBezTo>
                <a:cubicBezTo>
                  <a:pt x="11939" y="16027"/>
                  <a:pt x="11839" y="15997"/>
                  <a:pt x="11782" y="16024"/>
                </a:cubicBezTo>
                <a:cubicBezTo>
                  <a:pt x="11774" y="16032"/>
                  <a:pt x="11765" y="16041"/>
                  <a:pt x="11757" y="16049"/>
                </a:cubicBezTo>
                <a:cubicBezTo>
                  <a:pt x="11773" y="16179"/>
                  <a:pt x="11826" y="16142"/>
                  <a:pt x="11931" y="16197"/>
                </a:cubicBezTo>
                <a:cubicBezTo>
                  <a:pt x="12001" y="16234"/>
                  <a:pt x="12043" y="16266"/>
                  <a:pt x="12129" y="16272"/>
                </a:cubicBezTo>
                <a:cubicBezTo>
                  <a:pt x="12137" y="16272"/>
                  <a:pt x="12146" y="16272"/>
                  <a:pt x="12154" y="16272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Ink 42"/>
          <p:cNvSpPr/>
          <p:nvPr/>
        </p:nvSpPr>
        <p:spPr>
          <a:xfrm>
            <a:off x="5796000" y="4795920"/>
            <a:ext cx="214200" cy="438120"/>
          </a:xfrm>
          <a:custGeom>
            <a:avLst/>
            <a:gdLst/>
            <a:ahLst/>
            <a:rect l="l" t="t" r="r" b="b"/>
            <a:pathLst>
              <a:path w="597" h="1217">
                <a:moveTo>
                  <a:pt x="16098" y="13419"/>
                </a:moveTo>
                <a:cubicBezTo>
                  <a:pt x="16178" y="13426"/>
                  <a:pt x="16285" y="13420"/>
                  <a:pt x="16346" y="13469"/>
                </a:cubicBezTo>
                <a:cubicBezTo>
                  <a:pt x="16401" y="13513"/>
                  <a:pt x="16307" y="13652"/>
                  <a:pt x="16297" y="13717"/>
                </a:cubicBezTo>
                <a:cubicBezTo>
                  <a:pt x="16289" y="13771"/>
                  <a:pt x="16297" y="13836"/>
                  <a:pt x="16297" y="13891"/>
                </a:cubicBezTo>
              </a:path>
              <a:path w="597" h="1217">
                <a:moveTo>
                  <a:pt x="16446" y="13419"/>
                </a:moveTo>
                <a:cubicBezTo>
                  <a:pt x="16585" y="13406"/>
                  <a:pt x="16579" y="13401"/>
                  <a:pt x="16694" y="13419"/>
                </a:cubicBezTo>
              </a:path>
              <a:path w="597" h="1217">
                <a:moveTo>
                  <a:pt x="16545" y="13494"/>
                </a:moveTo>
                <a:cubicBezTo>
                  <a:pt x="16537" y="13556"/>
                  <a:pt x="16514" y="13612"/>
                  <a:pt x="16495" y="13667"/>
                </a:cubicBezTo>
                <a:cubicBezTo>
                  <a:pt x="16487" y="13684"/>
                  <a:pt x="16478" y="13700"/>
                  <a:pt x="16470" y="13717"/>
                </a:cubicBezTo>
              </a:path>
              <a:path w="597" h="1217">
                <a:moveTo>
                  <a:pt x="16669" y="13320"/>
                </a:moveTo>
                <a:cubicBezTo>
                  <a:pt x="16669" y="13483"/>
                  <a:pt x="16662" y="13633"/>
                  <a:pt x="16644" y="13791"/>
                </a:cubicBezTo>
              </a:path>
              <a:path w="597" h="1217">
                <a:moveTo>
                  <a:pt x="16148" y="13866"/>
                </a:moveTo>
                <a:cubicBezTo>
                  <a:pt x="16311" y="13898"/>
                  <a:pt x="16384" y="13909"/>
                  <a:pt x="16545" y="13891"/>
                </a:cubicBezTo>
                <a:cubicBezTo>
                  <a:pt x="16561" y="13891"/>
                  <a:pt x="16578" y="13891"/>
                  <a:pt x="16594" y="13891"/>
                </a:cubicBezTo>
              </a:path>
              <a:path w="597" h="1217">
                <a:moveTo>
                  <a:pt x="16396" y="13940"/>
                </a:moveTo>
                <a:cubicBezTo>
                  <a:pt x="16366" y="14016"/>
                  <a:pt x="16325" y="14076"/>
                  <a:pt x="16346" y="14163"/>
                </a:cubicBezTo>
                <a:cubicBezTo>
                  <a:pt x="16372" y="14271"/>
                  <a:pt x="16400" y="14248"/>
                  <a:pt x="16495" y="14263"/>
                </a:cubicBezTo>
              </a:path>
              <a:path w="597" h="1217">
                <a:moveTo>
                  <a:pt x="16669" y="13965"/>
                </a:moveTo>
                <a:cubicBezTo>
                  <a:pt x="16610" y="14032"/>
                  <a:pt x="16569" y="14084"/>
                  <a:pt x="16545" y="14163"/>
                </a:cubicBezTo>
                <a:cubicBezTo>
                  <a:pt x="16503" y="14301"/>
                  <a:pt x="16495" y="14387"/>
                  <a:pt x="16495" y="14536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Ink 43"/>
          <p:cNvSpPr/>
          <p:nvPr/>
        </p:nvSpPr>
        <p:spPr>
          <a:xfrm>
            <a:off x="5126040" y="1768320"/>
            <a:ext cx="196920" cy="330480"/>
          </a:xfrm>
          <a:custGeom>
            <a:avLst/>
            <a:gdLst/>
            <a:ahLst/>
            <a:rect l="l" t="t" r="r" b="b"/>
            <a:pathLst>
              <a:path w="547" h="919">
                <a:moveTo>
                  <a:pt x="14238" y="4936"/>
                </a:moveTo>
                <a:cubicBezTo>
                  <a:pt x="14315" y="4936"/>
                  <a:pt x="14374" y="4923"/>
                  <a:pt x="14436" y="4911"/>
                </a:cubicBezTo>
                <a:cubicBezTo>
                  <a:pt x="14505" y="4897"/>
                  <a:pt x="14590" y="4911"/>
                  <a:pt x="14660" y="4911"/>
                </a:cubicBezTo>
              </a:path>
              <a:path w="547" h="919">
                <a:moveTo>
                  <a:pt x="14511" y="4911"/>
                </a:moveTo>
                <a:cubicBezTo>
                  <a:pt x="14501" y="4997"/>
                  <a:pt x="14486" y="5070"/>
                  <a:pt x="14486" y="5159"/>
                </a:cubicBezTo>
                <a:cubicBezTo>
                  <a:pt x="14486" y="5219"/>
                  <a:pt x="14500" y="5239"/>
                  <a:pt x="14536" y="5283"/>
                </a:cubicBezTo>
              </a:path>
              <a:path w="547" h="919">
                <a:moveTo>
                  <a:pt x="14610" y="4961"/>
                </a:moveTo>
                <a:cubicBezTo>
                  <a:pt x="14614" y="5018"/>
                  <a:pt x="14613" y="5128"/>
                  <a:pt x="14635" y="5184"/>
                </a:cubicBezTo>
                <a:cubicBezTo>
                  <a:pt x="14648" y="5218"/>
                  <a:pt x="14676" y="5242"/>
                  <a:pt x="14684" y="5283"/>
                </a:cubicBezTo>
              </a:path>
              <a:path w="547" h="919">
                <a:moveTo>
                  <a:pt x="14263" y="5308"/>
                </a:moveTo>
                <a:cubicBezTo>
                  <a:pt x="14403" y="5303"/>
                  <a:pt x="14524" y="5283"/>
                  <a:pt x="14660" y="5283"/>
                </a:cubicBezTo>
                <a:cubicBezTo>
                  <a:pt x="14721" y="5283"/>
                  <a:pt x="14736" y="5292"/>
                  <a:pt x="14759" y="5259"/>
                </a:cubicBezTo>
              </a:path>
              <a:path w="547" h="919">
                <a:moveTo>
                  <a:pt x="14412" y="5507"/>
                </a:moveTo>
                <a:cubicBezTo>
                  <a:pt x="14459" y="5475"/>
                  <a:pt x="14534" y="5442"/>
                  <a:pt x="14585" y="5432"/>
                </a:cubicBezTo>
                <a:cubicBezTo>
                  <a:pt x="14638" y="5421"/>
                  <a:pt x="14669" y="5433"/>
                  <a:pt x="14709" y="5457"/>
                </a:cubicBezTo>
                <a:cubicBezTo>
                  <a:pt x="14700" y="5518"/>
                  <a:pt x="14680" y="5556"/>
                  <a:pt x="14635" y="5606"/>
                </a:cubicBezTo>
                <a:cubicBezTo>
                  <a:pt x="14576" y="5672"/>
                  <a:pt x="14578" y="5636"/>
                  <a:pt x="14660" y="5631"/>
                </a:cubicBezTo>
                <a:cubicBezTo>
                  <a:pt x="14750" y="5626"/>
                  <a:pt x="14808" y="5683"/>
                  <a:pt x="14784" y="5779"/>
                </a:cubicBezTo>
                <a:cubicBezTo>
                  <a:pt x="14768" y="5843"/>
                  <a:pt x="14654" y="5829"/>
                  <a:pt x="14610" y="5829"/>
                </a:cubicBezTo>
                <a:cubicBezTo>
                  <a:pt x="14544" y="5829"/>
                  <a:pt x="14478" y="5829"/>
                  <a:pt x="14412" y="5829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Ink 44"/>
          <p:cNvSpPr/>
          <p:nvPr/>
        </p:nvSpPr>
        <p:spPr>
          <a:xfrm>
            <a:off x="2687760" y="2419200"/>
            <a:ext cx="214200" cy="339840"/>
          </a:xfrm>
          <a:custGeom>
            <a:avLst/>
            <a:gdLst/>
            <a:ahLst/>
            <a:rect l="l" t="t" r="r" b="b"/>
            <a:pathLst>
              <a:path w="597" h="944">
                <a:moveTo>
                  <a:pt x="7516" y="6772"/>
                </a:moveTo>
                <a:cubicBezTo>
                  <a:pt x="7569" y="6767"/>
                  <a:pt x="7663" y="6767"/>
                  <a:pt x="7714" y="6747"/>
                </a:cubicBezTo>
                <a:cubicBezTo>
                  <a:pt x="7722" y="6739"/>
                  <a:pt x="7731" y="6730"/>
                  <a:pt x="7739" y="6722"/>
                </a:cubicBezTo>
              </a:path>
              <a:path w="597" h="944">
                <a:moveTo>
                  <a:pt x="7466" y="6821"/>
                </a:moveTo>
                <a:cubicBezTo>
                  <a:pt x="7466" y="6854"/>
                  <a:pt x="7466" y="6888"/>
                  <a:pt x="7466" y="6921"/>
                </a:cubicBezTo>
                <a:cubicBezTo>
                  <a:pt x="7542" y="6911"/>
                  <a:pt x="7592" y="6876"/>
                  <a:pt x="7665" y="6921"/>
                </a:cubicBezTo>
                <a:cubicBezTo>
                  <a:pt x="7730" y="6961"/>
                  <a:pt x="7723" y="7032"/>
                  <a:pt x="7665" y="7069"/>
                </a:cubicBezTo>
                <a:cubicBezTo>
                  <a:pt x="7609" y="7105"/>
                  <a:pt x="7541" y="7108"/>
                  <a:pt x="7491" y="7069"/>
                </a:cubicBezTo>
                <a:cubicBezTo>
                  <a:pt x="7483" y="7061"/>
                  <a:pt x="7474" y="7053"/>
                  <a:pt x="7466" y="7045"/>
                </a:cubicBezTo>
              </a:path>
              <a:path w="597" h="944">
                <a:moveTo>
                  <a:pt x="7863" y="6747"/>
                </a:moveTo>
                <a:cubicBezTo>
                  <a:pt x="7942" y="6730"/>
                  <a:pt x="7985" y="6722"/>
                  <a:pt x="8062" y="6722"/>
                </a:cubicBezTo>
              </a:path>
              <a:path w="597" h="944">
                <a:moveTo>
                  <a:pt x="7913" y="6722"/>
                </a:moveTo>
                <a:cubicBezTo>
                  <a:pt x="7873" y="6775"/>
                  <a:pt x="7825" y="6845"/>
                  <a:pt x="7838" y="6921"/>
                </a:cubicBezTo>
                <a:cubicBezTo>
                  <a:pt x="7849" y="6986"/>
                  <a:pt x="7863" y="7027"/>
                  <a:pt x="7863" y="7094"/>
                </a:cubicBezTo>
              </a:path>
              <a:path w="597" h="944">
                <a:moveTo>
                  <a:pt x="7962" y="6722"/>
                </a:moveTo>
                <a:cubicBezTo>
                  <a:pt x="7967" y="6811"/>
                  <a:pt x="7966" y="6932"/>
                  <a:pt x="7987" y="7020"/>
                </a:cubicBezTo>
                <a:cubicBezTo>
                  <a:pt x="8007" y="7060"/>
                  <a:pt x="8016" y="7066"/>
                  <a:pt x="8012" y="7094"/>
                </a:cubicBezTo>
              </a:path>
              <a:path w="597" h="944">
                <a:moveTo>
                  <a:pt x="7466" y="7169"/>
                </a:moveTo>
                <a:cubicBezTo>
                  <a:pt x="7587" y="7163"/>
                  <a:pt x="7693" y="7144"/>
                  <a:pt x="7813" y="7144"/>
                </a:cubicBezTo>
                <a:cubicBezTo>
                  <a:pt x="7863" y="7144"/>
                  <a:pt x="7880" y="7144"/>
                  <a:pt x="7913" y="7144"/>
                </a:cubicBezTo>
              </a:path>
              <a:path w="597" h="944">
                <a:moveTo>
                  <a:pt x="7615" y="7268"/>
                </a:moveTo>
                <a:cubicBezTo>
                  <a:pt x="7615" y="7330"/>
                  <a:pt x="7600" y="7394"/>
                  <a:pt x="7640" y="7441"/>
                </a:cubicBezTo>
                <a:cubicBezTo>
                  <a:pt x="7704" y="7515"/>
                  <a:pt x="7781" y="7502"/>
                  <a:pt x="7863" y="7466"/>
                </a:cubicBezTo>
                <a:cubicBezTo>
                  <a:pt x="7954" y="7426"/>
                  <a:pt x="7960" y="7395"/>
                  <a:pt x="8012" y="7317"/>
                </a:cubicBezTo>
                <a:cubicBezTo>
                  <a:pt x="7965" y="7295"/>
                  <a:pt x="7908" y="7311"/>
                  <a:pt x="7863" y="7367"/>
                </a:cubicBezTo>
                <a:cubicBezTo>
                  <a:pt x="7820" y="7420"/>
                  <a:pt x="7805" y="7484"/>
                  <a:pt x="7789" y="7541"/>
                </a:cubicBezTo>
                <a:cubicBezTo>
                  <a:pt x="7767" y="7606"/>
                  <a:pt x="7759" y="7621"/>
                  <a:pt x="7764" y="7665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Ink 45"/>
          <p:cNvSpPr/>
          <p:nvPr/>
        </p:nvSpPr>
        <p:spPr>
          <a:xfrm>
            <a:off x="5419800" y="5116680"/>
            <a:ext cx="314280" cy="438120"/>
          </a:xfrm>
          <a:custGeom>
            <a:avLst/>
            <a:gdLst/>
            <a:ahLst/>
            <a:rect l="l" t="t" r="r" b="b"/>
            <a:pathLst>
              <a:path w="870" h="1217">
                <a:moveTo>
                  <a:pt x="15180" y="14412"/>
                </a:moveTo>
                <a:cubicBezTo>
                  <a:pt x="15281" y="14427"/>
                  <a:pt x="15328" y="14418"/>
                  <a:pt x="15429" y="14387"/>
                </a:cubicBezTo>
              </a:path>
              <a:path w="870" h="1217">
                <a:moveTo>
                  <a:pt x="15156" y="14412"/>
                </a:moveTo>
                <a:cubicBezTo>
                  <a:pt x="15165" y="14479"/>
                  <a:pt x="15195" y="14501"/>
                  <a:pt x="15230" y="14560"/>
                </a:cubicBezTo>
                <a:cubicBezTo>
                  <a:pt x="15260" y="14609"/>
                  <a:pt x="15319" y="14727"/>
                  <a:pt x="15230" y="14759"/>
                </a:cubicBezTo>
                <a:cubicBezTo>
                  <a:pt x="15163" y="14783"/>
                  <a:pt x="15113" y="14698"/>
                  <a:pt x="15081" y="14660"/>
                </a:cubicBezTo>
                <a:cubicBezTo>
                  <a:pt x="15056" y="14635"/>
                  <a:pt x="15048" y="14627"/>
                  <a:pt x="15081" y="14610"/>
                </a:cubicBezTo>
              </a:path>
              <a:path w="870" h="1217">
                <a:moveTo>
                  <a:pt x="15553" y="14288"/>
                </a:moveTo>
                <a:cubicBezTo>
                  <a:pt x="15582" y="14336"/>
                  <a:pt x="15584" y="14433"/>
                  <a:pt x="15553" y="14486"/>
                </a:cubicBezTo>
                <a:cubicBezTo>
                  <a:pt x="15516" y="14549"/>
                  <a:pt x="15476" y="14625"/>
                  <a:pt x="15429" y="14684"/>
                </a:cubicBezTo>
              </a:path>
              <a:path w="870" h="1217">
                <a:moveTo>
                  <a:pt x="15701" y="14213"/>
                </a:moveTo>
                <a:cubicBezTo>
                  <a:pt x="15647" y="14352"/>
                  <a:pt x="15598" y="14482"/>
                  <a:pt x="15627" y="14635"/>
                </a:cubicBezTo>
                <a:cubicBezTo>
                  <a:pt x="15649" y="14678"/>
                  <a:pt x="15653" y="14690"/>
                  <a:pt x="15677" y="14709"/>
                </a:cubicBezTo>
              </a:path>
              <a:path w="870" h="1217">
                <a:moveTo>
                  <a:pt x="15453" y="14238"/>
                </a:moveTo>
                <a:cubicBezTo>
                  <a:pt x="15615" y="14253"/>
                  <a:pt x="15768" y="14275"/>
                  <a:pt x="15925" y="14288"/>
                </a:cubicBezTo>
              </a:path>
              <a:path w="870" h="1217">
                <a:moveTo>
                  <a:pt x="15081" y="14709"/>
                </a:moveTo>
                <a:cubicBezTo>
                  <a:pt x="15239" y="14775"/>
                  <a:pt x="15268" y="14774"/>
                  <a:pt x="15429" y="14759"/>
                </a:cubicBezTo>
                <a:cubicBezTo>
                  <a:pt x="15513" y="14751"/>
                  <a:pt x="15594" y="14742"/>
                  <a:pt x="15677" y="14734"/>
                </a:cubicBezTo>
              </a:path>
              <a:path w="870" h="1217">
                <a:moveTo>
                  <a:pt x="15379" y="14858"/>
                </a:moveTo>
                <a:cubicBezTo>
                  <a:pt x="15437" y="14877"/>
                  <a:pt x="15510" y="14832"/>
                  <a:pt x="15577" y="14858"/>
                </a:cubicBezTo>
                <a:cubicBezTo>
                  <a:pt x="15600" y="14867"/>
                  <a:pt x="15634" y="14914"/>
                  <a:pt x="15652" y="14932"/>
                </a:cubicBezTo>
                <a:cubicBezTo>
                  <a:pt x="15637" y="14959"/>
                  <a:pt x="15591" y="15048"/>
                  <a:pt x="15553" y="15056"/>
                </a:cubicBezTo>
                <a:cubicBezTo>
                  <a:pt x="15485" y="15070"/>
                  <a:pt x="15288" y="15059"/>
                  <a:pt x="15354" y="15081"/>
                </a:cubicBezTo>
                <a:cubicBezTo>
                  <a:pt x="15438" y="15109"/>
                  <a:pt x="15481" y="15096"/>
                  <a:pt x="15553" y="15156"/>
                </a:cubicBezTo>
                <a:cubicBezTo>
                  <a:pt x="15614" y="15208"/>
                  <a:pt x="15610" y="15297"/>
                  <a:pt x="15553" y="15354"/>
                </a:cubicBezTo>
                <a:cubicBezTo>
                  <a:pt x="15509" y="15398"/>
                  <a:pt x="15438" y="15426"/>
                  <a:pt x="15379" y="15429"/>
                </a:cubicBezTo>
                <a:cubicBezTo>
                  <a:pt x="15293" y="15434"/>
                  <a:pt x="15272" y="15374"/>
                  <a:pt x="15255" y="15304"/>
                </a:cubicBezTo>
              </a:path>
            </a:pathLst>
          </a:custGeom>
          <a:noFill/>
          <a:ln cap="rnd" w="19080">
            <a:solidFill>
              <a:srgbClr val="ea70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 able to locate the coordinates of any point on the unit circl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Ink 4"/>
          <p:cNvSpPr/>
          <p:nvPr/>
        </p:nvSpPr>
        <p:spPr>
          <a:xfrm>
            <a:off x="3286080" y="1938240"/>
            <a:ext cx="2089080" cy="3286080"/>
          </a:xfrm>
          <a:custGeom>
            <a:avLst/>
            <a:gdLst/>
            <a:ahLst/>
            <a:rect l="l" t="t" r="r" b="b"/>
            <a:pathLst>
              <a:path w="5805" h="9129">
                <a:moveTo>
                  <a:pt x="9773" y="5482"/>
                </a:moveTo>
                <a:cubicBezTo>
                  <a:pt x="9737" y="5538"/>
                  <a:pt x="9679" y="5598"/>
                  <a:pt x="9649" y="5655"/>
                </a:cubicBezTo>
                <a:cubicBezTo>
                  <a:pt x="9598" y="5752"/>
                  <a:pt x="9545" y="5853"/>
                  <a:pt x="9500" y="5953"/>
                </a:cubicBezTo>
                <a:cubicBezTo>
                  <a:pt x="9441" y="6084"/>
                  <a:pt x="9387" y="6219"/>
                  <a:pt x="9327" y="6350"/>
                </a:cubicBezTo>
                <a:cubicBezTo>
                  <a:pt x="9249" y="6518"/>
                  <a:pt x="9166" y="6741"/>
                  <a:pt x="9128" y="6921"/>
                </a:cubicBezTo>
                <a:cubicBezTo>
                  <a:pt x="9098" y="7062"/>
                  <a:pt x="9119" y="7255"/>
                  <a:pt x="9153" y="7392"/>
                </a:cubicBezTo>
                <a:cubicBezTo>
                  <a:pt x="9180" y="7500"/>
                  <a:pt x="9226" y="7568"/>
                  <a:pt x="9277" y="7665"/>
                </a:cubicBezTo>
                <a:cubicBezTo>
                  <a:pt x="9285" y="7680"/>
                  <a:pt x="9348" y="7793"/>
                  <a:pt x="9376" y="7789"/>
                </a:cubicBezTo>
                <a:cubicBezTo>
                  <a:pt x="9351" y="7764"/>
                  <a:pt x="9343" y="7756"/>
                  <a:pt x="9376" y="7739"/>
                </a:cubicBezTo>
              </a:path>
              <a:path w="5805" h="9129">
                <a:moveTo>
                  <a:pt x="14213" y="5383"/>
                </a:moveTo>
                <a:cubicBezTo>
                  <a:pt x="14265" y="5486"/>
                  <a:pt x="14340" y="5577"/>
                  <a:pt x="14387" y="5680"/>
                </a:cubicBezTo>
                <a:cubicBezTo>
                  <a:pt x="14463" y="5847"/>
                  <a:pt x="14553" y="6011"/>
                  <a:pt x="14635" y="6176"/>
                </a:cubicBezTo>
                <a:cubicBezTo>
                  <a:pt x="14728" y="6361"/>
                  <a:pt x="14791" y="6510"/>
                  <a:pt x="14808" y="6722"/>
                </a:cubicBezTo>
                <a:cubicBezTo>
                  <a:pt x="14820" y="6871"/>
                  <a:pt x="14813" y="7026"/>
                  <a:pt x="14784" y="7169"/>
                </a:cubicBezTo>
                <a:cubicBezTo>
                  <a:pt x="14755" y="7312"/>
                  <a:pt x="14667" y="7458"/>
                  <a:pt x="14560" y="7565"/>
                </a:cubicBezTo>
                <a:cubicBezTo>
                  <a:pt x="14506" y="7620"/>
                  <a:pt x="14425" y="7691"/>
                  <a:pt x="14362" y="7739"/>
                </a:cubicBezTo>
                <a:cubicBezTo>
                  <a:pt x="14312" y="7777"/>
                  <a:pt x="14283" y="7815"/>
                  <a:pt x="14238" y="7863"/>
                </a:cubicBezTo>
                <a:cubicBezTo>
                  <a:pt x="14230" y="7871"/>
                  <a:pt x="14221" y="7880"/>
                  <a:pt x="14213" y="7888"/>
                </a:cubicBezTo>
              </a:path>
              <a:path w="5805" h="9129">
                <a:moveTo>
                  <a:pt x="12477" y="6201"/>
                </a:moveTo>
                <a:cubicBezTo>
                  <a:pt x="12477" y="6300"/>
                  <a:pt x="12498" y="6379"/>
                  <a:pt x="12502" y="6474"/>
                </a:cubicBezTo>
                <a:cubicBezTo>
                  <a:pt x="12502" y="6499"/>
                  <a:pt x="12502" y="6523"/>
                  <a:pt x="12502" y="6548"/>
                </a:cubicBezTo>
                <a:cubicBezTo>
                  <a:pt x="12535" y="6566"/>
                  <a:pt x="12519" y="6486"/>
                  <a:pt x="12502" y="6424"/>
                </a:cubicBezTo>
                <a:cubicBezTo>
                  <a:pt x="12472" y="6317"/>
                  <a:pt x="12490" y="6260"/>
                  <a:pt x="12502" y="6152"/>
                </a:cubicBezTo>
                <a:cubicBezTo>
                  <a:pt x="12518" y="6009"/>
                  <a:pt x="12551" y="5959"/>
                  <a:pt x="12675" y="5854"/>
                </a:cubicBezTo>
                <a:cubicBezTo>
                  <a:pt x="12733" y="5805"/>
                  <a:pt x="12828" y="5736"/>
                  <a:pt x="12898" y="5705"/>
                </a:cubicBezTo>
                <a:cubicBezTo>
                  <a:pt x="12996" y="5662"/>
                  <a:pt x="13075" y="5677"/>
                  <a:pt x="13171" y="5655"/>
                </a:cubicBezTo>
                <a:cubicBezTo>
                  <a:pt x="13212" y="5635"/>
                  <a:pt x="13218" y="5627"/>
                  <a:pt x="13246" y="5631"/>
                </a:cubicBezTo>
              </a:path>
              <a:path w="5805" h="9129">
                <a:moveTo>
                  <a:pt x="12824" y="5978"/>
                </a:moveTo>
                <a:cubicBezTo>
                  <a:pt x="12897" y="5967"/>
                  <a:pt x="12963" y="5908"/>
                  <a:pt x="13047" y="5928"/>
                </a:cubicBezTo>
                <a:cubicBezTo>
                  <a:pt x="13093" y="5939"/>
                  <a:pt x="13155" y="5966"/>
                  <a:pt x="13196" y="6003"/>
                </a:cubicBezTo>
                <a:cubicBezTo>
                  <a:pt x="13204" y="6011"/>
                  <a:pt x="13213" y="6020"/>
                  <a:pt x="13221" y="6028"/>
                </a:cubicBezTo>
                <a:cubicBezTo>
                  <a:pt x="13182" y="6089"/>
                  <a:pt x="13134" y="6160"/>
                  <a:pt x="13072" y="6201"/>
                </a:cubicBezTo>
                <a:cubicBezTo>
                  <a:pt x="13010" y="6242"/>
                  <a:pt x="12940" y="6237"/>
                  <a:pt x="12874" y="6276"/>
                </a:cubicBezTo>
                <a:cubicBezTo>
                  <a:pt x="12857" y="6284"/>
                  <a:pt x="12841" y="6292"/>
                  <a:pt x="12824" y="6300"/>
                </a:cubicBezTo>
                <a:cubicBezTo>
                  <a:pt x="12880" y="6368"/>
                  <a:pt x="12954" y="6363"/>
                  <a:pt x="13047" y="6400"/>
                </a:cubicBezTo>
                <a:cubicBezTo>
                  <a:pt x="13133" y="6435"/>
                  <a:pt x="13192" y="6477"/>
                  <a:pt x="13246" y="6548"/>
                </a:cubicBezTo>
                <a:cubicBezTo>
                  <a:pt x="13215" y="6619"/>
                  <a:pt x="13164" y="6643"/>
                  <a:pt x="13072" y="6648"/>
                </a:cubicBezTo>
                <a:cubicBezTo>
                  <a:pt x="12959" y="6654"/>
                  <a:pt x="12829" y="6615"/>
                  <a:pt x="12725" y="6623"/>
                </a:cubicBezTo>
                <a:cubicBezTo>
                  <a:pt x="12700" y="6631"/>
                  <a:pt x="12675" y="6640"/>
                  <a:pt x="12650" y="6648"/>
                </a:cubicBezTo>
              </a:path>
              <a:path w="5805" h="9129">
                <a:moveTo>
                  <a:pt x="12328" y="6747"/>
                </a:moveTo>
                <a:cubicBezTo>
                  <a:pt x="12587" y="6747"/>
                  <a:pt x="12841" y="6752"/>
                  <a:pt x="13097" y="6772"/>
                </a:cubicBezTo>
                <a:cubicBezTo>
                  <a:pt x="13236" y="6783"/>
                  <a:pt x="13380" y="6772"/>
                  <a:pt x="13519" y="6772"/>
                </a:cubicBezTo>
              </a:path>
              <a:path w="5805" h="9129">
                <a:moveTo>
                  <a:pt x="12849" y="7094"/>
                </a:moveTo>
                <a:cubicBezTo>
                  <a:pt x="12832" y="7111"/>
                  <a:pt x="12816" y="7127"/>
                  <a:pt x="12799" y="7144"/>
                </a:cubicBezTo>
                <a:cubicBezTo>
                  <a:pt x="12870" y="7117"/>
                  <a:pt x="12944" y="7098"/>
                  <a:pt x="13022" y="7094"/>
                </a:cubicBezTo>
                <a:cubicBezTo>
                  <a:pt x="13098" y="7090"/>
                  <a:pt x="13157" y="7099"/>
                  <a:pt x="13221" y="7144"/>
                </a:cubicBezTo>
                <a:cubicBezTo>
                  <a:pt x="13229" y="7152"/>
                  <a:pt x="13238" y="7161"/>
                  <a:pt x="13246" y="7169"/>
                </a:cubicBezTo>
                <a:cubicBezTo>
                  <a:pt x="13181" y="7252"/>
                  <a:pt x="13112" y="7320"/>
                  <a:pt x="13047" y="7392"/>
                </a:cubicBezTo>
                <a:cubicBezTo>
                  <a:pt x="12982" y="7464"/>
                  <a:pt x="12895" y="7550"/>
                  <a:pt x="12824" y="7615"/>
                </a:cubicBezTo>
                <a:cubicBezTo>
                  <a:pt x="12768" y="7666"/>
                  <a:pt x="12703" y="7685"/>
                  <a:pt x="12650" y="7739"/>
                </a:cubicBezTo>
                <a:cubicBezTo>
                  <a:pt x="12588" y="7802"/>
                  <a:pt x="12696" y="7854"/>
                  <a:pt x="12750" y="7863"/>
                </a:cubicBezTo>
                <a:cubicBezTo>
                  <a:pt x="12863" y="7881"/>
                  <a:pt x="13191" y="7903"/>
                  <a:pt x="13271" y="7838"/>
                </a:cubicBezTo>
                <a:cubicBezTo>
                  <a:pt x="13295" y="7813"/>
                  <a:pt x="13303" y="7805"/>
                  <a:pt x="13271" y="7838"/>
                </a:cubicBezTo>
              </a:path>
              <a:path w="5805" h="9129">
                <a:moveTo>
                  <a:pt x="10244" y="8533"/>
                </a:moveTo>
                <a:cubicBezTo>
                  <a:pt x="10203" y="8622"/>
                  <a:pt x="10140" y="8692"/>
                  <a:pt x="10096" y="8781"/>
                </a:cubicBezTo>
                <a:cubicBezTo>
                  <a:pt x="10023" y="8929"/>
                  <a:pt x="9944" y="9118"/>
                  <a:pt x="9897" y="9277"/>
                </a:cubicBezTo>
                <a:cubicBezTo>
                  <a:pt x="9849" y="9440"/>
                  <a:pt x="9843" y="9607"/>
                  <a:pt x="9823" y="9773"/>
                </a:cubicBezTo>
                <a:cubicBezTo>
                  <a:pt x="9802" y="9946"/>
                  <a:pt x="9800" y="10097"/>
                  <a:pt x="9823" y="10269"/>
                </a:cubicBezTo>
                <a:cubicBezTo>
                  <a:pt x="9844" y="10429"/>
                  <a:pt x="9899" y="10587"/>
                  <a:pt x="9947" y="10740"/>
                </a:cubicBezTo>
                <a:cubicBezTo>
                  <a:pt x="9972" y="10818"/>
                  <a:pt x="10007" y="10871"/>
                  <a:pt x="10046" y="10939"/>
                </a:cubicBezTo>
                <a:cubicBezTo>
                  <a:pt x="10098" y="11029"/>
                  <a:pt x="10074" y="10961"/>
                  <a:pt x="10120" y="10914"/>
                </a:cubicBezTo>
              </a:path>
              <a:path w="5805" h="9129">
                <a:moveTo>
                  <a:pt x="10195" y="9624"/>
                </a:moveTo>
                <a:cubicBezTo>
                  <a:pt x="10386" y="9670"/>
                  <a:pt x="10527" y="9687"/>
                  <a:pt x="10716" y="9624"/>
                </a:cubicBezTo>
              </a:path>
              <a:path w="5805" h="9129">
                <a:moveTo>
                  <a:pt x="11237" y="8954"/>
                </a:moveTo>
                <a:cubicBezTo>
                  <a:pt x="11253" y="9125"/>
                  <a:pt x="11242" y="9331"/>
                  <a:pt x="11286" y="9500"/>
                </a:cubicBezTo>
                <a:cubicBezTo>
                  <a:pt x="11305" y="9574"/>
                  <a:pt x="11312" y="9681"/>
                  <a:pt x="11336" y="9748"/>
                </a:cubicBezTo>
                <a:cubicBezTo>
                  <a:pt x="11344" y="9756"/>
                  <a:pt x="11353" y="9765"/>
                  <a:pt x="11361" y="9773"/>
                </a:cubicBezTo>
              </a:path>
              <a:path w="5805" h="9129">
                <a:moveTo>
                  <a:pt x="10815" y="9872"/>
                </a:moveTo>
                <a:cubicBezTo>
                  <a:pt x="10958" y="9872"/>
                  <a:pt x="11098" y="9866"/>
                  <a:pt x="11237" y="9872"/>
                </a:cubicBezTo>
                <a:cubicBezTo>
                  <a:pt x="11396" y="9878"/>
                  <a:pt x="11551" y="9891"/>
                  <a:pt x="11708" y="9897"/>
                </a:cubicBezTo>
                <a:cubicBezTo>
                  <a:pt x="11724" y="9897"/>
                  <a:pt x="11741" y="9897"/>
                  <a:pt x="11757" y="9897"/>
                </a:cubicBezTo>
              </a:path>
              <a:path w="5805" h="9129">
                <a:moveTo>
                  <a:pt x="11237" y="10046"/>
                </a:moveTo>
                <a:cubicBezTo>
                  <a:pt x="11342" y="10099"/>
                  <a:pt x="11482" y="10080"/>
                  <a:pt x="11584" y="10145"/>
                </a:cubicBezTo>
                <a:cubicBezTo>
                  <a:pt x="11640" y="10181"/>
                  <a:pt x="11686" y="10278"/>
                  <a:pt x="11658" y="10344"/>
                </a:cubicBezTo>
                <a:cubicBezTo>
                  <a:pt x="11612" y="10451"/>
                  <a:pt x="11502" y="10506"/>
                  <a:pt x="11410" y="10567"/>
                </a:cubicBezTo>
                <a:cubicBezTo>
                  <a:pt x="11363" y="10598"/>
                  <a:pt x="11189" y="10669"/>
                  <a:pt x="11162" y="10716"/>
                </a:cubicBezTo>
                <a:cubicBezTo>
                  <a:pt x="11109" y="10808"/>
                  <a:pt x="11186" y="10889"/>
                  <a:pt x="11261" y="10914"/>
                </a:cubicBezTo>
                <a:cubicBezTo>
                  <a:pt x="11387" y="10956"/>
                  <a:pt x="11467" y="11009"/>
                  <a:pt x="11609" y="11013"/>
                </a:cubicBezTo>
                <a:cubicBezTo>
                  <a:pt x="11693" y="11013"/>
                  <a:pt x="11713" y="11020"/>
                  <a:pt x="11757" y="10988"/>
                </a:cubicBezTo>
              </a:path>
              <a:path w="5805" h="9129">
                <a:moveTo>
                  <a:pt x="12477" y="9996"/>
                </a:moveTo>
                <a:cubicBezTo>
                  <a:pt x="12454" y="10060"/>
                  <a:pt x="12380" y="10217"/>
                  <a:pt x="12402" y="10294"/>
                </a:cubicBezTo>
                <a:cubicBezTo>
                  <a:pt x="12427" y="10319"/>
                  <a:pt x="12435" y="10327"/>
                  <a:pt x="12452" y="10294"/>
                </a:cubicBezTo>
              </a:path>
              <a:path w="5805" h="9129">
                <a:moveTo>
                  <a:pt x="12799" y="9599"/>
                </a:moveTo>
                <a:cubicBezTo>
                  <a:pt x="12805" y="9728"/>
                  <a:pt x="12800" y="9764"/>
                  <a:pt x="12849" y="9872"/>
                </a:cubicBezTo>
                <a:cubicBezTo>
                  <a:pt x="12867" y="9776"/>
                  <a:pt x="12855" y="9723"/>
                  <a:pt x="12824" y="9624"/>
                </a:cubicBezTo>
                <a:cubicBezTo>
                  <a:pt x="12784" y="9495"/>
                  <a:pt x="12735" y="9390"/>
                  <a:pt x="12725" y="9252"/>
                </a:cubicBezTo>
                <a:cubicBezTo>
                  <a:pt x="12718" y="9160"/>
                  <a:pt x="12703" y="9068"/>
                  <a:pt x="12774" y="9004"/>
                </a:cubicBezTo>
                <a:cubicBezTo>
                  <a:pt x="12863" y="8923"/>
                  <a:pt x="12934" y="8890"/>
                  <a:pt x="13047" y="8855"/>
                </a:cubicBezTo>
                <a:cubicBezTo>
                  <a:pt x="13168" y="8817"/>
                  <a:pt x="13292" y="8830"/>
                  <a:pt x="13419" y="8830"/>
                </a:cubicBezTo>
              </a:path>
              <a:path w="5805" h="9129">
                <a:moveTo>
                  <a:pt x="14213" y="8830"/>
                </a:moveTo>
                <a:cubicBezTo>
                  <a:pt x="14420" y="9002"/>
                  <a:pt x="14523" y="9164"/>
                  <a:pt x="14660" y="9401"/>
                </a:cubicBezTo>
                <a:cubicBezTo>
                  <a:pt x="14788" y="9622"/>
                  <a:pt x="14861" y="9892"/>
                  <a:pt x="14908" y="10145"/>
                </a:cubicBezTo>
                <a:cubicBezTo>
                  <a:pt x="14965" y="10451"/>
                  <a:pt x="14907" y="10721"/>
                  <a:pt x="14808" y="11013"/>
                </a:cubicBezTo>
                <a:cubicBezTo>
                  <a:pt x="14740" y="11214"/>
                  <a:pt x="14606" y="11339"/>
                  <a:pt x="14461" y="11485"/>
                </a:cubicBezTo>
              </a:path>
              <a:path w="5805" h="9129">
                <a:moveTo>
                  <a:pt x="9798" y="11509"/>
                </a:moveTo>
                <a:cubicBezTo>
                  <a:pt x="9711" y="11645"/>
                  <a:pt x="9587" y="11805"/>
                  <a:pt x="9525" y="11956"/>
                </a:cubicBezTo>
                <a:cubicBezTo>
                  <a:pt x="9423" y="12204"/>
                  <a:pt x="9322" y="12481"/>
                  <a:pt x="9302" y="12750"/>
                </a:cubicBezTo>
                <a:cubicBezTo>
                  <a:pt x="9287" y="12958"/>
                  <a:pt x="9279" y="13162"/>
                  <a:pt x="9302" y="13370"/>
                </a:cubicBezTo>
                <a:cubicBezTo>
                  <a:pt x="9326" y="13587"/>
                  <a:pt x="9403" y="13857"/>
                  <a:pt x="9475" y="14064"/>
                </a:cubicBezTo>
                <a:cubicBezTo>
                  <a:pt x="9520" y="14194"/>
                  <a:pt x="9603" y="14326"/>
                  <a:pt x="9699" y="14412"/>
                </a:cubicBezTo>
              </a:path>
              <a:path w="5805" h="9129">
                <a:moveTo>
                  <a:pt x="9823" y="12725"/>
                </a:moveTo>
                <a:cubicBezTo>
                  <a:pt x="9946" y="12683"/>
                  <a:pt x="10044" y="12677"/>
                  <a:pt x="10170" y="12650"/>
                </a:cubicBezTo>
              </a:path>
              <a:path w="5805" h="9129">
                <a:moveTo>
                  <a:pt x="10592" y="12154"/>
                </a:moveTo>
                <a:cubicBezTo>
                  <a:pt x="10601" y="12223"/>
                  <a:pt x="10616" y="12276"/>
                  <a:pt x="10616" y="12353"/>
                </a:cubicBezTo>
                <a:cubicBezTo>
                  <a:pt x="10616" y="12417"/>
                  <a:pt x="10580" y="12493"/>
                  <a:pt x="10592" y="12551"/>
                </a:cubicBezTo>
                <a:cubicBezTo>
                  <a:pt x="10610" y="12634"/>
                  <a:pt x="10616" y="12711"/>
                  <a:pt x="10616" y="12799"/>
                </a:cubicBezTo>
                <a:cubicBezTo>
                  <a:pt x="10571" y="12722"/>
                  <a:pt x="10571" y="12620"/>
                  <a:pt x="10567" y="12526"/>
                </a:cubicBezTo>
                <a:cubicBezTo>
                  <a:pt x="10560" y="12338"/>
                  <a:pt x="10521" y="12052"/>
                  <a:pt x="10592" y="11881"/>
                </a:cubicBezTo>
                <a:cubicBezTo>
                  <a:pt x="10635" y="11778"/>
                  <a:pt x="10771" y="11807"/>
                  <a:pt x="10864" y="11807"/>
                </a:cubicBezTo>
                <a:cubicBezTo>
                  <a:pt x="10968" y="11807"/>
                  <a:pt x="11061" y="11843"/>
                  <a:pt x="11162" y="11857"/>
                </a:cubicBezTo>
                <a:cubicBezTo>
                  <a:pt x="11202" y="11862"/>
                  <a:pt x="11246" y="11857"/>
                  <a:pt x="11286" y="11857"/>
                </a:cubicBezTo>
              </a:path>
              <a:path w="5805" h="9129">
                <a:moveTo>
                  <a:pt x="10988" y="12030"/>
                </a:moveTo>
                <a:cubicBezTo>
                  <a:pt x="10944" y="12075"/>
                  <a:pt x="10928" y="12085"/>
                  <a:pt x="10939" y="12129"/>
                </a:cubicBezTo>
                <a:cubicBezTo>
                  <a:pt x="11015" y="12129"/>
                  <a:pt x="11095" y="12113"/>
                  <a:pt x="11162" y="12154"/>
                </a:cubicBezTo>
                <a:cubicBezTo>
                  <a:pt x="11210" y="12183"/>
                  <a:pt x="11263" y="12274"/>
                  <a:pt x="11261" y="12328"/>
                </a:cubicBezTo>
                <a:cubicBezTo>
                  <a:pt x="11259" y="12384"/>
                  <a:pt x="11176" y="12454"/>
                  <a:pt x="11137" y="12477"/>
                </a:cubicBezTo>
                <a:cubicBezTo>
                  <a:pt x="11083" y="12509"/>
                  <a:pt x="11047" y="12519"/>
                  <a:pt x="10988" y="12526"/>
                </a:cubicBezTo>
                <a:cubicBezTo>
                  <a:pt x="11055" y="12566"/>
                  <a:pt x="11126" y="12556"/>
                  <a:pt x="11187" y="12626"/>
                </a:cubicBezTo>
                <a:cubicBezTo>
                  <a:pt x="11250" y="12699"/>
                  <a:pt x="11336" y="12819"/>
                  <a:pt x="11311" y="12923"/>
                </a:cubicBezTo>
                <a:cubicBezTo>
                  <a:pt x="11294" y="12996"/>
                  <a:pt x="11166" y="12995"/>
                  <a:pt x="11112" y="12998"/>
                </a:cubicBezTo>
                <a:cubicBezTo>
                  <a:pt x="11026" y="13002"/>
                  <a:pt x="10992" y="12980"/>
                  <a:pt x="10914" y="12948"/>
                </a:cubicBezTo>
              </a:path>
              <a:path w="5805" h="9129">
                <a:moveTo>
                  <a:pt x="10492" y="12998"/>
                </a:moveTo>
                <a:cubicBezTo>
                  <a:pt x="10674" y="12998"/>
                  <a:pt x="10832" y="13033"/>
                  <a:pt x="11013" y="13047"/>
                </a:cubicBezTo>
                <a:cubicBezTo>
                  <a:pt x="11147" y="13057"/>
                  <a:pt x="11275" y="13072"/>
                  <a:pt x="11410" y="13072"/>
                </a:cubicBezTo>
                <a:cubicBezTo>
                  <a:pt x="11427" y="13072"/>
                  <a:pt x="11443" y="13072"/>
                  <a:pt x="11460" y="13072"/>
                </a:cubicBezTo>
              </a:path>
              <a:path w="5805" h="9129">
                <a:moveTo>
                  <a:pt x="10939" y="13469"/>
                </a:moveTo>
                <a:cubicBezTo>
                  <a:pt x="10993" y="13415"/>
                  <a:pt x="11014" y="13374"/>
                  <a:pt x="11088" y="13370"/>
                </a:cubicBezTo>
                <a:cubicBezTo>
                  <a:pt x="11148" y="13366"/>
                  <a:pt x="11222" y="13397"/>
                  <a:pt x="11261" y="13444"/>
                </a:cubicBezTo>
                <a:cubicBezTo>
                  <a:pt x="11354" y="13556"/>
                  <a:pt x="11352" y="13638"/>
                  <a:pt x="11286" y="13767"/>
                </a:cubicBezTo>
                <a:cubicBezTo>
                  <a:pt x="11246" y="13845"/>
                  <a:pt x="11181" y="13959"/>
                  <a:pt x="11112" y="14015"/>
                </a:cubicBezTo>
                <a:cubicBezTo>
                  <a:pt x="11072" y="14047"/>
                  <a:pt x="10968" y="14126"/>
                  <a:pt x="10914" y="14139"/>
                </a:cubicBezTo>
                <a:cubicBezTo>
                  <a:pt x="10897" y="14139"/>
                  <a:pt x="10881" y="14139"/>
                  <a:pt x="10864" y="14139"/>
                </a:cubicBezTo>
                <a:cubicBezTo>
                  <a:pt x="10829" y="14031"/>
                  <a:pt x="10906" y="13986"/>
                  <a:pt x="10988" y="13915"/>
                </a:cubicBezTo>
                <a:cubicBezTo>
                  <a:pt x="11047" y="13864"/>
                  <a:pt x="11064" y="13865"/>
                  <a:pt x="11137" y="13915"/>
                </a:cubicBezTo>
                <a:cubicBezTo>
                  <a:pt x="11207" y="13963"/>
                  <a:pt x="11268" y="14117"/>
                  <a:pt x="11336" y="14188"/>
                </a:cubicBezTo>
                <a:cubicBezTo>
                  <a:pt x="11402" y="14258"/>
                  <a:pt x="11417" y="14255"/>
                  <a:pt x="11509" y="14263"/>
                </a:cubicBezTo>
              </a:path>
              <a:path w="5805" h="9129">
                <a:moveTo>
                  <a:pt x="11906" y="13171"/>
                </a:moveTo>
                <a:cubicBezTo>
                  <a:pt x="11854" y="13299"/>
                  <a:pt x="11809" y="13361"/>
                  <a:pt x="11857" y="13494"/>
                </a:cubicBezTo>
                <a:cubicBezTo>
                  <a:pt x="11885" y="13550"/>
                  <a:pt x="11895" y="13574"/>
                  <a:pt x="11906" y="13618"/>
                </a:cubicBezTo>
              </a:path>
              <a:path w="5805" h="9129">
                <a:moveTo>
                  <a:pt x="12154" y="12750"/>
                </a:moveTo>
                <a:cubicBezTo>
                  <a:pt x="12328" y="12750"/>
                  <a:pt x="12426" y="12763"/>
                  <a:pt x="12576" y="12725"/>
                </a:cubicBezTo>
              </a:path>
              <a:path w="5805" h="9129">
                <a:moveTo>
                  <a:pt x="12998" y="12154"/>
                </a:moveTo>
                <a:cubicBezTo>
                  <a:pt x="12986" y="12270"/>
                  <a:pt x="12957" y="12385"/>
                  <a:pt x="12948" y="12502"/>
                </a:cubicBezTo>
                <a:cubicBezTo>
                  <a:pt x="12938" y="12633"/>
                  <a:pt x="12948" y="12767"/>
                  <a:pt x="12948" y="12898"/>
                </a:cubicBezTo>
              </a:path>
              <a:path w="5805" h="9129">
                <a:moveTo>
                  <a:pt x="12626" y="13122"/>
                </a:moveTo>
                <a:cubicBezTo>
                  <a:pt x="12761" y="13128"/>
                  <a:pt x="12911" y="13165"/>
                  <a:pt x="13047" y="13146"/>
                </a:cubicBezTo>
                <a:cubicBezTo>
                  <a:pt x="13132" y="13134"/>
                  <a:pt x="13216" y="13121"/>
                  <a:pt x="13295" y="13097"/>
                </a:cubicBezTo>
              </a:path>
              <a:path w="5805" h="9129">
                <a:moveTo>
                  <a:pt x="12973" y="13494"/>
                </a:moveTo>
                <a:cubicBezTo>
                  <a:pt x="13044" y="13485"/>
                  <a:pt x="13104" y="13426"/>
                  <a:pt x="13171" y="13419"/>
                </a:cubicBezTo>
                <a:cubicBezTo>
                  <a:pt x="13318" y="13403"/>
                  <a:pt x="13377" y="13422"/>
                  <a:pt x="13444" y="13543"/>
                </a:cubicBezTo>
                <a:cubicBezTo>
                  <a:pt x="13500" y="13643"/>
                  <a:pt x="13458" y="13752"/>
                  <a:pt x="13395" y="13841"/>
                </a:cubicBezTo>
                <a:cubicBezTo>
                  <a:pt x="13343" y="13915"/>
                  <a:pt x="13244" y="13989"/>
                  <a:pt x="13171" y="14039"/>
                </a:cubicBezTo>
                <a:cubicBezTo>
                  <a:pt x="13127" y="14069"/>
                  <a:pt x="13070" y="14090"/>
                  <a:pt x="13022" y="14114"/>
                </a:cubicBezTo>
                <a:cubicBezTo>
                  <a:pt x="13034" y="14019"/>
                  <a:pt x="13071" y="13992"/>
                  <a:pt x="13122" y="13915"/>
                </a:cubicBezTo>
                <a:cubicBezTo>
                  <a:pt x="13198" y="13801"/>
                  <a:pt x="13285" y="13903"/>
                  <a:pt x="13370" y="13965"/>
                </a:cubicBezTo>
                <a:cubicBezTo>
                  <a:pt x="13458" y="14029"/>
                  <a:pt x="13548" y="14126"/>
                  <a:pt x="13618" y="14213"/>
                </a:cubicBezTo>
                <a:cubicBezTo>
                  <a:pt x="13698" y="14312"/>
                  <a:pt x="13681" y="14288"/>
                  <a:pt x="13816" y="14288"/>
                </a:cubicBezTo>
              </a:path>
              <a:path w="5805" h="9129">
                <a:moveTo>
                  <a:pt x="13866" y="12179"/>
                </a:moveTo>
                <a:cubicBezTo>
                  <a:pt x="13874" y="12129"/>
                  <a:pt x="13883" y="12080"/>
                  <a:pt x="13891" y="12030"/>
                </a:cubicBezTo>
                <a:cubicBezTo>
                  <a:pt x="14005" y="12246"/>
                  <a:pt x="14082" y="12435"/>
                  <a:pt x="14139" y="12675"/>
                </a:cubicBezTo>
                <a:cubicBezTo>
                  <a:pt x="14218" y="13010"/>
                  <a:pt x="14241" y="13330"/>
                  <a:pt x="14163" y="13667"/>
                </a:cubicBezTo>
                <a:cubicBezTo>
                  <a:pt x="14088" y="13989"/>
                  <a:pt x="13981" y="14228"/>
                  <a:pt x="13816" y="145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Ink 5"/>
          <p:cNvSpPr/>
          <p:nvPr/>
        </p:nvSpPr>
        <p:spPr>
          <a:xfrm>
            <a:off x="3500280" y="2054160"/>
            <a:ext cx="731880" cy="973080"/>
          </a:xfrm>
          <a:custGeom>
            <a:avLst/>
            <a:gdLst/>
            <a:ahLst/>
            <a:rect l="l" t="t" r="r" b="b"/>
            <a:pathLst>
              <a:path w="2035" h="2705">
                <a:moveTo>
                  <a:pt x="11757" y="7714"/>
                </a:moveTo>
                <a:cubicBezTo>
                  <a:pt x="11734" y="7830"/>
                  <a:pt x="11723" y="7955"/>
                  <a:pt x="11683" y="8062"/>
                </a:cubicBezTo>
                <a:cubicBezTo>
                  <a:pt x="11649" y="8154"/>
                  <a:pt x="11638" y="8229"/>
                  <a:pt x="11609" y="8310"/>
                </a:cubicBezTo>
                <a:cubicBezTo>
                  <a:pt x="11605" y="8322"/>
                  <a:pt x="11584" y="8453"/>
                  <a:pt x="11584" y="8384"/>
                </a:cubicBezTo>
              </a:path>
              <a:path w="2035" h="2705">
                <a:moveTo>
                  <a:pt x="10393" y="5705"/>
                </a:moveTo>
                <a:cubicBezTo>
                  <a:pt x="10393" y="5965"/>
                  <a:pt x="10440" y="6288"/>
                  <a:pt x="10368" y="6524"/>
                </a:cubicBezTo>
                <a:cubicBezTo>
                  <a:pt x="10368" y="6532"/>
                  <a:pt x="10368" y="6540"/>
                  <a:pt x="10368" y="6548"/>
                </a:cubicBezTo>
              </a:path>
              <a:path w="2035" h="2705">
                <a:moveTo>
                  <a:pt x="9723" y="6648"/>
                </a:moveTo>
                <a:cubicBezTo>
                  <a:pt x="9957" y="6648"/>
                  <a:pt x="10185" y="6635"/>
                  <a:pt x="10418" y="6623"/>
                </a:cubicBezTo>
                <a:cubicBezTo>
                  <a:pt x="10556" y="6616"/>
                  <a:pt x="10680" y="6643"/>
                  <a:pt x="10815" y="6648"/>
                </a:cubicBezTo>
                <a:cubicBezTo>
                  <a:pt x="10882" y="6650"/>
                  <a:pt x="10975" y="6610"/>
                  <a:pt x="10889" y="6672"/>
                </a:cubicBezTo>
              </a:path>
              <a:path w="2035" h="2705">
                <a:moveTo>
                  <a:pt x="10220" y="6921"/>
                </a:moveTo>
                <a:cubicBezTo>
                  <a:pt x="10278" y="6895"/>
                  <a:pt x="10363" y="6854"/>
                  <a:pt x="10418" y="6846"/>
                </a:cubicBezTo>
                <a:cubicBezTo>
                  <a:pt x="10505" y="6833"/>
                  <a:pt x="10595" y="6829"/>
                  <a:pt x="10641" y="6896"/>
                </a:cubicBezTo>
                <a:cubicBezTo>
                  <a:pt x="10687" y="6962"/>
                  <a:pt x="10640" y="7064"/>
                  <a:pt x="10592" y="7119"/>
                </a:cubicBezTo>
                <a:cubicBezTo>
                  <a:pt x="10526" y="7195"/>
                  <a:pt x="10476" y="7262"/>
                  <a:pt x="10393" y="7317"/>
                </a:cubicBezTo>
                <a:cubicBezTo>
                  <a:pt x="10287" y="7387"/>
                  <a:pt x="10195" y="7485"/>
                  <a:pt x="10096" y="7565"/>
                </a:cubicBezTo>
                <a:cubicBezTo>
                  <a:pt x="10088" y="7573"/>
                  <a:pt x="10079" y="7582"/>
                  <a:pt x="10071" y="7590"/>
                </a:cubicBezTo>
                <a:cubicBezTo>
                  <a:pt x="10137" y="7670"/>
                  <a:pt x="10229" y="7640"/>
                  <a:pt x="10344" y="7640"/>
                </a:cubicBezTo>
                <a:cubicBezTo>
                  <a:pt x="10517" y="7640"/>
                  <a:pt x="10691" y="7640"/>
                  <a:pt x="10864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Ink 6"/>
          <p:cNvSpPr/>
          <p:nvPr/>
        </p:nvSpPr>
        <p:spPr>
          <a:xfrm>
            <a:off x="4616280" y="3313080"/>
            <a:ext cx="474840" cy="696960"/>
          </a:xfrm>
          <a:custGeom>
            <a:avLst/>
            <a:gdLst/>
            <a:ahLst/>
            <a:rect l="l" t="t" r="r" b="b"/>
            <a:pathLst>
              <a:path w="1316" h="1935">
                <a:moveTo>
                  <a:pt x="13221" y="9203"/>
                </a:moveTo>
                <a:cubicBezTo>
                  <a:pt x="13306" y="9315"/>
                  <a:pt x="13305" y="9219"/>
                  <a:pt x="13444" y="9252"/>
                </a:cubicBezTo>
                <a:cubicBezTo>
                  <a:pt x="13515" y="9269"/>
                  <a:pt x="13569" y="9327"/>
                  <a:pt x="13618" y="9376"/>
                </a:cubicBezTo>
                <a:cubicBezTo>
                  <a:pt x="13574" y="9432"/>
                  <a:pt x="13534" y="9513"/>
                  <a:pt x="13469" y="9550"/>
                </a:cubicBezTo>
                <a:cubicBezTo>
                  <a:pt x="13391" y="9594"/>
                  <a:pt x="13258" y="9591"/>
                  <a:pt x="13171" y="9599"/>
                </a:cubicBezTo>
                <a:cubicBezTo>
                  <a:pt x="13259" y="9571"/>
                  <a:pt x="13357" y="9573"/>
                  <a:pt x="13444" y="9624"/>
                </a:cubicBezTo>
                <a:cubicBezTo>
                  <a:pt x="13532" y="9675"/>
                  <a:pt x="13592" y="9787"/>
                  <a:pt x="13618" y="9872"/>
                </a:cubicBezTo>
                <a:cubicBezTo>
                  <a:pt x="13524" y="9966"/>
                  <a:pt x="13455" y="9971"/>
                  <a:pt x="13320" y="9971"/>
                </a:cubicBezTo>
              </a:path>
              <a:path w="1316" h="1935">
                <a:moveTo>
                  <a:pt x="12824" y="9971"/>
                </a:moveTo>
                <a:cubicBezTo>
                  <a:pt x="12987" y="10031"/>
                  <a:pt x="13171" y="10037"/>
                  <a:pt x="13345" y="10046"/>
                </a:cubicBezTo>
                <a:cubicBezTo>
                  <a:pt x="13485" y="10053"/>
                  <a:pt x="13627" y="10046"/>
                  <a:pt x="13767" y="10046"/>
                </a:cubicBezTo>
              </a:path>
              <a:path w="1316" h="1935">
                <a:moveTo>
                  <a:pt x="13395" y="10393"/>
                </a:moveTo>
                <a:cubicBezTo>
                  <a:pt x="13495" y="10472"/>
                  <a:pt x="13529" y="10442"/>
                  <a:pt x="13643" y="10468"/>
                </a:cubicBezTo>
                <a:cubicBezTo>
                  <a:pt x="13741" y="10491"/>
                  <a:pt x="13827" y="10593"/>
                  <a:pt x="13841" y="10691"/>
                </a:cubicBezTo>
                <a:cubicBezTo>
                  <a:pt x="13863" y="10850"/>
                  <a:pt x="13779" y="10880"/>
                  <a:pt x="13692" y="10988"/>
                </a:cubicBezTo>
                <a:cubicBezTo>
                  <a:pt x="13628" y="11067"/>
                  <a:pt x="13550" y="11115"/>
                  <a:pt x="13444" y="11137"/>
                </a:cubicBezTo>
                <a:cubicBezTo>
                  <a:pt x="13382" y="11150"/>
                  <a:pt x="13285" y="11101"/>
                  <a:pt x="13271" y="11038"/>
                </a:cubicBezTo>
                <a:cubicBezTo>
                  <a:pt x="13271" y="10970"/>
                  <a:pt x="13268" y="10951"/>
                  <a:pt x="13295" y="10914"/>
                </a:cubicBezTo>
                <a:cubicBezTo>
                  <a:pt x="13384" y="10884"/>
                  <a:pt x="13433" y="10941"/>
                  <a:pt x="13519" y="10988"/>
                </a:cubicBezTo>
                <a:cubicBezTo>
                  <a:pt x="13632" y="11050"/>
                  <a:pt x="13784" y="11104"/>
                  <a:pt x="13915" y="11088"/>
                </a:cubicBezTo>
                <a:cubicBezTo>
                  <a:pt x="14033" y="11059"/>
                  <a:pt x="14081" y="11039"/>
                  <a:pt x="14139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cate coordinates of negative angles on the unit circl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Ink 4"/>
          <p:cNvSpPr/>
          <p:nvPr/>
        </p:nvSpPr>
        <p:spPr>
          <a:xfrm>
            <a:off x="2500200" y="2044800"/>
            <a:ext cx="1473480" cy="947520"/>
          </a:xfrm>
          <a:custGeom>
            <a:avLst/>
            <a:gdLst/>
            <a:ahLst/>
            <a:rect l="l" t="t" r="r" b="b"/>
            <a:pathLst>
              <a:path w="4094" h="2631">
                <a:moveTo>
                  <a:pt x="7615" y="6251"/>
                </a:moveTo>
                <a:cubicBezTo>
                  <a:pt x="7615" y="6324"/>
                  <a:pt x="7637" y="6379"/>
                  <a:pt x="7640" y="6449"/>
                </a:cubicBezTo>
                <a:cubicBezTo>
                  <a:pt x="7646" y="6581"/>
                  <a:pt x="7640" y="6714"/>
                  <a:pt x="7640" y="6846"/>
                </a:cubicBezTo>
                <a:cubicBezTo>
                  <a:pt x="7640" y="6725"/>
                  <a:pt x="7627" y="6617"/>
                  <a:pt x="7615" y="6499"/>
                </a:cubicBezTo>
                <a:cubicBezTo>
                  <a:pt x="7605" y="6399"/>
                  <a:pt x="7595" y="6297"/>
                  <a:pt x="7590" y="6201"/>
                </a:cubicBezTo>
                <a:cubicBezTo>
                  <a:pt x="7589" y="6182"/>
                  <a:pt x="7606" y="6039"/>
                  <a:pt x="7615" y="6028"/>
                </a:cubicBezTo>
                <a:cubicBezTo>
                  <a:pt x="7659" y="5972"/>
                  <a:pt x="7870" y="5890"/>
                  <a:pt x="7938" y="5879"/>
                </a:cubicBezTo>
                <a:cubicBezTo>
                  <a:pt x="8029" y="5865"/>
                  <a:pt x="8117" y="5854"/>
                  <a:pt x="8210" y="5854"/>
                </a:cubicBezTo>
                <a:cubicBezTo>
                  <a:pt x="8227" y="5854"/>
                  <a:pt x="8243" y="5854"/>
                  <a:pt x="8260" y="5854"/>
                </a:cubicBezTo>
              </a:path>
              <a:path w="4094" h="2631">
                <a:moveTo>
                  <a:pt x="7938" y="6176"/>
                </a:moveTo>
                <a:cubicBezTo>
                  <a:pt x="8008" y="6167"/>
                  <a:pt x="8069" y="6138"/>
                  <a:pt x="8136" y="6127"/>
                </a:cubicBezTo>
                <a:cubicBezTo>
                  <a:pt x="8167" y="6122"/>
                  <a:pt x="8310" y="6120"/>
                  <a:pt x="8310" y="6176"/>
                </a:cubicBezTo>
                <a:cubicBezTo>
                  <a:pt x="8310" y="6273"/>
                  <a:pt x="8222" y="6358"/>
                  <a:pt x="8161" y="6424"/>
                </a:cubicBezTo>
                <a:cubicBezTo>
                  <a:pt x="8140" y="6446"/>
                  <a:pt x="8050" y="6553"/>
                  <a:pt x="8086" y="6474"/>
                </a:cubicBezTo>
                <a:cubicBezTo>
                  <a:pt x="8183" y="6481"/>
                  <a:pt x="8276" y="6490"/>
                  <a:pt x="8359" y="6548"/>
                </a:cubicBezTo>
                <a:cubicBezTo>
                  <a:pt x="8433" y="6599"/>
                  <a:pt x="8461" y="6663"/>
                  <a:pt x="8409" y="6747"/>
                </a:cubicBezTo>
                <a:cubicBezTo>
                  <a:pt x="8372" y="6807"/>
                  <a:pt x="8275" y="6817"/>
                  <a:pt x="8210" y="6821"/>
                </a:cubicBezTo>
                <a:cubicBezTo>
                  <a:pt x="8146" y="6825"/>
                  <a:pt x="8133" y="6839"/>
                  <a:pt x="8062" y="6846"/>
                </a:cubicBezTo>
              </a:path>
              <a:path w="4094" h="2631">
                <a:moveTo>
                  <a:pt x="7491" y="7020"/>
                </a:moveTo>
                <a:cubicBezTo>
                  <a:pt x="7572" y="7061"/>
                  <a:pt x="7644" y="7023"/>
                  <a:pt x="7739" y="7020"/>
                </a:cubicBezTo>
                <a:cubicBezTo>
                  <a:pt x="7939" y="7013"/>
                  <a:pt x="8143" y="7016"/>
                  <a:pt x="8334" y="7045"/>
                </a:cubicBezTo>
                <a:cubicBezTo>
                  <a:pt x="8351" y="7045"/>
                  <a:pt x="8367" y="7045"/>
                  <a:pt x="8384" y="7045"/>
                </a:cubicBezTo>
              </a:path>
              <a:path w="4094" h="2631">
                <a:moveTo>
                  <a:pt x="7962" y="7293"/>
                </a:moveTo>
                <a:cubicBezTo>
                  <a:pt x="8059" y="7285"/>
                  <a:pt x="8118" y="7288"/>
                  <a:pt x="8210" y="7293"/>
                </a:cubicBezTo>
                <a:cubicBezTo>
                  <a:pt x="8275" y="7297"/>
                  <a:pt x="8349" y="7307"/>
                  <a:pt x="8334" y="7392"/>
                </a:cubicBezTo>
                <a:cubicBezTo>
                  <a:pt x="8315" y="7498"/>
                  <a:pt x="8229" y="7588"/>
                  <a:pt x="8161" y="7665"/>
                </a:cubicBezTo>
                <a:cubicBezTo>
                  <a:pt x="8104" y="7730"/>
                  <a:pt x="8044" y="7750"/>
                  <a:pt x="7987" y="7813"/>
                </a:cubicBezTo>
                <a:cubicBezTo>
                  <a:pt x="7979" y="7821"/>
                  <a:pt x="7970" y="7830"/>
                  <a:pt x="7962" y="7838"/>
                </a:cubicBezTo>
                <a:cubicBezTo>
                  <a:pt x="8015" y="7932"/>
                  <a:pt x="8058" y="7930"/>
                  <a:pt x="8161" y="7888"/>
                </a:cubicBezTo>
                <a:cubicBezTo>
                  <a:pt x="8217" y="7859"/>
                  <a:pt x="8241" y="7848"/>
                  <a:pt x="8285" y="7838"/>
                </a:cubicBezTo>
              </a:path>
              <a:path w="4094" h="2631">
                <a:moveTo>
                  <a:pt x="8855" y="7020"/>
                </a:moveTo>
                <a:cubicBezTo>
                  <a:pt x="8843" y="7089"/>
                  <a:pt x="8794" y="7271"/>
                  <a:pt x="8830" y="7342"/>
                </a:cubicBezTo>
                <a:cubicBezTo>
                  <a:pt x="8838" y="7342"/>
                  <a:pt x="8847" y="7342"/>
                  <a:pt x="8855" y="7342"/>
                </a:cubicBezTo>
              </a:path>
              <a:path w="4094" h="2631">
                <a:moveTo>
                  <a:pt x="9103" y="6697"/>
                </a:moveTo>
                <a:cubicBezTo>
                  <a:pt x="9183" y="6697"/>
                  <a:pt x="9249" y="6676"/>
                  <a:pt x="9327" y="6672"/>
                </a:cubicBezTo>
                <a:cubicBezTo>
                  <a:pt x="9404" y="6672"/>
                  <a:pt x="9447" y="6662"/>
                  <a:pt x="9500" y="6623"/>
                </a:cubicBezTo>
              </a:path>
              <a:path w="4094" h="2631">
                <a:moveTo>
                  <a:pt x="9847" y="6077"/>
                </a:moveTo>
                <a:cubicBezTo>
                  <a:pt x="9847" y="6292"/>
                  <a:pt x="9804" y="6544"/>
                  <a:pt x="9872" y="6747"/>
                </a:cubicBezTo>
              </a:path>
              <a:path w="4094" h="2631">
                <a:moveTo>
                  <a:pt x="9525" y="6970"/>
                </a:moveTo>
                <a:cubicBezTo>
                  <a:pt x="9619" y="6962"/>
                  <a:pt x="9702" y="6945"/>
                  <a:pt x="9798" y="6945"/>
                </a:cubicBezTo>
                <a:cubicBezTo>
                  <a:pt x="9896" y="6945"/>
                  <a:pt x="9971" y="6921"/>
                  <a:pt x="10071" y="6921"/>
                </a:cubicBezTo>
              </a:path>
              <a:path w="4094" h="2631">
                <a:moveTo>
                  <a:pt x="9872" y="7243"/>
                </a:moveTo>
                <a:cubicBezTo>
                  <a:pt x="9938" y="7194"/>
                  <a:pt x="9985" y="7174"/>
                  <a:pt x="10071" y="7169"/>
                </a:cubicBezTo>
                <a:cubicBezTo>
                  <a:pt x="10127" y="7166"/>
                  <a:pt x="10221" y="7190"/>
                  <a:pt x="10195" y="7268"/>
                </a:cubicBezTo>
                <a:cubicBezTo>
                  <a:pt x="10182" y="7306"/>
                  <a:pt x="10051" y="7469"/>
                  <a:pt x="10021" y="7491"/>
                </a:cubicBezTo>
                <a:cubicBezTo>
                  <a:pt x="9942" y="7549"/>
                  <a:pt x="9874" y="7590"/>
                  <a:pt x="9798" y="7665"/>
                </a:cubicBezTo>
                <a:cubicBezTo>
                  <a:pt x="9790" y="7673"/>
                  <a:pt x="9781" y="7681"/>
                  <a:pt x="9773" y="7689"/>
                </a:cubicBezTo>
                <a:cubicBezTo>
                  <a:pt x="9827" y="7733"/>
                  <a:pt x="9900" y="7778"/>
                  <a:pt x="9971" y="7789"/>
                </a:cubicBezTo>
                <a:cubicBezTo>
                  <a:pt x="10074" y="7805"/>
                  <a:pt x="10217" y="7844"/>
                  <a:pt x="10319" y="7838"/>
                </a:cubicBezTo>
                <a:cubicBezTo>
                  <a:pt x="10414" y="7814"/>
                  <a:pt x="10444" y="7809"/>
                  <a:pt x="10468" y="7739"/>
                </a:cubicBezTo>
              </a:path>
              <a:path w="4094" h="2631">
                <a:moveTo>
                  <a:pt x="7441" y="5779"/>
                </a:moveTo>
                <a:cubicBezTo>
                  <a:pt x="7293" y="5927"/>
                  <a:pt x="7154" y="6060"/>
                  <a:pt x="7069" y="6251"/>
                </a:cubicBezTo>
                <a:cubicBezTo>
                  <a:pt x="6990" y="6429"/>
                  <a:pt x="6952" y="6655"/>
                  <a:pt x="6945" y="6846"/>
                </a:cubicBezTo>
                <a:cubicBezTo>
                  <a:pt x="6938" y="7044"/>
                  <a:pt x="6983" y="7192"/>
                  <a:pt x="7069" y="7367"/>
                </a:cubicBezTo>
                <a:cubicBezTo>
                  <a:pt x="7172" y="7577"/>
                  <a:pt x="7272" y="7642"/>
                  <a:pt x="7466" y="7764"/>
                </a:cubicBezTo>
                <a:cubicBezTo>
                  <a:pt x="7635" y="7865"/>
                  <a:pt x="7728" y="7898"/>
                  <a:pt x="7888" y="7888"/>
                </a:cubicBezTo>
              </a:path>
              <a:path w="4094" h="2631">
                <a:moveTo>
                  <a:pt x="10344" y="5680"/>
                </a:moveTo>
                <a:cubicBezTo>
                  <a:pt x="10541" y="5732"/>
                  <a:pt x="10673" y="5849"/>
                  <a:pt x="10790" y="6028"/>
                </a:cubicBezTo>
                <a:cubicBezTo>
                  <a:pt x="10945" y="6265"/>
                  <a:pt x="11011" y="6569"/>
                  <a:pt x="11038" y="6846"/>
                </a:cubicBezTo>
                <a:cubicBezTo>
                  <a:pt x="11054" y="7015"/>
                  <a:pt x="11072" y="7279"/>
                  <a:pt x="11013" y="7441"/>
                </a:cubicBezTo>
                <a:cubicBezTo>
                  <a:pt x="10937" y="7648"/>
                  <a:pt x="10791" y="7799"/>
                  <a:pt x="10666" y="7962"/>
                </a:cubicBezTo>
                <a:cubicBezTo>
                  <a:pt x="10566" y="8093"/>
                  <a:pt x="10465" y="8195"/>
                  <a:pt x="10344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Ink 5"/>
          <p:cNvSpPr/>
          <p:nvPr/>
        </p:nvSpPr>
        <p:spPr>
          <a:xfrm>
            <a:off x="2446200" y="3160800"/>
            <a:ext cx="216000" cy="723960"/>
          </a:xfrm>
          <a:custGeom>
            <a:avLst/>
            <a:gdLst/>
            <a:ahLst/>
            <a:rect l="l" t="t" r="r" b="b"/>
            <a:pathLst>
              <a:path w="597" h="2010">
                <a:moveTo>
                  <a:pt x="6945" y="9723"/>
                </a:moveTo>
                <a:cubicBezTo>
                  <a:pt x="7058" y="9754"/>
                  <a:pt x="7172" y="9748"/>
                  <a:pt x="7293" y="9748"/>
                </a:cubicBezTo>
                <a:cubicBezTo>
                  <a:pt x="7326" y="9748"/>
                  <a:pt x="7359" y="9748"/>
                  <a:pt x="7392" y="9748"/>
                </a:cubicBezTo>
              </a:path>
              <a:path w="597" h="2010">
                <a:moveTo>
                  <a:pt x="7144" y="8781"/>
                </a:moveTo>
                <a:cubicBezTo>
                  <a:pt x="7027" y="8966"/>
                  <a:pt x="6903" y="9160"/>
                  <a:pt x="6846" y="9376"/>
                </a:cubicBezTo>
                <a:cubicBezTo>
                  <a:pt x="6788" y="9594"/>
                  <a:pt x="6794" y="9802"/>
                  <a:pt x="6821" y="10021"/>
                </a:cubicBezTo>
                <a:cubicBezTo>
                  <a:pt x="6856" y="10301"/>
                  <a:pt x="6996" y="10537"/>
                  <a:pt x="7119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Ink 6"/>
          <p:cNvSpPr/>
          <p:nvPr/>
        </p:nvSpPr>
        <p:spPr>
          <a:xfrm>
            <a:off x="2847960" y="3268800"/>
            <a:ext cx="884160" cy="642960"/>
          </a:xfrm>
          <a:custGeom>
            <a:avLst/>
            <a:gdLst/>
            <a:ahLst/>
            <a:rect l="l" t="t" r="r" b="b"/>
            <a:pathLst>
              <a:path w="2456" h="1786">
                <a:moveTo>
                  <a:pt x="8186" y="9079"/>
                </a:moveTo>
                <a:cubicBezTo>
                  <a:pt x="8186" y="9272"/>
                  <a:pt x="8160" y="9486"/>
                  <a:pt x="8210" y="9674"/>
                </a:cubicBezTo>
                <a:cubicBezTo>
                  <a:pt x="8229" y="9745"/>
                  <a:pt x="8235" y="9795"/>
                  <a:pt x="8235" y="9872"/>
                </a:cubicBezTo>
              </a:path>
              <a:path w="2456" h="1786">
                <a:moveTo>
                  <a:pt x="7913" y="10046"/>
                </a:moveTo>
                <a:cubicBezTo>
                  <a:pt x="8036" y="10025"/>
                  <a:pt x="8162" y="10008"/>
                  <a:pt x="8285" y="9996"/>
                </a:cubicBezTo>
                <a:cubicBezTo>
                  <a:pt x="8357" y="9989"/>
                  <a:pt x="8435" y="9996"/>
                  <a:pt x="8508" y="9996"/>
                </a:cubicBezTo>
              </a:path>
              <a:path w="2456" h="1786">
                <a:moveTo>
                  <a:pt x="8161" y="10170"/>
                </a:moveTo>
                <a:cubicBezTo>
                  <a:pt x="8234" y="10201"/>
                  <a:pt x="8305" y="10178"/>
                  <a:pt x="8384" y="10195"/>
                </a:cubicBezTo>
                <a:cubicBezTo>
                  <a:pt x="8406" y="10200"/>
                  <a:pt x="8561" y="10247"/>
                  <a:pt x="8558" y="10294"/>
                </a:cubicBezTo>
                <a:cubicBezTo>
                  <a:pt x="8547" y="10454"/>
                  <a:pt x="8448" y="10483"/>
                  <a:pt x="8359" y="10592"/>
                </a:cubicBezTo>
                <a:cubicBezTo>
                  <a:pt x="8312" y="10649"/>
                  <a:pt x="8237" y="10717"/>
                  <a:pt x="8285" y="10790"/>
                </a:cubicBezTo>
                <a:cubicBezTo>
                  <a:pt x="8349" y="10888"/>
                  <a:pt x="8428" y="10864"/>
                  <a:pt x="8533" y="10864"/>
                </a:cubicBezTo>
                <a:cubicBezTo>
                  <a:pt x="8715" y="10864"/>
                  <a:pt x="8671" y="10865"/>
                  <a:pt x="8830" y="10740"/>
                </a:cubicBezTo>
              </a:path>
              <a:path w="2456" h="1786">
                <a:moveTo>
                  <a:pt x="9079" y="10071"/>
                </a:moveTo>
                <a:cubicBezTo>
                  <a:pt x="9074" y="10186"/>
                  <a:pt x="9008" y="10356"/>
                  <a:pt x="9029" y="10468"/>
                </a:cubicBezTo>
                <a:cubicBezTo>
                  <a:pt x="9051" y="10511"/>
                  <a:pt x="9055" y="10523"/>
                  <a:pt x="9079" y="10542"/>
                </a:cubicBezTo>
              </a:path>
              <a:path w="2456" h="1786">
                <a:moveTo>
                  <a:pt x="9327" y="9847"/>
                </a:moveTo>
                <a:cubicBezTo>
                  <a:pt x="9457" y="9854"/>
                  <a:pt x="9574" y="9890"/>
                  <a:pt x="9699" y="9847"/>
                </a:cubicBezTo>
                <a:cubicBezTo>
                  <a:pt x="9715" y="9839"/>
                  <a:pt x="9732" y="9831"/>
                  <a:pt x="9748" y="9823"/>
                </a:cubicBezTo>
              </a:path>
              <a:path w="2456" h="1786">
                <a:moveTo>
                  <a:pt x="9897" y="9500"/>
                </a:moveTo>
                <a:cubicBezTo>
                  <a:pt x="9890" y="9627"/>
                  <a:pt x="9872" y="9745"/>
                  <a:pt x="9872" y="9872"/>
                </a:cubicBezTo>
                <a:cubicBezTo>
                  <a:pt x="9872" y="9940"/>
                  <a:pt x="9864" y="9991"/>
                  <a:pt x="9897" y="10046"/>
                </a:cubicBezTo>
                <a:cubicBezTo>
                  <a:pt x="9897" y="9909"/>
                  <a:pt x="9877" y="9782"/>
                  <a:pt x="9872" y="9649"/>
                </a:cubicBezTo>
                <a:cubicBezTo>
                  <a:pt x="9869" y="9576"/>
                  <a:pt x="9833" y="9467"/>
                  <a:pt x="9847" y="9401"/>
                </a:cubicBezTo>
                <a:cubicBezTo>
                  <a:pt x="9874" y="9273"/>
                  <a:pt x="9948" y="9216"/>
                  <a:pt x="10071" y="9203"/>
                </a:cubicBezTo>
                <a:cubicBezTo>
                  <a:pt x="10168" y="9193"/>
                  <a:pt x="10271" y="9203"/>
                  <a:pt x="10368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Ink 7"/>
          <p:cNvSpPr/>
          <p:nvPr/>
        </p:nvSpPr>
        <p:spPr>
          <a:xfrm>
            <a:off x="3929040" y="3348000"/>
            <a:ext cx="187200" cy="795240"/>
          </a:xfrm>
          <a:custGeom>
            <a:avLst/>
            <a:gdLst/>
            <a:ahLst/>
            <a:rect l="l" t="t" r="r" b="b"/>
            <a:pathLst>
              <a:path w="522" h="2208">
                <a:moveTo>
                  <a:pt x="11187" y="9302"/>
                </a:moveTo>
                <a:cubicBezTo>
                  <a:pt x="11374" y="9677"/>
                  <a:pt x="11429" y="9857"/>
                  <a:pt x="11435" y="10269"/>
                </a:cubicBezTo>
                <a:cubicBezTo>
                  <a:pt x="11438" y="10528"/>
                  <a:pt x="11454" y="10839"/>
                  <a:pt x="11361" y="11088"/>
                </a:cubicBezTo>
                <a:cubicBezTo>
                  <a:pt x="11296" y="11261"/>
                  <a:pt x="11193" y="11331"/>
                  <a:pt x="11063" y="11435"/>
                </a:cubicBezTo>
                <a:cubicBezTo>
                  <a:pt x="11006" y="11492"/>
                  <a:pt x="10979" y="11511"/>
                  <a:pt x="10914" y="115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Ink 8"/>
          <p:cNvSpPr/>
          <p:nvPr/>
        </p:nvSpPr>
        <p:spPr>
          <a:xfrm>
            <a:off x="3562200" y="3394080"/>
            <a:ext cx="268560" cy="258840"/>
          </a:xfrm>
          <a:custGeom>
            <a:avLst/>
            <a:gdLst/>
            <a:ahLst/>
            <a:rect l="l" t="t" r="r" b="b"/>
            <a:pathLst>
              <a:path w="745" h="720">
                <a:moveTo>
                  <a:pt x="10145" y="9426"/>
                </a:moveTo>
                <a:cubicBezTo>
                  <a:pt x="10220" y="9463"/>
                  <a:pt x="10261" y="9475"/>
                  <a:pt x="10344" y="9475"/>
                </a:cubicBezTo>
                <a:cubicBezTo>
                  <a:pt x="10427" y="9475"/>
                  <a:pt x="10463" y="9458"/>
                  <a:pt x="10468" y="9550"/>
                </a:cubicBezTo>
                <a:cubicBezTo>
                  <a:pt x="10473" y="9639"/>
                  <a:pt x="10401" y="9717"/>
                  <a:pt x="10319" y="9748"/>
                </a:cubicBezTo>
                <a:cubicBezTo>
                  <a:pt x="10274" y="9748"/>
                  <a:pt x="10261" y="9745"/>
                  <a:pt x="10244" y="9773"/>
                </a:cubicBezTo>
                <a:cubicBezTo>
                  <a:pt x="10314" y="9747"/>
                  <a:pt x="10384" y="9728"/>
                  <a:pt x="10443" y="9798"/>
                </a:cubicBezTo>
                <a:cubicBezTo>
                  <a:pt x="10487" y="9851"/>
                  <a:pt x="10636" y="9957"/>
                  <a:pt x="10616" y="10046"/>
                </a:cubicBezTo>
                <a:cubicBezTo>
                  <a:pt x="10599" y="10119"/>
                  <a:pt x="10486" y="10155"/>
                  <a:pt x="10418" y="10145"/>
                </a:cubicBezTo>
                <a:cubicBezTo>
                  <a:pt x="10355" y="10136"/>
                  <a:pt x="10293" y="10124"/>
                  <a:pt x="10244" y="10096"/>
                </a:cubicBezTo>
              </a:path>
              <a:path w="745" h="720">
                <a:moveTo>
                  <a:pt x="9922" y="10021"/>
                </a:moveTo>
                <a:cubicBezTo>
                  <a:pt x="9942" y="10093"/>
                  <a:pt x="10047" y="10109"/>
                  <a:pt x="10170" y="10120"/>
                </a:cubicBezTo>
                <a:cubicBezTo>
                  <a:pt x="10312" y="10132"/>
                  <a:pt x="10448" y="10145"/>
                  <a:pt x="10592" y="10145"/>
                </a:cubicBezTo>
                <a:cubicBezTo>
                  <a:pt x="10608" y="10145"/>
                  <a:pt x="10625" y="10145"/>
                  <a:pt x="10641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Ink 9"/>
          <p:cNvSpPr/>
          <p:nvPr/>
        </p:nvSpPr>
        <p:spPr>
          <a:xfrm>
            <a:off x="3679920" y="3776760"/>
            <a:ext cx="231840" cy="250560"/>
          </a:xfrm>
          <a:custGeom>
            <a:avLst/>
            <a:gdLst/>
            <a:ahLst/>
            <a:rect l="l" t="t" r="r" b="b"/>
            <a:pathLst>
              <a:path w="645" h="696">
                <a:moveTo>
                  <a:pt x="10244" y="10492"/>
                </a:moveTo>
                <a:cubicBezTo>
                  <a:pt x="10295" y="10512"/>
                  <a:pt x="10370" y="10492"/>
                  <a:pt x="10443" y="10492"/>
                </a:cubicBezTo>
                <a:cubicBezTo>
                  <a:pt x="10504" y="10492"/>
                  <a:pt x="10542" y="10492"/>
                  <a:pt x="10592" y="10517"/>
                </a:cubicBezTo>
                <a:cubicBezTo>
                  <a:pt x="10565" y="10637"/>
                  <a:pt x="10469" y="10708"/>
                  <a:pt x="10368" y="10790"/>
                </a:cubicBezTo>
                <a:cubicBezTo>
                  <a:pt x="10316" y="10833"/>
                  <a:pt x="10200" y="10878"/>
                  <a:pt x="10220" y="10964"/>
                </a:cubicBezTo>
                <a:cubicBezTo>
                  <a:pt x="10243" y="11066"/>
                  <a:pt x="10329" y="11100"/>
                  <a:pt x="10418" y="11137"/>
                </a:cubicBezTo>
                <a:cubicBezTo>
                  <a:pt x="10617" y="11220"/>
                  <a:pt x="10664" y="11177"/>
                  <a:pt x="10864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 able to locate the coordinates of any angle in degre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135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330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-45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Ink 4"/>
          <p:cNvSpPr/>
          <p:nvPr/>
        </p:nvSpPr>
        <p:spPr>
          <a:xfrm>
            <a:off x="2678040" y="2214720"/>
            <a:ext cx="814320" cy="733320"/>
          </a:xfrm>
          <a:custGeom>
            <a:avLst/>
            <a:gdLst/>
            <a:ahLst/>
            <a:rect l="l" t="t" r="r" b="b"/>
            <a:pathLst>
              <a:path w="2259" h="2035">
                <a:moveTo>
                  <a:pt x="7441" y="6747"/>
                </a:moveTo>
                <a:cubicBezTo>
                  <a:pt x="7623" y="6747"/>
                  <a:pt x="7805" y="6747"/>
                  <a:pt x="7987" y="6747"/>
                </a:cubicBezTo>
              </a:path>
              <a:path w="2259" h="2035">
                <a:moveTo>
                  <a:pt x="8582" y="6648"/>
                </a:moveTo>
                <a:cubicBezTo>
                  <a:pt x="8564" y="6823"/>
                  <a:pt x="8562" y="6929"/>
                  <a:pt x="8582" y="7094"/>
                </a:cubicBezTo>
                <a:cubicBezTo>
                  <a:pt x="8589" y="7155"/>
                  <a:pt x="8588" y="7326"/>
                  <a:pt x="8607" y="7268"/>
                </a:cubicBezTo>
                <a:cubicBezTo>
                  <a:pt x="8633" y="7191"/>
                  <a:pt x="8632" y="7104"/>
                  <a:pt x="8632" y="7020"/>
                </a:cubicBezTo>
                <a:cubicBezTo>
                  <a:pt x="8632" y="6884"/>
                  <a:pt x="8669" y="6756"/>
                  <a:pt x="8682" y="6623"/>
                </a:cubicBezTo>
                <a:cubicBezTo>
                  <a:pt x="8690" y="6544"/>
                  <a:pt x="8694" y="6413"/>
                  <a:pt x="8756" y="6350"/>
                </a:cubicBezTo>
                <a:cubicBezTo>
                  <a:pt x="8862" y="6243"/>
                  <a:pt x="8950" y="6229"/>
                  <a:pt x="9079" y="6201"/>
                </a:cubicBezTo>
                <a:cubicBezTo>
                  <a:pt x="9213" y="6172"/>
                  <a:pt x="9320" y="6166"/>
                  <a:pt x="9451" y="6176"/>
                </a:cubicBezTo>
                <a:cubicBezTo>
                  <a:pt x="9502" y="6176"/>
                  <a:pt x="9521" y="6177"/>
                  <a:pt x="9550" y="6201"/>
                </a:cubicBezTo>
              </a:path>
              <a:path w="2259" h="2035">
                <a:moveTo>
                  <a:pt x="9153" y="6400"/>
                </a:moveTo>
                <a:cubicBezTo>
                  <a:pt x="9251" y="6420"/>
                  <a:pt x="9334" y="6434"/>
                  <a:pt x="9426" y="6474"/>
                </a:cubicBezTo>
                <a:cubicBezTo>
                  <a:pt x="9510" y="6510"/>
                  <a:pt x="9523" y="6594"/>
                  <a:pt x="9475" y="6672"/>
                </a:cubicBezTo>
                <a:cubicBezTo>
                  <a:pt x="9417" y="6767"/>
                  <a:pt x="9293" y="6858"/>
                  <a:pt x="9203" y="6921"/>
                </a:cubicBezTo>
                <a:cubicBezTo>
                  <a:pt x="9152" y="6957"/>
                  <a:pt x="9101" y="6982"/>
                  <a:pt x="9054" y="7020"/>
                </a:cubicBezTo>
                <a:cubicBezTo>
                  <a:pt x="9100" y="7126"/>
                  <a:pt x="9206" y="7094"/>
                  <a:pt x="9327" y="7094"/>
                </a:cubicBezTo>
                <a:cubicBezTo>
                  <a:pt x="9451" y="7094"/>
                  <a:pt x="9575" y="7094"/>
                  <a:pt x="9699" y="7094"/>
                </a:cubicBezTo>
              </a:path>
              <a:path w="2259" h="2035">
                <a:moveTo>
                  <a:pt x="8682" y="7293"/>
                </a:moveTo>
                <a:cubicBezTo>
                  <a:pt x="8816" y="7293"/>
                  <a:pt x="8943" y="7315"/>
                  <a:pt x="9079" y="7317"/>
                </a:cubicBezTo>
                <a:cubicBezTo>
                  <a:pt x="9254" y="7320"/>
                  <a:pt x="9423" y="7342"/>
                  <a:pt x="9599" y="7342"/>
                </a:cubicBezTo>
              </a:path>
              <a:path w="2259" h="2035">
                <a:moveTo>
                  <a:pt x="8905" y="7491"/>
                </a:moveTo>
                <a:cubicBezTo>
                  <a:pt x="9026" y="7511"/>
                  <a:pt x="9214" y="7515"/>
                  <a:pt x="9302" y="7615"/>
                </a:cubicBezTo>
                <a:cubicBezTo>
                  <a:pt x="9385" y="7709"/>
                  <a:pt x="9270" y="7767"/>
                  <a:pt x="9203" y="7813"/>
                </a:cubicBezTo>
                <a:cubicBezTo>
                  <a:pt x="9092" y="7890"/>
                  <a:pt x="8998" y="7913"/>
                  <a:pt x="8905" y="8012"/>
                </a:cubicBezTo>
                <a:cubicBezTo>
                  <a:pt x="8877" y="8040"/>
                  <a:pt x="8868" y="8053"/>
                  <a:pt x="8880" y="8086"/>
                </a:cubicBezTo>
                <a:cubicBezTo>
                  <a:pt x="8941" y="8157"/>
                  <a:pt x="9051" y="8191"/>
                  <a:pt x="9153" y="8186"/>
                </a:cubicBezTo>
                <a:cubicBezTo>
                  <a:pt x="9310" y="8154"/>
                  <a:pt x="9385" y="8139"/>
                  <a:pt x="9500" y="81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Ink 5"/>
          <p:cNvSpPr/>
          <p:nvPr/>
        </p:nvSpPr>
        <p:spPr>
          <a:xfrm>
            <a:off x="3786120" y="2178000"/>
            <a:ext cx="857160" cy="930240"/>
          </a:xfrm>
          <a:custGeom>
            <a:avLst/>
            <a:gdLst/>
            <a:ahLst/>
            <a:rect l="l" t="t" r="r" b="b"/>
            <a:pathLst>
              <a:path w="2382" h="2581">
                <a:moveTo>
                  <a:pt x="10889" y="6896"/>
                </a:moveTo>
                <a:cubicBezTo>
                  <a:pt x="10941" y="7035"/>
                  <a:pt x="10974" y="7165"/>
                  <a:pt x="11038" y="7293"/>
                </a:cubicBezTo>
                <a:cubicBezTo>
                  <a:pt x="11038" y="7172"/>
                  <a:pt x="11027" y="7059"/>
                  <a:pt x="11013" y="6945"/>
                </a:cubicBezTo>
                <a:cubicBezTo>
                  <a:pt x="11002" y="6852"/>
                  <a:pt x="11009" y="6757"/>
                  <a:pt x="11038" y="6672"/>
                </a:cubicBezTo>
                <a:cubicBezTo>
                  <a:pt x="11079" y="6550"/>
                  <a:pt x="11177" y="6525"/>
                  <a:pt x="11286" y="6474"/>
                </a:cubicBezTo>
                <a:cubicBezTo>
                  <a:pt x="11449" y="6397"/>
                  <a:pt x="11604" y="6397"/>
                  <a:pt x="11782" y="6375"/>
                </a:cubicBezTo>
              </a:path>
              <a:path w="2382" h="2581">
                <a:moveTo>
                  <a:pt x="11410" y="6747"/>
                </a:moveTo>
                <a:cubicBezTo>
                  <a:pt x="11563" y="6747"/>
                  <a:pt x="11709" y="6756"/>
                  <a:pt x="11857" y="6772"/>
                </a:cubicBezTo>
                <a:cubicBezTo>
                  <a:pt x="11941" y="6781"/>
                  <a:pt x="12009" y="6825"/>
                  <a:pt x="11956" y="6921"/>
                </a:cubicBezTo>
                <a:cubicBezTo>
                  <a:pt x="11924" y="6979"/>
                  <a:pt x="11769" y="7092"/>
                  <a:pt x="11708" y="7119"/>
                </a:cubicBezTo>
                <a:cubicBezTo>
                  <a:pt x="11597" y="7168"/>
                  <a:pt x="11519" y="7169"/>
                  <a:pt x="11534" y="7293"/>
                </a:cubicBezTo>
                <a:cubicBezTo>
                  <a:pt x="11599" y="7330"/>
                  <a:pt x="11701" y="7351"/>
                  <a:pt x="11782" y="7342"/>
                </a:cubicBezTo>
                <a:cubicBezTo>
                  <a:pt x="11880" y="7332"/>
                  <a:pt x="11957" y="7317"/>
                  <a:pt x="12055" y="7317"/>
                </a:cubicBezTo>
              </a:path>
              <a:path w="2382" h="2581">
                <a:moveTo>
                  <a:pt x="11237" y="7417"/>
                </a:moveTo>
                <a:cubicBezTo>
                  <a:pt x="11409" y="7385"/>
                  <a:pt x="11558" y="7367"/>
                  <a:pt x="11733" y="7367"/>
                </a:cubicBezTo>
                <a:cubicBezTo>
                  <a:pt x="11815" y="7367"/>
                  <a:pt x="11848" y="7367"/>
                  <a:pt x="11906" y="7367"/>
                </a:cubicBezTo>
              </a:path>
              <a:path w="2382" h="2581">
                <a:moveTo>
                  <a:pt x="11385" y="7689"/>
                </a:moveTo>
                <a:cubicBezTo>
                  <a:pt x="11498" y="7701"/>
                  <a:pt x="11838" y="7678"/>
                  <a:pt x="11931" y="7764"/>
                </a:cubicBezTo>
                <a:cubicBezTo>
                  <a:pt x="11931" y="7780"/>
                  <a:pt x="11931" y="7797"/>
                  <a:pt x="11931" y="7813"/>
                </a:cubicBezTo>
              </a:path>
              <a:path w="2382" h="2581">
                <a:moveTo>
                  <a:pt x="11881" y="7888"/>
                </a:moveTo>
                <a:cubicBezTo>
                  <a:pt x="11772" y="7969"/>
                  <a:pt x="11505" y="8097"/>
                  <a:pt x="11410" y="8210"/>
                </a:cubicBezTo>
                <a:cubicBezTo>
                  <a:pt x="11402" y="8227"/>
                  <a:pt x="11393" y="8243"/>
                  <a:pt x="11385" y="8260"/>
                </a:cubicBezTo>
                <a:cubicBezTo>
                  <a:pt x="11442" y="8339"/>
                  <a:pt x="11511" y="8356"/>
                  <a:pt x="11609" y="8384"/>
                </a:cubicBezTo>
                <a:cubicBezTo>
                  <a:pt x="11754" y="8425"/>
                  <a:pt x="11813" y="8363"/>
                  <a:pt x="11931" y="8285"/>
                </a:cubicBezTo>
              </a:path>
              <a:path w="2382" h="2581">
                <a:moveTo>
                  <a:pt x="10616" y="7417"/>
                </a:moveTo>
                <a:cubicBezTo>
                  <a:pt x="10566" y="7589"/>
                  <a:pt x="10528" y="7696"/>
                  <a:pt x="10517" y="7863"/>
                </a:cubicBezTo>
              </a:path>
              <a:path w="2382" h="2581">
                <a:moveTo>
                  <a:pt x="12452" y="6052"/>
                </a:moveTo>
                <a:cubicBezTo>
                  <a:pt x="12624" y="6307"/>
                  <a:pt x="12747" y="6544"/>
                  <a:pt x="12824" y="6846"/>
                </a:cubicBezTo>
                <a:cubicBezTo>
                  <a:pt x="12872" y="7084"/>
                  <a:pt x="12889" y="7157"/>
                  <a:pt x="12874" y="7317"/>
                </a:cubicBezTo>
              </a:path>
              <a:path w="2382" h="2581">
                <a:moveTo>
                  <a:pt x="12898" y="7913"/>
                </a:moveTo>
                <a:cubicBezTo>
                  <a:pt x="12868" y="8201"/>
                  <a:pt x="12883" y="8344"/>
                  <a:pt x="12700" y="8558"/>
                </a:cubicBezTo>
                <a:cubicBezTo>
                  <a:pt x="12675" y="8583"/>
                  <a:pt x="12651" y="8607"/>
                  <a:pt x="12626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Ink 6"/>
          <p:cNvSpPr/>
          <p:nvPr/>
        </p:nvSpPr>
        <p:spPr>
          <a:xfrm>
            <a:off x="2419200" y="4510080"/>
            <a:ext cx="179640" cy="776160"/>
          </a:xfrm>
          <a:custGeom>
            <a:avLst/>
            <a:gdLst/>
            <a:ahLst/>
            <a:rect l="l" t="t" r="r" b="b"/>
            <a:pathLst>
              <a:path w="497" h="2159">
                <a:moveTo>
                  <a:pt x="6995" y="12526"/>
                </a:moveTo>
                <a:cubicBezTo>
                  <a:pt x="6874" y="12657"/>
                  <a:pt x="6817" y="12727"/>
                  <a:pt x="6772" y="12898"/>
                </a:cubicBezTo>
                <a:cubicBezTo>
                  <a:pt x="6709" y="13141"/>
                  <a:pt x="6718" y="13369"/>
                  <a:pt x="6747" y="13618"/>
                </a:cubicBezTo>
                <a:cubicBezTo>
                  <a:pt x="6774" y="13852"/>
                  <a:pt x="6877" y="14132"/>
                  <a:pt x="6995" y="14337"/>
                </a:cubicBezTo>
                <a:cubicBezTo>
                  <a:pt x="7116" y="14507"/>
                  <a:pt x="7155" y="14561"/>
                  <a:pt x="7218" y="146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Ink 7"/>
          <p:cNvSpPr/>
          <p:nvPr/>
        </p:nvSpPr>
        <p:spPr>
          <a:xfrm>
            <a:off x="3330720" y="3527280"/>
            <a:ext cx="785520" cy="928800"/>
          </a:xfrm>
          <a:custGeom>
            <a:avLst/>
            <a:gdLst/>
            <a:ahLst/>
            <a:rect l="l" t="t" r="r" b="b"/>
            <a:pathLst>
              <a:path w="2184" h="2581">
                <a:moveTo>
                  <a:pt x="9302" y="10914"/>
                </a:moveTo>
                <a:cubicBezTo>
                  <a:pt x="9282" y="11037"/>
                  <a:pt x="9214" y="11220"/>
                  <a:pt x="9302" y="11336"/>
                </a:cubicBezTo>
                <a:cubicBezTo>
                  <a:pt x="9310" y="11336"/>
                  <a:pt x="9319" y="11336"/>
                  <a:pt x="9327" y="11336"/>
                </a:cubicBezTo>
              </a:path>
              <a:path w="2184" h="2581">
                <a:moveTo>
                  <a:pt x="9748" y="10418"/>
                </a:moveTo>
                <a:cubicBezTo>
                  <a:pt x="9847" y="10426"/>
                  <a:pt x="9947" y="10435"/>
                  <a:pt x="10046" y="10443"/>
                </a:cubicBezTo>
              </a:path>
              <a:path w="2184" h="2581">
                <a:moveTo>
                  <a:pt x="10393" y="9798"/>
                </a:moveTo>
                <a:cubicBezTo>
                  <a:pt x="10393" y="10063"/>
                  <a:pt x="10393" y="10327"/>
                  <a:pt x="10393" y="10592"/>
                </a:cubicBezTo>
              </a:path>
              <a:path w="2184" h="2581">
                <a:moveTo>
                  <a:pt x="10220" y="10790"/>
                </a:moveTo>
                <a:cubicBezTo>
                  <a:pt x="10336" y="10790"/>
                  <a:pt x="10451" y="10790"/>
                  <a:pt x="10567" y="10790"/>
                </a:cubicBezTo>
              </a:path>
              <a:path w="2184" h="2581">
                <a:moveTo>
                  <a:pt x="10319" y="11063"/>
                </a:moveTo>
                <a:cubicBezTo>
                  <a:pt x="10431" y="11063"/>
                  <a:pt x="10566" y="11034"/>
                  <a:pt x="10666" y="11088"/>
                </a:cubicBezTo>
                <a:cubicBezTo>
                  <a:pt x="10735" y="11134"/>
                  <a:pt x="10755" y="11146"/>
                  <a:pt x="10790" y="11187"/>
                </a:cubicBezTo>
                <a:cubicBezTo>
                  <a:pt x="10698" y="11335"/>
                  <a:pt x="10598" y="11370"/>
                  <a:pt x="10468" y="11460"/>
                </a:cubicBezTo>
                <a:cubicBezTo>
                  <a:pt x="10392" y="11513"/>
                  <a:pt x="10296" y="11587"/>
                  <a:pt x="10244" y="11658"/>
                </a:cubicBezTo>
                <a:cubicBezTo>
                  <a:pt x="10349" y="11783"/>
                  <a:pt x="10405" y="11783"/>
                  <a:pt x="10567" y="11857"/>
                </a:cubicBezTo>
                <a:cubicBezTo>
                  <a:pt x="10743" y="11937"/>
                  <a:pt x="10870" y="11956"/>
                  <a:pt x="11063" y="11956"/>
                </a:cubicBezTo>
              </a:path>
              <a:path w="2184" h="2581">
                <a:moveTo>
                  <a:pt x="11286" y="9847"/>
                </a:moveTo>
                <a:cubicBezTo>
                  <a:pt x="11408" y="10197"/>
                  <a:pt x="11480" y="10510"/>
                  <a:pt x="11435" y="10889"/>
                </a:cubicBezTo>
                <a:cubicBezTo>
                  <a:pt x="11396" y="11218"/>
                  <a:pt x="11321" y="11569"/>
                  <a:pt x="11212" y="11881"/>
                </a:cubicBezTo>
                <a:cubicBezTo>
                  <a:pt x="11135" y="12103"/>
                  <a:pt x="11022" y="12246"/>
                  <a:pt x="10840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Ink 8"/>
          <p:cNvSpPr/>
          <p:nvPr/>
        </p:nvSpPr>
        <p:spPr>
          <a:xfrm>
            <a:off x="2419200" y="2044800"/>
            <a:ext cx="733680" cy="3340080"/>
          </a:xfrm>
          <a:custGeom>
            <a:avLst/>
            <a:gdLst/>
            <a:ahLst/>
            <a:rect l="l" t="t" r="r" b="b"/>
            <a:pathLst>
              <a:path w="2035" h="9278">
                <a:moveTo>
                  <a:pt x="8136" y="5680"/>
                </a:moveTo>
                <a:cubicBezTo>
                  <a:pt x="7805" y="6077"/>
                  <a:pt x="7532" y="6334"/>
                  <a:pt x="7392" y="6821"/>
                </a:cubicBezTo>
                <a:cubicBezTo>
                  <a:pt x="7313" y="7097"/>
                  <a:pt x="7246" y="7403"/>
                  <a:pt x="7317" y="7689"/>
                </a:cubicBezTo>
                <a:cubicBezTo>
                  <a:pt x="7392" y="7994"/>
                  <a:pt x="7550" y="8246"/>
                  <a:pt x="7714" y="8508"/>
                </a:cubicBezTo>
              </a:path>
              <a:path w="2035" h="9278">
                <a:moveTo>
                  <a:pt x="7367" y="9178"/>
                </a:moveTo>
                <a:cubicBezTo>
                  <a:pt x="7305" y="9289"/>
                  <a:pt x="7223" y="9376"/>
                  <a:pt x="7144" y="9475"/>
                </a:cubicBezTo>
                <a:cubicBezTo>
                  <a:pt x="7012" y="9641"/>
                  <a:pt x="6948" y="9824"/>
                  <a:pt x="6871" y="10021"/>
                </a:cubicBezTo>
                <a:cubicBezTo>
                  <a:pt x="6788" y="10233"/>
                  <a:pt x="6779" y="10466"/>
                  <a:pt x="6747" y="10691"/>
                </a:cubicBezTo>
                <a:cubicBezTo>
                  <a:pt x="6704" y="10987"/>
                  <a:pt x="6749" y="11325"/>
                  <a:pt x="6846" y="11609"/>
                </a:cubicBezTo>
                <a:cubicBezTo>
                  <a:pt x="6905" y="11782"/>
                  <a:pt x="7019" y="11900"/>
                  <a:pt x="7144" y="12005"/>
                </a:cubicBezTo>
                <a:cubicBezTo>
                  <a:pt x="7160" y="12022"/>
                  <a:pt x="7177" y="12038"/>
                  <a:pt x="7193" y="12055"/>
                </a:cubicBezTo>
              </a:path>
              <a:path w="2035" h="9278">
                <a:moveTo>
                  <a:pt x="7838" y="9996"/>
                </a:moveTo>
                <a:cubicBezTo>
                  <a:pt x="7831" y="10142"/>
                  <a:pt x="7797" y="10362"/>
                  <a:pt x="7838" y="10517"/>
                </a:cubicBezTo>
                <a:cubicBezTo>
                  <a:pt x="7862" y="10565"/>
                  <a:pt x="7870" y="10579"/>
                  <a:pt x="7863" y="10616"/>
                </a:cubicBezTo>
                <a:cubicBezTo>
                  <a:pt x="7824" y="10566"/>
                  <a:pt x="7809" y="10522"/>
                  <a:pt x="7789" y="10443"/>
                </a:cubicBezTo>
                <a:cubicBezTo>
                  <a:pt x="7760" y="10327"/>
                  <a:pt x="7695" y="10147"/>
                  <a:pt x="7714" y="10021"/>
                </a:cubicBezTo>
                <a:cubicBezTo>
                  <a:pt x="7728" y="9924"/>
                  <a:pt x="7792" y="9810"/>
                  <a:pt x="7863" y="9748"/>
                </a:cubicBezTo>
                <a:cubicBezTo>
                  <a:pt x="7943" y="9678"/>
                  <a:pt x="8108" y="9614"/>
                  <a:pt x="8210" y="9599"/>
                </a:cubicBezTo>
                <a:cubicBezTo>
                  <a:pt x="8305" y="9585"/>
                  <a:pt x="8386" y="9592"/>
                  <a:pt x="8483" y="9575"/>
                </a:cubicBezTo>
              </a:path>
              <a:path w="2035" h="9278">
                <a:moveTo>
                  <a:pt x="8186" y="9773"/>
                </a:moveTo>
                <a:cubicBezTo>
                  <a:pt x="8283" y="9835"/>
                  <a:pt x="8328" y="9847"/>
                  <a:pt x="8434" y="9872"/>
                </a:cubicBezTo>
                <a:cubicBezTo>
                  <a:pt x="8503" y="9888"/>
                  <a:pt x="8636" y="9923"/>
                  <a:pt x="8558" y="10021"/>
                </a:cubicBezTo>
                <a:cubicBezTo>
                  <a:pt x="8519" y="10069"/>
                  <a:pt x="8389" y="10099"/>
                  <a:pt x="8334" y="10120"/>
                </a:cubicBezTo>
                <a:cubicBezTo>
                  <a:pt x="8267" y="10143"/>
                  <a:pt x="8249" y="10148"/>
                  <a:pt x="8210" y="10170"/>
                </a:cubicBezTo>
                <a:cubicBezTo>
                  <a:pt x="8297" y="10228"/>
                  <a:pt x="8382" y="10217"/>
                  <a:pt x="8483" y="10244"/>
                </a:cubicBezTo>
                <a:cubicBezTo>
                  <a:pt x="8580" y="10270"/>
                  <a:pt x="8671" y="10317"/>
                  <a:pt x="8682" y="10418"/>
                </a:cubicBezTo>
                <a:cubicBezTo>
                  <a:pt x="8691" y="10496"/>
                  <a:pt x="8594" y="10511"/>
                  <a:pt x="8533" y="10542"/>
                </a:cubicBezTo>
                <a:cubicBezTo>
                  <a:pt x="8418" y="10600"/>
                  <a:pt x="8336" y="10592"/>
                  <a:pt x="8210" y="10592"/>
                </a:cubicBezTo>
              </a:path>
              <a:path w="2035" h="9278">
                <a:moveTo>
                  <a:pt x="7863" y="10666"/>
                </a:moveTo>
                <a:cubicBezTo>
                  <a:pt x="8081" y="10666"/>
                  <a:pt x="8291" y="10686"/>
                  <a:pt x="8508" y="10691"/>
                </a:cubicBezTo>
                <a:cubicBezTo>
                  <a:pt x="8615" y="10691"/>
                  <a:pt x="8657" y="10691"/>
                  <a:pt x="8731" y="10691"/>
                </a:cubicBezTo>
              </a:path>
              <a:path w="2035" h="9278">
                <a:moveTo>
                  <a:pt x="8210" y="11038"/>
                </a:moveTo>
                <a:cubicBezTo>
                  <a:pt x="8330" y="11045"/>
                  <a:pt x="8471" y="11040"/>
                  <a:pt x="8558" y="11137"/>
                </a:cubicBezTo>
                <a:cubicBezTo>
                  <a:pt x="8626" y="11213"/>
                  <a:pt x="8592" y="11326"/>
                  <a:pt x="8508" y="11385"/>
                </a:cubicBezTo>
                <a:cubicBezTo>
                  <a:pt x="8390" y="11468"/>
                  <a:pt x="8269" y="11532"/>
                  <a:pt x="8161" y="11633"/>
                </a:cubicBezTo>
                <a:cubicBezTo>
                  <a:pt x="8099" y="11691"/>
                  <a:pt x="8111" y="11742"/>
                  <a:pt x="8161" y="11807"/>
                </a:cubicBezTo>
                <a:cubicBezTo>
                  <a:pt x="8240" y="11910"/>
                  <a:pt x="8411" y="11945"/>
                  <a:pt x="8533" y="11956"/>
                </a:cubicBezTo>
                <a:cubicBezTo>
                  <a:pt x="8653" y="11956"/>
                  <a:pt x="8690" y="11958"/>
                  <a:pt x="8756" y="11906"/>
                </a:cubicBezTo>
              </a:path>
              <a:path w="2035" h="9278">
                <a:moveTo>
                  <a:pt x="7590" y="12874"/>
                </a:moveTo>
                <a:cubicBezTo>
                  <a:pt x="7590" y="12970"/>
                  <a:pt x="7611" y="13053"/>
                  <a:pt x="7615" y="13146"/>
                </a:cubicBezTo>
                <a:cubicBezTo>
                  <a:pt x="7620" y="13277"/>
                  <a:pt x="7612" y="13292"/>
                  <a:pt x="7590" y="13419"/>
                </a:cubicBezTo>
                <a:cubicBezTo>
                  <a:pt x="7590" y="13436"/>
                  <a:pt x="7590" y="13452"/>
                  <a:pt x="7590" y="13469"/>
                </a:cubicBezTo>
                <a:cubicBezTo>
                  <a:pt x="7561" y="13401"/>
                  <a:pt x="7565" y="13327"/>
                  <a:pt x="7565" y="13246"/>
                </a:cubicBezTo>
                <a:cubicBezTo>
                  <a:pt x="7565" y="13125"/>
                  <a:pt x="7576" y="13012"/>
                  <a:pt x="7590" y="12898"/>
                </a:cubicBezTo>
                <a:cubicBezTo>
                  <a:pt x="7603" y="12790"/>
                  <a:pt x="7585" y="12679"/>
                  <a:pt x="7615" y="12576"/>
                </a:cubicBezTo>
                <a:cubicBezTo>
                  <a:pt x="7623" y="12547"/>
                  <a:pt x="7681" y="12462"/>
                  <a:pt x="7714" y="12452"/>
                </a:cubicBezTo>
                <a:cubicBezTo>
                  <a:pt x="7781" y="12433"/>
                  <a:pt x="7878" y="12452"/>
                  <a:pt x="7938" y="12477"/>
                </a:cubicBezTo>
                <a:cubicBezTo>
                  <a:pt x="7991" y="12500"/>
                  <a:pt x="8042" y="12540"/>
                  <a:pt x="8086" y="12576"/>
                </a:cubicBezTo>
              </a:path>
              <a:path w="2035" h="9278">
                <a:moveTo>
                  <a:pt x="7863" y="12725"/>
                </a:moveTo>
                <a:cubicBezTo>
                  <a:pt x="7918" y="12794"/>
                  <a:pt x="7934" y="12819"/>
                  <a:pt x="8012" y="12849"/>
                </a:cubicBezTo>
                <a:cubicBezTo>
                  <a:pt x="8090" y="12879"/>
                  <a:pt x="8178" y="12888"/>
                  <a:pt x="8260" y="12898"/>
                </a:cubicBezTo>
                <a:cubicBezTo>
                  <a:pt x="8248" y="12995"/>
                  <a:pt x="8206" y="13028"/>
                  <a:pt x="8136" y="13097"/>
                </a:cubicBezTo>
                <a:cubicBezTo>
                  <a:pt x="8067" y="13165"/>
                  <a:pt x="7973" y="13225"/>
                  <a:pt x="7888" y="13271"/>
                </a:cubicBezTo>
                <a:cubicBezTo>
                  <a:pt x="7808" y="13315"/>
                  <a:pt x="7762" y="13313"/>
                  <a:pt x="7739" y="13395"/>
                </a:cubicBezTo>
                <a:cubicBezTo>
                  <a:pt x="7790" y="13455"/>
                  <a:pt x="7872" y="13459"/>
                  <a:pt x="7962" y="13469"/>
                </a:cubicBezTo>
                <a:cubicBezTo>
                  <a:pt x="8055" y="13479"/>
                  <a:pt x="8140" y="13494"/>
                  <a:pt x="8235" y="13494"/>
                </a:cubicBezTo>
              </a:path>
              <a:path w="2035" h="9278">
                <a:moveTo>
                  <a:pt x="8409" y="13618"/>
                </a:moveTo>
                <a:cubicBezTo>
                  <a:pt x="8290" y="13655"/>
                  <a:pt x="8184" y="13687"/>
                  <a:pt x="8062" y="13692"/>
                </a:cubicBezTo>
                <a:cubicBezTo>
                  <a:pt x="7977" y="13695"/>
                  <a:pt x="7868" y="13690"/>
                  <a:pt x="7789" y="13717"/>
                </a:cubicBezTo>
                <a:cubicBezTo>
                  <a:pt x="7721" y="13740"/>
                  <a:pt x="7619" y="13766"/>
                  <a:pt x="7565" y="13816"/>
                </a:cubicBezTo>
                <a:cubicBezTo>
                  <a:pt x="7543" y="13839"/>
                  <a:pt x="7538" y="13847"/>
                  <a:pt x="7516" y="13841"/>
                </a:cubicBezTo>
              </a:path>
              <a:path w="2035" h="9278">
                <a:moveTo>
                  <a:pt x="7764" y="13866"/>
                </a:moveTo>
                <a:cubicBezTo>
                  <a:pt x="7960" y="13918"/>
                  <a:pt x="8025" y="13944"/>
                  <a:pt x="8186" y="14039"/>
                </a:cubicBezTo>
                <a:cubicBezTo>
                  <a:pt x="8261" y="14083"/>
                  <a:pt x="8294" y="14125"/>
                  <a:pt x="8235" y="14213"/>
                </a:cubicBezTo>
                <a:cubicBezTo>
                  <a:pt x="8174" y="14304"/>
                  <a:pt x="8136" y="14375"/>
                  <a:pt x="8037" y="14436"/>
                </a:cubicBezTo>
                <a:cubicBezTo>
                  <a:pt x="7954" y="14487"/>
                  <a:pt x="7885" y="14581"/>
                  <a:pt x="7789" y="14610"/>
                </a:cubicBezTo>
                <a:cubicBezTo>
                  <a:pt x="7772" y="14610"/>
                  <a:pt x="7756" y="14610"/>
                  <a:pt x="7739" y="14610"/>
                </a:cubicBezTo>
                <a:cubicBezTo>
                  <a:pt x="7782" y="14535"/>
                  <a:pt x="7841" y="14493"/>
                  <a:pt x="7938" y="14560"/>
                </a:cubicBezTo>
                <a:cubicBezTo>
                  <a:pt x="8013" y="14612"/>
                  <a:pt x="8093" y="14683"/>
                  <a:pt x="8161" y="14759"/>
                </a:cubicBezTo>
                <a:cubicBezTo>
                  <a:pt x="8242" y="14848"/>
                  <a:pt x="8307" y="14944"/>
                  <a:pt x="8409" y="14932"/>
                </a:cubicBezTo>
                <a:cubicBezTo>
                  <a:pt x="8425" y="14932"/>
                  <a:pt x="8442" y="14932"/>
                  <a:pt x="8458" y="149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Ink 9"/>
          <p:cNvSpPr/>
          <p:nvPr/>
        </p:nvSpPr>
        <p:spPr>
          <a:xfrm>
            <a:off x="4017960" y="4562640"/>
            <a:ext cx="125280" cy="750600"/>
          </a:xfrm>
          <a:custGeom>
            <a:avLst/>
            <a:gdLst/>
            <a:ahLst/>
            <a:rect l="l" t="t" r="r" b="b"/>
            <a:pathLst>
              <a:path w="348" h="2085">
                <a:moveTo>
                  <a:pt x="11162" y="12675"/>
                </a:moveTo>
                <a:cubicBezTo>
                  <a:pt x="11272" y="12755"/>
                  <a:pt x="11352" y="12811"/>
                  <a:pt x="11385" y="12948"/>
                </a:cubicBezTo>
                <a:cubicBezTo>
                  <a:pt x="11455" y="13237"/>
                  <a:pt x="11495" y="13516"/>
                  <a:pt x="11509" y="13816"/>
                </a:cubicBezTo>
                <a:cubicBezTo>
                  <a:pt x="11519" y="14043"/>
                  <a:pt x="11462" y="14244"/>
                  <a:pt x="11410" y="14461"/>
                </a:cubicBezTo>
                <a:cubicBezTo>
                  <a:pt x="11381" y="14583"/>
                  <a:pt x="11345" y="14649"/>
                  <a:pt x="11286" y="147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Ink 10"/>
          <p:cNvSpPr/>
          <p:nvPr/>
        </p:nvSpPr>
        <p:spPr>
          <a:xfrm>
            <a:off x="3268800" y="5330880"/>
            <a:ext cx="88920" cy="403200"/>
          </a:xfrm>
          <a:custGeom>
            <a:avLst/>
            <a:gdLst/>
            <a:ahLst/>
            <a:rect l="l" t="t" r="r" b="b"/>
            <a:pathLst>
              <a:path w="249" h="1118">
                <a:moveTo>
                  <a:pt x="9327" y="14808"/>
                </a:moveTo>
                <a:cubicBezTo>
                  <a:pt x="9282" y="14912"/>
                  <a:pt x="9250" y="15058"/>
                  <a:pt x="9227" y="15180"/>
                </a:cubicBezTo>
                <a:cubicBezTo>
                  <a:pt x="9180" y="15429"/>
                  <a:pt x="9120" y="15674"/>
                  <a:pt x="9079" y="159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Ink 11"/>
          <p:cNvSpPr/>
          <p:nvPr/>
        </p:nvSpPr>
        <p:spPr>
          <a:xfrm>
            <a:off x="3268800" y="4884840"/>
            <a:ext cx="133200" cy="270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9079" y="13568"/>
                </a:moveTo>
                <a:cubicBezTo>
                  <a:pt x="9157" y="13590"/>
                  <a:pt x="9250" y="13633"/>
                  <a:pt x="9327" y="13643"/>
                </a:cubicBezTo>
                <a:cubicBezTo>
                  <a:pt x="9393" y="13643"/>
                  <a:pt x="9410" y="13643"/>
                  <a:pt x="9451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Ink 12"/>
          <p:cNvSpPr/>
          <p:nvPr/>
        </p:nvSpPr>
        <p:spPr>
          <a:xfrm>
            <a:off x="3490920" y="4589640"/>
            <a:ext cx="189000" cy="403200"/>
          </a:xfrm>
          <a:custGeom>
            <a:avLst/>
            <a:gdLst/>
            <a:ahLst/>
            <a:rect l="l" t="t" r="r" b="b"/>
            <a:pathLst>
              <a:path w="522" h="1117">
                <a:moveTo>
                  <a:pt x="9723" y="13271"/>
                </a:moveTo>
                <a:cubicBezTo>
                  <a:pt x="9723" y="13358"/>
                  <a:pt x="9702" y="13434"/>
                  <a:pt x="9699" y="13519"/>
                </a:cubicBezTo>
                <a:cubicBezTo>
                  <a:pt x="9695" y="13634"/>
                  <a:pt x="9699" y="13751"/>
                  <a:pt x="9699" y="13866"/>
                </a:cubicBezTo>
                <a:cubicBezTo>
                  <a:pt x="9724" y="13763"/>
                  <a:pt x="9744" y="13673"/>
                  <a:pt x="9748" y="13568"/>
                </a:cubicBezTo>
                <a:cubicBezTo>
                  <a:pt x="9754" y="13391"/>
                  <a:pt x="9735" y="13218"/>
                  <a:pt x="9773" y="13047"/>
                </a:cubicBezTo>
                <a:cubicBezTo>
                  <a:pt x="9789" y="12977"/>
                  <a:pt x="9803" y="12855"/>
                  <a:pt x="9847" y="12799"/>
                </a:cubicBezTo>
                <a:cubicBezTo>
                  <a:pt x="9893" y="12741"/>
                  <a:pt x="9975" y="12730"/>
                  <a:pt x="10046" y="12750"/>
                </a:cubicBezTo>
                <a:cubicBezTo>
                  <a:pt x="10097" y="12764"/>
                  <a:pt x="10160" y="12784"/>
                  <a:pt x="10220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Ink 13"/>
          <p:cNvSpPr/>
          <p:nvPr/>
        </p:nvSpPr>
        <p:spPr>
          <a:xfrm>
            <a:off x="3616200" y="4741920"/>
            <a:ext cx="152640" cy="303120"/>
          </a:xfrm>
          <a:custGeom>
            <a:avLst/>
            <a:gdLst/>
            <a:ahLst/>
            <a:rect l="l" t="t" r="r" b="b"/>
            <a:pathLst>
              <a:path w="423" h="845">
                <a:moveTo>
                  <a:pt x="10071" y="13171"/>
                </a:moveTo>
                <a:cubicBezTo>
                  <a:pt x="10051" y="13232"/>
                  <a:pt x="10032" y="13247"/>
                  <a:pt x="10071" y="13271"/>
                </a:cubicBezTo>
                <a:cubicBezTo>
                  <a:pt x="10119" y="13239"/>
                  <a:pt x="10194" y="13206"/>
                  <a:pt x="10244" y="13196"/>
                </a:cubicBezTo>
                <a:cubicBezTo>
                  <a:pt x="10292" y="13186"/>
                  <a:pt x="10415" y="13197"/>
                  <a:pt x="10443" y="13246"/>
                </a:cubicBezTo>
                <a:cubicBezTo>
                  <a:pt x="10467" y="13288"/>
                  <a:pt x="10478" y="13392"/>
                  <a:pt x="10468" y="13444"/>
                </a:cubicBezTo>
                <a:cubicBezTo>
                  <a:pt x="10437" y="13603"/>
                  <a:pt x="10318" y="13704"/>
                  <a:pt x="10220" y="13816"/>
                </a:cubicBezTo>
                <a:cubicBezTo>
                  <a:pt x="10174" y="13869"/>
                  <a:pt x="10110" y="13883"/>
                  <a:pt x="10046" y="13891"/>
                </a:cubicBezTo>
                <a:cubicBezTo>
                  <a:pt x="10057" y="13803"/>
                  <a:pt x="10062" y="13771"/>
                  <a:pt x="10145" y="13816"/>
                </a:cubicBezTo>
                <a:cubicBezTo>
                  <a:pt x="10219" y="13856"/>
                  <a:pt x="10239" y="13882"/>
                  <a:pt x="10294" y="13940"/>
                </a:cubicBezTo>
                <a:cubicBezTo>
                  <a:pt x="10346" y="13992"/>
                  <a:pt x="10365" y="14009"/>
                  <a:pt x="10418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Ink 14"/>
          <p:cNvSpPr/>
          <p:nvPr/>
        </p:nvSpPr>
        <p:spPr>
          <a:xfrm>
            <a:off x="3411360" y="5000760"/>
            <a:ext cx="463680" cy="187200"/>
          </a:xfrm>
          <a:custGeom>
            <a:avLst/>
            <a:gdLst/>
            <a:ahLst/>
            <a:rect l="l" t="t" r="r" b="b"/>
            <a:pathLst>
              <a:path w="1291" h="522">
                <a:moveTo>
                  <a:pt x="10765" y="13891"/>
                </a:moveTo>
                <a:cubicBezTo>
                  <a:pt x="10710" y="13918"/>
                  <a:pt x="10633" y="13944"/>
                  <a:pt x="10567" y="13965"/>
                </a:cubicBezTo>
                <a:cubicBezTo>
                  <a:pt x="10442" y="14006"/>
                  <a:pt x="10320" y="14036"/>
                  <a:pt x="10195" y="14064"/>
                </a:cubicBezTo>
                <a:cubicBezTo>
                  <a:pt x="10073" y="14091"/>
                  <a:pt x="9984" y="14164"/>
                  <a:pt x="9872" y="14213"/>
                </a:cubicBezTo>
                <a:cubicBezTo>
                  <a:pt x="9773" y="14256"/>
                  <a:pt x="9674" y="14296"/>
                  <a:pt x="9575" y="14337"/>
                </a:cubicBezTo>
                <a:cubicBezTo>
                  <a:pt x="9507" y="14360"/>
                  <a:pt x="9486" y="14361"/>
                  <a:pt x="9475" y="144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Ink 15"/>
          <p:cNvSpPr/>
          <p:nvPr/>
        </p:nvSpPr>
        <p:spPr>
          <a:xfrm>
            <a:off x="3616200" y="5153040"/>
            <a:ext cx="312840" cy="411120"/>
          </a:xfrm>
          <a:custGeom>
            <a:avLst/>
            <a:gdLst/>
            <a:ahLst/>
            <a:rect l="l" t="t" r="r" b="b"/>
            <a:pathLst>
              <a:path w="869" h="1142">
                <a:moveTo>
                  <a:pt x="10096" y="14312"/>
                </a:moveTo>
                <a:cubicBezTo>
                  <a:pt x="10221" y="14359"/>
                  <a:pt x="10415" y="14396"/>
                  <a:pt x="10492" y="14511"/>
                </a:cubicBezTo>
                <a:cubicBezTo>
                  <a:pt x="10546" y="14592"/>
                  <a:pt x="10567" y="14643"/>
                  <a:pt x="10542" y="14734"/>
                </a:cubicBezTo>
                <a:cubicBezTo>
                  <a:pt x="10515" y="14833"/>
                  <a:pt x="10433" y="14952"/>
                  <a:pt x="10344" y="15007"/>
                </a:cubicBezTo>
                <a:cubicBezTo>
                  <a:pt x="10289" y="15041"/>
                  <a:pt x="10122" y="15156"/>
                  <a:pt x="10071" y="15156"/>
                </a:cubicBezTo>
                <a:cubicBezTo>
                  <a:pt x="10063" y="15148"/>
                  <a:pt x="10054" y="15139"/>
                  <a:pt x="10046" y="15131"/>
                </a:cubicBezTo>
                <a:cubicBezTo>
                  <a:pt x="10092" y="15039"/>
                  <a:pt x="10134" y="15048"/>
                  <a:pt x="10195" y="14982"/>
                </a:cubicBezTo>
                <a:cubicBezTo>
                  <a:pt x="10267" y="14904"/>
                  <a:pt x="10316" y="14928"/>
                  <a:pt x="10418" y="15007"/>
                </a:cubicBezTo>
                <a:cubicBezTo>
                  <a:pt x="10498" y="15069"/>
                  <a:pt x="10561" y="15172"/>
                  <a:pt x="10616" y="15255"/>
                </a:cubicBezTo>
                <a:cubicBezTo>
                  <a:pt x="10680" y="15353"/>
                  <a:pt x="10688" y="15427"/>
                  <a:pt x="10815" y="15453"/>
                </a:cubicBezTo>
                <a:cubicBezTo>
                  <a:pt x="10871" y="15453"/>
                  <a:pt x="10892" y="15448"/>
                  <a:pt x="10914" y="154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5:21:39Z</dcterms:created>
  <dc:creator>jnewman</dc:creator>
  <dc:description/>
  <dc:language>en-US</dc:language>
  <cp:lastModifiedBy>abeason</cp:lastModifiedBy>
  <dcterms:modified xsi:type="dcterms:W3CDTF">2009-09-21T13:52:08Z</dcterms:modified>
  <cp:revision>20</cp:revision>
  <dc:subject/>
  <dc:title>Tuesday, September 25th</dc:title>
</cp:coreProperties>
</file>